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4A4-868A-4CDA-A61A-C5A34F9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671-30E6-43D0-8989-8EEAD71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AD5-510B-41A8-A277-FD6C72F3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F08-5789-49BF-8CBB-AF67B1A0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2BE-BFDC-4778-9CD7-6884328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2D9-9322-4A6B-9912-068A3AA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426-A437-4E18-BD9D-0050D44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4DF-7DD8-4BF1-A8C4-9A94C9AB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017-A77C-48A1-9541-D414A64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B2E-C4C8-4F28-AAA2-987E7DC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D5B-A6E4-434E-BB72-83160DC2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61A-44CE-465B-B26F-D71ED02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23D9DE43-3AE8-4444-A7A2-9EBC11E3AFD4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kutu.jpg"/>
          <p:cNvPicPr/>
          <p:nvPr/>
        </p:nvPicPr>
        <p:blipFill>
          <a:blip r:embed="rId1"/>
          <a:stretch/>
        </p:blipFill>
        <p:spPr>
          <a:xfrm>
            <a:off x="1440" y="0"/>
            <a:ext cx="4320252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"/>
          <p:cNvSpPr/>
          <p:nvPr/>
        </p:nvSpPr>
        <p:spPr>
          <a:xfrm>
            <a:off x="32389920" y="7391520"/>
            <a:ext cx="10413720" cy="2844720"/>
          </a:xfrm>
          <a:custGeom>
            <a:avLst/>
            <a:gdLst>
              <a:gd name="textAreaLeft" fmla="*/ 0 w 10413720"/>
              <a:gd name="textAreaRight" fmla="*/ 10414080 w 10413720"/>
              <a:gd name="textAreaTop" fmla="*/ 0 h 2844720"/>
              <a:gd name="textAreaBottom" fmla="*/ 2845080 h 2844720"/>
            </a:gdLst>
            <a:ahLst/>
            <a:rect l="textAreaLeft" t="textAreaTop" r="textAreaRight" b="textAreaBottom"/>
            <a:pathLst>
              <a:path w="6560" h="1792">
                <a:moveTo>
                  <a:pt x="6560" y="896"/>
                </a:moveTo>
                <a:lnTo>
                  <a:pt x="6560" y="896"/>
                </a:lnTo>
                <a:lnTo>
                  <a:pt x="6558" y="942"/>
                </a:lnTo>
                <a:lnTo>
                  <a:pt x="6554" y="988"/>
                </a:lnTo>
                <a:lnTo>
                  <a:pt x="6546" y="1032"/>
                </a:lnTo>
                <a:lnTo>
                  <a:pt x="6536" y="1076"/>
                </a:lnTo>
                <a:lnTo>
                  <a:pt x="6524" y="1120"/>
                </a:lnTo>
                <a:lnTo>
                  <a:pt x="6508" y="1162"/>
                </a:lnTo>
                <a:lnTo>
                  <a:pt x="6490" y="1204"/>
                </a:lnTo>
                <a:lnTo>
                  <a:pt x="6470" y="1244"/>
                </a:lnTo>
                <a:lnTo>
                  <a:pt x="6448" y="1284"/>
                </a:lnTo>
                <a:lnTo>
                  <a:pt x="6422" y="1324"/>
                </a:lnTo>
                <a:lnTo>
                  <a:pt x="6396" y="1360"/>
                </a:lnTo>
                <a:lnTo>
                  <a:pt x="6366" y="1396"/>
                </a:lnTo>
                <a:lnTo>
                  <a:pt x="6334" y="1432"/>
                </a:lnTo>
                <a:lnTo>
                  <a:pt x="6300" y="1466"/>
                </a:lnTo>
                <a:lnTo>
                  <a:pt x="6264" y="1498"/>
                </a:lnTo>
                <a:lnTo>
                  <a:pt x="6226" y="1530"/>
                </a:lnTo>
                <a:lnTo>
                  <a:pt x="6188" y="1560"/>
                </a:lnTo>
                <a:lnTo>
                  <a:pt x="6146" y="1588"/>
                </a:lnTo>
                <a:lnTo>
                  <a:pt x="6104" y="1614"/>
                </a:lnTo>
                <a:lnTo>
                  <a:pt x="6058" y="1640"/>
                </a:lnTo>
                <a:lnTo>
                  <a:pt x="6012" y="1662"/>
                </a:lnTo>
                <a:lnTo>
                  <a:pt x="5966" y="1684"/>
                </a:lnTo>
                <a:lnTo>
                  <a:pt x="5916" y="1704"/>
                </a:lnTo>
                <a:lnTo>
                  <a:pt x="5866" y="1722"/>
                </a:lnTo>
                <a:lnTo>
                  <a:pt x="5814" y="1738"/>
                </a:lnTo>
                <a:lnTo>
                  <a:pt x="5762" y="1752"/>
                </a:lnTo>
                <a:lnTo>
                  <a:pt x="5708" y="1764"/>
                </a:lnTo>
                <a:lnTo>
                  <a:pt x="5654" y="1774"/>
                </a:lnTo>
                <a:lnTo>
                  <a:pt x="5598" y="1782"/>
                </a:lnTo>
                <a:lnTo>
                  <a:pt x="5542" y="1788"/>
                </a:lnTo>
                <a:lnTo>
                  <a:pt x="5484" y="1792"/>
                </a:lnTo>
                <a:lnTo>
                  <a:pt x="5426" y="1792"/>
                </a:lnTo>
                <a:lnTo>
                  <a:pt x="1134" y="1792"/>
                </a:lnTo>
                <a:lnTo>
                  <a:pt x="1134" y="1792"/>
                </a:lnTo>
                <a:lnTo>
                  <a:pt x="1076" y="1792"/>
                </a:lnTo>
                <a:lnTo>
                  <a:pt x="1018" y="1788"/>
                </a:lnTo>
                <a:lnTo>
                  <a:pt x="962" y="1782"/>
                </a:lnTo>
                <a:lnTo>
                  <a:pt x="906" y="1774"/>
                </a:lnTo>
                <a:lnTo>
                  <a:pt x="852" y="1764"/>
                </a:lnTo>
                <a:lnTo>
                  <a:pt x="798" y="1752"/>
                </a:lnTo>
                <a:lnTo>
                  <a:pt x="746" y="1738"/>
                </a:lnTo>
                <a:lnTo>
                  <a:pt x="694" y="1722"/>
                </a:lnTo>
                <a:lnTo>
                  <a:pt x="644" y="1704"/>
                </a:lnTo>
                <a:lnTo>
                  <a:pt x="594" y="1684"/>
                </a:lnTo>
                <a:lnTo>
                  <a:pt x="548" y="1662"/>
                </a:lnTo>
                <a:lnTo>
                  <a:pt x="502" y="1640"/>
                </a:lnTo>
                <a:lnTo>
                  <a:pt x="456" y="1614"/>
                </a:lnTo>
                <a:lnTo>
                  <a:pt x="414" y="1588"/>
                </a:lnTo>
                <a:lnTo>
                  <a:pt x="372" y="1560"/>
                </a:lnTo>
                <a:lnTo>
                  <a:pt x="334" y="1530"/>
                </a:lnTo>
                <a:lnTo>
                  <a:pt x="296" y="1498"/>
                </a:lnTo>
                <a:lnTo>
                  <a:pt x="260" y="1466"/>
                </a:lnTo>
                <a:lnTo>
                  <a:pt x="226" y="1432"/>
                </a:lnTo>
                <a:lnTo>
                  <a:pt x="194" y="1396"/>
                </a:lnTo>
                <a:lnTo>
                  <a:pt x="164" y="1360"/>
                </a:lnTo>
                <a:lnTo>
                  <a:pt x="138" y="1324"/>
                </a:lnTo>
                <a:lnTo>
                  <a:pt x="112" y="1284"/>
                </a:lnTo>
                <a:lnTo>
                  <a:pt x="90" y="1244"/>
                </a:lnTo>
                <a:lnTo>
                  <a:pt x="70" y="1204"/>
                </a:lnTo>
                <a:lnTo>
                  <a:pt x="52" y="1162"/>
                </a:lnTo>
                <a:lnTo>
                  <a:pt x="36" y="1120"/>
                </a:lnTo>
                <a:lnTo>
                  <a:pt x="24" y="1076"/>
                </a:lnTo>
                <a:lnTo>
                  <a:pt x="14" y="1032"/>
                </a:lnTo>
                <a:lnTo>
                  <a:pt x="6" y="988"/>
                </a:lnTo>
                <a:lnTo>
                  <a:pt x="2" y="942"/>
                </a:lnTo>
                <a:lnTo>
                  <a:pt x="0" y="896"/>
                </a:lnTo>
                <a:lnTo>
                  <a:pt x="0" y="896"/>
                </a:lnTo>
                <a:lnTo>
                  <a:pt x="2" y="850"/>
                </a:lnTo>
                <a:lnTo>
                  <a:pt x="6" y="806"/>
                </a:lnTo>
                <a:lnTo>
                  <a:pt x="14" y="760"/>
                </a:lnTo>
                <a:lnTo>
                  <a:pt x="24" y="716"/>
                </a:lnTo>
                <a:lnTo>
                  <a:pt x="36" y="674"/>
                </a:lnTo>
                <a:lnTo>
                  <a:pt x="52" y="632"/>
                </a:lnTo>
                <a:lnTo>
                  <a:pt x="70" y="590"/>
                </a:lnTo>
                <a:lnTo>
                  <a:pt x="90" y="548"/>
                </a:lnTo>
                <a:lnTo>
                  <a:pt x="112" y="510"/>
                </a:lnTo>
                <a:lnTo>
                  <a:pt x="138" y="470"/>
                </a:lnTo>
                <a:lnTo>
                  <a:pt x="164" y="434"/>
                </a:lnTo>
                <a:lnTo>
                  <a:pt x="194" y="396"/>
                </a:lnTo>
                <a:lnTo>
                  <a:pt x="226" y="362"/>
                </a:lnTo>
                <a:lnTo>
                  <a:pt x="260" y="328"/>
                </a:lnTo>
                <a:lnTo>
                  <a:pt x="296" y="296"/>
                </a:lnTo>
                <a:lnTo>
                  <a:pt x="334" y="264"/>
                </a:lnTo>
                <a:lnTo>
                  <a:pt x="372" y="234"/>
                </a:lnTo>
                <a:lnTo>
                  <a:pt x="414" y="206"/>
                </a:lnTo>
                <a:lnTo>
                  <a:pt x="456" y="180"/>
                </a:lnTo>
                <a:lnTo>
                  <a:pt x="502" y="154"/>
                </a:lnTo>
                <a:lnTo>
                  <a:pt x="548" y="132"/>
                </a:lnTo>
                <a:lnTo>
                  <a:pt x="594" y="110"/>
                </a:lnTo>
                <a:lnTo>
                  <a:pt x="644" y="90"/>
                </a:lnTo>
                <a:lnTo>
                  <a:pt x="694" y="72"/>
                </a:lnTo>
                <a:lnTo>
                  <a:pt x="746" y="56"/>
                </a:lnTo>
                <a:lnTo>
                  <a:pt x="798" y="42"/>
                </a:lnTo>
                <a:lnTo>
                  <a:pt x="852" y="30"/>
                </a:lnTo>
                <a:lnTo>
                  <a:pt x="906" y="20"/>
                </a:lnTo>
                <a:lnTo>
                  <a:pt x="962" y="12"/>
                </a:lnTo>
                <a:lnTo>
                  <a:pt x="1018" y="6"/>
                </a:lnTo>
                <a:lnTo>
                  <a:pt x="1076" y="2"/>
                </a:lnTo>
                <a:lnTo>
                  <a:pt x="1134" y="0"/>
                </a:lnTo>
                <a:lnTo>
                  <a:pt x="5426" y="0"/>
                </a:lnTo>
                <a:lnTo>
                  <a:pt x="5426" y="0"/>
                </a:lnTo>
                <a:lnTo>
                  <a:pt x="5484" y="2"/>
                </a:lnTo>
                <a:lnTo>
                  <a:pt x="5542" y="6"/>
                </a:lnTo>
                <a:lnTo>
                  <a:pt x="5598" y="12"/>
                </a:lnTo>
                <a:lnTo>
                  <a:pt x="5654" y="20"/>
                </a:lnTo>
                <a:lnTo>
                  <a:pt x="5708" y="30"/>
                </a:lnTo>
                <a:lnTo>
                  <a:pt x="5762" y="42"/>
                </a:lnTo>
                <a:lnTo>
                  <a:pt x="5814" y="56"/>
                </a:lnTo>
                <a:lnTo>
                  <a:pt x="5866" y="72"/>
                </a:lnTo>
                <a:lnTo>
                  <a:pt x="5916" y="90"/>
                </a:lnTo>
                <a:lnTo>
                  <a:pt x="5966" y="110"/>
                </a:lnTo>
                <a:lnTo>
                  <a:pt x="6012" y="132"/>
                </a:lnTo>
                <a:lnTo>
                  <a:pt x="6058" y="154"/>
                </a:lnTo>
                <a:lnTo>
                  <a:pt x="6104" y="180"/>
                </a:lnTo>
                <a:lnTo>
                  <a:pt x="6146" y="206"/>
                </a:lnTo>
                <a:lnTo>
                  <a:pt x="6188" y="234"/>
                </a:lnTo>
                <a:lnTo>
                  <a:pt x="6226" y="264"/>
                </a:lnTo>
                <a:lnTo>
                  <a:pt x="6264" y="296"/>
                </a:lnTo>
                <a:lnTo>
                  <a:pt x="6300" y="328"/>
                </a:lnTo>
                <a:lnTo>
                  <a:pt x="6334" y="362"/>
                </a:lnTo>
                <a:lnTo>
                  <a:pt x="6366" y="396"/>
                </a:lnTo>
                <a:lnTo>
                  <a:pt x="6396" y="434"/>
                </a:lnTo>
                <a:lnTo>
                  <a:pt x="6422" y="470"/>
                </a:lnTo>
                <a:lnTo>
                  <a:pt x="6448" y="510"/>
                </a:lnTo>
                <a:lnTo>
                  <a:pt x="6470" y="548"/>
                </a:lnTo>
                <a:lnTo>
                  <a:pt x="6490" y="590"/>
                </a:lnTo>
                <a:lnTo>
                  <a:pt x="6508" y="632"/>
                </a:lnTo>
                <a:lnTo>
                  <a:pt x="6524" y="674"/>
                </a:lnTo>
                <a:lnTo>
                  <a:pt x="6536" y="716"/>
                </a:lnTo>
                <a:lnTo>
                  <a:pt x="6546" y="760"/>
                </a:lnTo>
                <a:lnTo>
                  <a:pt x="6554" y="806"/>
                </a:lnTo>
                <a:lnTo>
                  <a:pt x="6558" y="850"/>
                </a:lnTo>
                <a:lnTo>
                  <a:pt x="6560" y="896"/>
                </a:lnTo>
                <a:lnTo>
                  <a:pt x="6560" y="896"/>
                </a:lnTo>
                <a:close/>
              </a:path>
            </a:pathLst>
          </a:custGeom>
          <a:solidFill>
            <a:srgbClr val="fadce9"/>
          </a:solidFill>
          <a:ln w="34920">
            <a:solidFill>
              <a:srgbClr val="e4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5"/>
          <p:cNvGrpSpPr/>
          <p:nvPr/>
        </p:nvGrpSpPr>
        <p:grpSpPr>
          <a:xfrm>
            <a:off x="10009080" y="635040"/>
            <a:ext cx="26705160" cy="3860640"/>
            <a:chOff x="10009080" y="635040"/>
            <a:chExt cx="26705160" cy="3860640"/>
          </a:xfrm>
        </p:grpSpPr>
        <p:sp>
          <p:nvSpPr>
            <p:cNvPr id="44" name="Freeform 6"/>
            <p:cNvSpPr/>
            <p:nvPr/>
          </p:nvSpPr>
          <p:spPr>
            <a:xfrm>
              <a:off x="10186560" y="838080"/>
              <a:ext cx="26527680" cy="3657600"/>
            </a:xfrm>
            <a:custGeom>
              <a:avLst/>
              <a:gdLst>
                <a:gd name="textAreaLeft" fmla="*/ 0 w 26527680"/>
                <a:gd name="textAreaRight" fmla="*/ 26528040 w 2652768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16710" h="2304">
                  <a:moveTo>
                    <a:pt x="15390" y="2304"/>
                  </a:moveTo>
                  <a:lnTo>
                    <a:pt x="0" y="2304"/>
                  </a:lnTo>
                  <a:lnTo>
                    <a:pt x="1320" y="0"/>
                  </a:lnTo>
                  <a:lnTo>
                    <a:pt x="16710" y="0"/>
                  </a:lnTo>
                  <a:lnTo>
                    <a:pt x="15390" y="2304"/>
                  </a:lnTo>
                  <a:close/>
                </a:path>
              </a:pathLst>
            </a:custGeom>
            <a:solidFill>
              <a:srgbClr val="f39800"/>
            </a:solidFill>
            <a:ln w="12600">
              <a:solidFill>
                <a:srgbClr val="fcc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0009080" y="635040"/>
              <a:ext cx="26524440" cy="3657600"/>
            </a:xfrm>
            <a:custGeom>
              <a:avLst/>
              <a:gdLst>
                <a:gd name="textAreaLeft" fmla="*/ 0 w 26524440"/>
                <a:gd name="textAreaRight" fmla="*/ 26524800 w 2652444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16708" h="2304">
                  <a:moveTo>
                    <a:pt x="15388" y="2304"/>
                  </a:moveTo>
                  <a:lnTo>
                    <a:pt x="0" y="2304"/>
                  </a:lnTo>
                  <a:lnTo>
                    <a:pt x="1320" y="0"/>
                  </a:lnTo>
                  <a:lnTo>
                    <a:pt x="16708" y="0"/>
                  </a:lnTo>
                  <a:lnTo>
                    <a:pt x="15388" y="2304"/>
                  </a:lnTo>
                  <a:close/>
                </a:path>
              </a:pathLst>
            </a:custGeom>
            <a:solidFill>
              <a:srgbClr val="fc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Freeform 8"/>
          <p:cNvSpPr/>
          <p:nvPr/>
        </p:nvSpPr>
        <p:spPr>
          <a:xfrm>
            <a:off x="14736600" y="6537240"/>
            <a:ext cx="19755000" cy="142920"/>
          </a:xfrm>
          <a:custGeom>
            <a:avLst/>
            <a:gdLst>
              <a:gd name="textAreaLeft" fmla="*/ 0 w 19755000"/>
              <a:gd name="textAreaRight" fmla="*/ 19755360 w 19755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2444" h="90">
                <a:moveTo>
                  <a:pt x="12398" y="90"/>
                </a:moveTo>
                <a:lnTo>
                  <a:pt x="12382" y="90"/>
                </a:lnTo>
                <a:lnTo>
                  <a:pt x="12382" y="90"/>
                </a:lnTo>
                <a:lnTo>
                  <a:pt x="12374" y="90"/>
                </a:lnTo>
                <a:lnTo>
                  <a:pt x="12364" y="86"/>
                </a:lnTo>
                <a:lnTo>
                  <a:pt x="12356" y="82"/>
                </a:lnTo>
                <a:lnTo>
                  <a:pt x="12350" y="78"/>
                </a:lnTo>
                <a:lnTo>
                  <a:pt x="12344" y="70"/>
                </a:lnTo>
                <a:lnTo>
                  <a:pt x="12340" y="62"/>
                </a:lnTo>
                <a:lnTo>
                  <a:pt x="12338" y="54"/>
                </a:lnTo>
                <a:lnTo>
                  <a:pt x="12336" y="46"/>
                </a:lnTo>
                <a:lnTo>
                  <a:pt x="12336" y="46"/>
                </a:lnTo>
                <a:lnTo>
                  <a:pt x="12338" y="36"/>
                </a:lnTo>
                <a:lnTo>
                  <a:pt x="12340" y="28"/>
                </a:lnTo>
                <a:lnTo>
                  <a:pt x="12344" y="20"/>
                </a:lnTo>
                <a:lnTo>
                  <a:pt x="12350" y="12"/>
                </a:lnTo>
                <a:lnTo>
                  <a:pt x="12356" y="8"/>
                </a:lnTo>
                <a:lnTo>
                  <a:pt x="12364" y="4"/>
                </a:lnTo>
                <a:lnTo>
                  <a:pt x="12374" y="0"/>
                </a:lnTo>
                <a:lnTo>
                  <a:pt x="12382" y="0"/>
                </a:lnTo>
                <a:lnTo>
                  <a:pt x="12398" y="0"/>
                </a:lnTo>
                <a:lnTo>
                  <a:pt x="12398" y="0"/>
                </a:lnTo>
                <a:lnTo>
                  <a:pt x="12408" y="0"/>
                </a:lnTo>
                <a:lnTo>
                  <a:pt x="12416" y="4"/>
                </a:lnTo>
                <a:lnTo>
                  <a:pt x="12424" y="8"/>
                </a:lnTo>
                <a:lnTo>
                  <a:pt x="12430" y="12"/>
                </a:lnTo>
                <a:lnTo>
                  <a:pt x="12436" y="20"/>
                </a:lnTo>
                <a:lnTo>
                  <a:pt x="12440" y="28"/>
                </a:lnTo>
                <a:lnTo>
                  <a:pt x="12442" y="36"/>
                </a:lnTo>
                <a:lnTo>
                  <a:pt x="12444" y="46"/>
                </a:lnTo>
                <a:lnTo>
                  <a:pt x="12444" y="46"/>
                </a:lnTo>
                <a:lnTo>
                  <a:pt x="12442" y="54"/>
                </a:lnTo>
                <a:lnTo>
                  <a:pt x="12440" y="62"/>
                </a:lnTo>
                <a:lnTo>
                  <a:pt x="12436" y="70"/>
                </a:lnTo>
                <a:lnTo>
                  <a:pt x="12430" y="78"/>
                </a:lnTo>
                <a:lnTo>
                  <a:pt x="12424" y="82"/>
                </a:lnTo>
                <a:lnTo>
                  <a:pt x="12416" y="86"/>
                </a:lnTo>
                <a:lnTo>
                  <a:pt x="12408" y="90"/>
                </a:lnTo>
                <a:lnTo>
                  <a:pt x="12398" y="90"/>
                </a:lnTo>
                <a:lnTo>
                  <a:pt x="12398" y="90"/>
                </a:lnTo>
                <a:close/>
                <a:moveTo>
                  <a:pt x="12224" y="90"/>
                </a:moveTo>
                <a:lnTo>
                  <a:pt x="12200" y="90"/>
                </a:lnTo>
                <a:lnTo>
                  <a:pt x="12200" y="90"/>
                </a:lnTo>
                <a:lnTo>
                  <a:pt x="12192" y="90"/>
                </a:lnTo>
                <a:lnTo>
                  <a:pt x="12184" y="86"/>
                </a:lnTo>
                <a:lnTo>
                  <a:pt x="12176" y="82"/>
                </a:lnTo>
                <a:lnTo>
                  <a:pt x="12168" y="78"/>
                </a:lnTo>
                <a:lnTo>
                  <a:pt x="12164" y="70"/>
                </a:lnTo>
                <a:lnTo>
                  <a:pt x="12160" y="62"/>
                </a:lnTo>
                <a:lnTo>
                  <a:pt x="12156" y="54"/>
                </a:lnTo>
                <a:lnTo>
                  <a:pt x="12156" y="46"/>
                </a:lnTo>
                <a:lnTo>
                  <a:pt x="12156" y="46"/>
                </a:lnTo>
                <a:lnTo>
                  <a:pt x="12156" y="36"/>
                </a:lnTo>
                <a:lnTo>
                  <a:pt x="12160" y="28"/>
                </a:lnTo>
                <a:lnTo>
                  <a:pt x="12164" y="20"/>
                </a:lnTo>
                <a:lnTo>
                  <a:pt x="12168" y="12"/>
                </a:lnTo>
                <a:lnTo>
                  <a:pt x="12176" y="8"/>
                </a:lnTo>
                <a:lnTo>
                  <a:pt x="12184" y="4"/>
                </a:lnTo>
                <a:lnTo>
                  <a:pt x="12192" y="0"/>
                </a:lnTo>
                <a:lnTo>
                  <a:pt x="12200" y="0"/>
                </a:lnTo>
                <a:lnTo>
                  <a:pt x="12224" y="0"/>
                </a:lnTo>
                <a:lnTo>
                  <a:pt x="12224" y="0"/>
                </a:lnTo>
                <a:lnTo>
                  <a:pt x="12232" y="0"/>
                </a:lnTo>
                <a:lnTo>
                  <a:pt x="12242" y="4"/>
                </a:lnTo>
                <a:lnTo>
                  <a:pt x="12248" y="8"/>
                </a:lnTo>
                <a:lnTo>
                  <a:pt x="12256" y="12"/>
                </a:lnTo>
                <a:lnTo>
                  <a:pt x="12262" y="20"/>
                </a:lnTo>
                <a:lnTo>
                  <a:pt x="12266" y="28"/>
                </a:lnTo>
                <a:lnTo>
                  <a:pt x="12268" y="36"/>
                </a:lnTo>
                <a:lnTo>
                  <a:pt x="12268" y="46"/>
                </a:lnTo>
                <a:lnTo>
                  <a:pt x="12268" y="46"/>
                </a:lnTo>
                <a:lnTo>
                  <a:pt x="12268" y="54"/>
                </a:lnTo>
                <a:lnTo>
                  <a:pt x="12266" y="62"/>
                </a:lnTo>
                <a:lnTo>
                  <a:pt x="12262" y="70"/>
                </a:lnTo>
                <a:lnTo>
                  <a:pt x="12256" y="78"/>
                </a:lnTo>
                <a:lnTo>
                  <a:pt x="12248" y="82"/>
                </a:lnTo>
                <a:lnTo>
                  <a:pt x="12242" y="86"/>
                </a:lnTo>
                <a:lnTo>
                  <a:pt x="12232" y="90"/>
                </a:lnTo>
                <a:lnTo>
                  <a:pt x="12224" y="90"/>
                </a:lnTo>
                <a:lnTo>
                  <a:pt x="12224" y="90"/>
                </a:lnTo>
                <a:close/>
                <a:moveTo>
                  <a:pt x="12042" y="90"/>
                </a:moveTo>
                <a:lnTo>
                  <a:pt x="12020" y="90"/>
                </a:lnTo>
                <a:lnTo>
                  <a:pt x="12020" y="90"/>
                </a:lnTo>
                <a:lnTo>
                  <a:pt x="12010" y="90"/>
                </a:lnTo>
                <a:lnTo>
                  <a:pt x="12002" y="86"/>
                </a:lnTo>
                <a:lnTo>
                  <a:pt x="11994" y="82"/>
                </a:lnTo>
                <a:lnTo>
                  <a:pt x="11988" y="78"/>
                </a:lnTo>
                <a:lnTo>
                  <a:pt x="11982" y="70"/>
                </a:lnTo>
                <a:lnTo>
                  <a:pt x="11978" y="62"/>
                </a:lnTo>
                <a:lnTo>
                  <a:pt x="11976" y="54"/>
                </a:lnTo>
                <a:lnTo>
                  <a:pt x="11974" y="46"/>
                </a:lnTo>
                <a:lnTo>
                  <a:pt x="11974" y="46"/>
                </a:lnTo>
                <a:lnTo>
                  <a:pt x="11976" y="36"/>
                </a:lnTo>
                <a:lnTo>
                  <a:pt x="11978" y="28"/>
                </a:lnTo>
                <a:lnTo>
                  <a:pt x="11982" y="20"/>
                </a:lnTo>
                <a:lnTo>
                  <a:pt x="11988" y="12"/>
                </a:lnTo>
                <a:lnTo>
                  <a:pt x="11994" y="8"/>
                </a:lnTo>
                <a:lnTo>
                  <a:pt x="12002" y="4"/>
                </a:lnTo>
                <a:lnTo>
                  <a:pt x="12010" y="0"/>
                </a:lnTo>
                <a:lnTo>
                  <a:pt x="12020" y="0"/>
                </a:lnTo>
                <a:lnTo>
                  <a:pt x="12042" y="0"/>
                </a:lnTo>
                <a:lnTo>
                  <a:pt x="12042" y="0"/>
                </a:lnTo>
                <a:lnTo>
                  <a:pt x="12052" y="0"/>
                </a:lnTo>
                <a:lnTo>
                  <a:pt x="12060" y="4"/>
                </a:lnTo>
                <a:lnTo>
                  <a:pt x="12068" y="8"/>
                </a:lnTo>
                <a:lnTo>
                  <a:pt x="12074" y="12"/>
                </a:lnTo>
                <a:lnTo>
                  <a:pt x="12080" y="20"/>
                </a:lnTo>
                <a:lnTo>
                  <a:pt x="12084" y="28"/>
                </a:lnTo>
                <a:lnTo>
                  <a:pt x="12086" y="36"/>
                </a:lnTo>
                <a:lnTo>
                  <a:pt x="12088" y="46"/>
                </a:lnTo>
                <a:lnTo>
                  <a:pt x="12088" y="46"/>
                </a:lnTo>
                <a:lnTo>
                  <a:pt x="12086" y="54"/>
                </a:lnTo>
                <a:lnTo>
                  <a:pt x="12084" y="62"/>
                </a:lnTo>
                <a:lnTo>
                  <a:pt x="12080" y="70"/>
                </a:lnTo>
                <a:lnTo>
                  <a:pt x="12074" y="78"/>
                </a:lnTo>
                <a:lnTo>
                  <a:pt x="12068" y="82"/>
                </a:lnTo>
                <a:lnTo>
                  <a:pt x="12060" y="86"/>
                </a:lnTo>
                <a:lnTo>
                  <a:pt x="12052" y="90"/>
                </a:lnTo>
                <a:lnTo>
                  <a:pt x="12042" y="90"/>
                </a:lnTo>
                <a:lnTo>
                  <a:pt x="12042" y="90"/>
                </a:lnTo>
                <a:close/>
                <a:moveTo>
                  <a:pt x="11860" y="90"/>
                </a:moveTo>
                <a:lnTo>
                  <a:pt x="11838" y="90"/>
                </a:lnTo>
                <a:lnTo>
                  <a:pt x="11838" y="90"/>
                </a:lnTo>
                <a:lnTo>
                  <a:pt x="11828" y="90"/>
                </a:lnTo>
                <a:lnTo>
                  <a:pt x="11820" y="86"/>
                </a:lnTo>
                <a:lnTo>
                  <a:pt x="11812" y="82"/>
                </a:lnTo>
                <a:lnTo>
                  <a:pt x="11806" y="78"/>
                </a:lnTo>
                <a:lnTo>
                  <a:pt x="11800" y="70"/>
                </a:lnTo>
                <a:lnTo>
                  <a:pt x="11796" y="62"/>
                </a:lnTo>
                <a:lnTo>
                  <a:pt x="11794" y="54"/>
                </a:lnTo>
                <a:lnTo>
                  <a:pt x="11792" y="46"/>
                </a:lnTo>
                <a:lnTo>
                  <a:pt x="11792" y="46"/>
                </a:lnTo>
                <a:lnTo>
                  <a:pt x="11794" y="36"/>
                </a:lnTo>
                <a:lnTo>
                  <a:pt x="11796" y="28"/>
                </a:lnTo>
                <a:lnTo>
                  <a:pt x="11800" y="20"/>
                </a:lnTo>
                <a:lnTo>
                  <a:pt x="11806" y="12"/>
                </a:lnTo>
                <a:lnTo>
                  <a:pt x="11812" y="8"/>
                </a:lnTo>
                <a:lnTo>
                  <a:pt x="11820" y="4"/>
                </a:lnTo>
                <a:lnTo>
                  <a:pt x="11828" y="0"/>
                </a:lnTo>
                <a:lnTo>
                  <a:pt x="11838" y="0"/>
                </a:lnTo>
                <a:lnTo>
                  <a:pt x="11860" y="0"/>
                </a:lnTo>
                <a:lnTo>
                  <a:pt x="11860" y="0"/>
                </a:lnTo>
                <a:lnTo>
                  <a:pt x="11870" y="0"/>
                </a:lnTo>
                <a:lnTo>
                  <a:pt x="11878" y="4"/>
                </a:lnTo>
                <a:lnTo>
                  <a:pt x="11886" y="8"/>
                </a:lnTo>
                <a:lnTo>
                  <a:pt x="11892" y="12"/>
                </a:lnTo>
                <a:lnTo>
                  <a:pt x="11898" y="20"/>
                </a:lnTo>
                <a:lnTo>
                  <a:pt x="11902" y="28"/>
                </a:lnTo>
                <a:lnTo>
                  <a:pt x="11906" y="36"/>
                </a:lnTo>
                <a:lnTo>
                  <a:pt x="11906" y="46"/>
                </a:lnTo>
                <a:lnTo>
                  <a:pt x="11906" y="46"/>
                </a:lnTo>
                <a:lnTo>
                  <a:pt x="11906" y="54"/>
                </a:lnTo>
                <a:lnTo>
                  <a:pt x="11902" y="62"/>
                </a:lnTo>
                <a:lnTo>
                  <a:pt x="11898" y="70"/>
                </a:lnTo>
                <a:lnTo>
                  <a:pt x="11892" y="78"/>
                </a:lnTo>
                <a:lnTo>
                  <a:pt x="11886" y="82"/>
                </a:lnTo>
                <a:lnTo>
                  <a:pt x="11878" y="86"/>
                </a:lnTo>
                <a:lnTo>
                  <a:pt x="11870" y="90"/>
                </a:lnTo>
                <a:lnTo>
                  <a:pt x="11860" y="90"/>
                </a:lnTo>
                <a:lnTo>
                  <a:pt x="11860" y="90"/>
                </a:lnTo>
                <a:close/>
                <a:moveTo>
                  <a:pt x="11680" y="90"/>
                </a:moveTo>
                <a:lnTo>
                  <a:pt x="11656" y="90"/>
                </a:lnTo>
                <a:lnTo>
                  <a:pt x="11656" y="90"/>
                </a:lnTo>
                <a:lnTo>
                  <a:pt x="11648" y="90"/>
                </a:lnTo>
                <a:lnTo>
                  <a:pt x="11638" y="86"/>
                </a:lnTo>
                <a:lnTo>
                  <a:pt x="11632" y="82"/>
                </a:lnTo>
                <a:lnTo>
                  <a:pt x="11624" y="78"/>
                </a:lnTo>
                <a:lnTo>
                  <a:pt x="11620" y="70"/>
                </a:lnTo>
                <a:lnTo>
                  <a:pt x="11614" y="62"/>
                </a:lnTo>
                <a:lnTo>
                  <a:pt x="11612" y="54"/>
                </a:lnTo>
                <a:lnTo>
                  <a:pt x="11612" y="46"/>
                </a:lnTo>
                <a:lnTo>
                  <a:pt x="11612" y="46"/>
                </a:lnTo>
                <a:lnTo>
                  <a:pt x="11612" y="36"/>
                </a:lnTo>
                <a:lnTo>
                  <a:pt x="11614" y="28"/>
                </a:lnTo>
                <a:lnTo>
                  <a:pt x="11620" y="20"/>
                </a:lnTo>
                <a:lnTo>
                  <a:pt x="11624" y="12"/>
                </a:lnTo>
                <a:lnTo>
                  <a:pt x="11632" y="8"/>
                </a:lnTo>
                <a:lnTo>
                  <a:pt x="11638" y="4"/>
                </a:lnTo>
                <a:lnTo>
                  <a:pt x="11648" y="0"/>
                </a:lnTo>
                <a:lnTo>
                  <a:pt x="11656" y="0"/>
                </a:lnTo>
                <a:lnTo>
                  <a:pt x="11680" y="0"/>
                </a:lnTo>
                <a:lnTo>
                  <a:pt x="11680" y="0"/>
                </a:lnTo>
                <a:lnTo>
                  <a:pt x="11688" y="0"/>
                </a:lnTo>
                <a:lnTo>
                  <a:pt x="11696" y="4"/>
                </a:lnTo>
                <a:lnTo>
                  <a:pt x="11704" y="8"/>
                </a:lnTo>
                <a:lnTo>
                  <a:pt x="11712" y="12"/>
                </a:lnTo>
                <a:lnTo>
                  <a:pt x="11716" y="20"/>
                </a:lnTo>
                <a:lnTo>
                  <a:pt x="11722" y="28"/>
                </a:lnTo>
                <a:lnTo>
                  <a:pt x="11724" y="36"/>
                </a:lnTo>
                <a:lnTo>
                  <a:pt x="11724" y="46"/>
                </a:lnTo>
                <a:lnTo>
                  <a:pt x="11724" y="46"/>
                </a:lnTo>
                <a:lnTo>
                  <a:pt x="11724" y="54"/>
                </a:lnTo>
                <a:lnTo>
                  <a:pt x="11722" y="62"/>
                </a:lnTo>
                <a:lnTo>
                  <a:pt x="11716" y="70"/>
                </a:lnTo>
                <a:lnTo>
                  <a:pt x="11712" y="78"/>
                </a:lnTo>
                <a:lnTo>
                  <a:pt x="11704" y="82"/>
                </a:lnTo>
                <a:lnTo>
                  <a:pt x="11696" y="86"/>
                </a:lnTo>
                <a:lnTo>
                  <a:pt x="11688" y="90"/>
                </a:lnTo>
                <a:lnTo>
                  <a:pt x="11680" y="90"/>
                </a:lnTo>
                <a:lnTo>
                  <a:pt x="11680" y="90"/>
                </a:lnTo>
                <a:close/>
                <a:moveTo>
                  <a:pt x="11498" y="90"/>
                </a:moveTo>
                <a:lnTo>
                  <a:pt x="11476" y="90"/>
                </a:lnTo>
                <a:lnTo>
                  <a:pt x="11476" y="90"/>
                </a:lnTo>
                <a:lnTo>
                  <a:pt x="11466" y="90"/>
                </a:lnTo>
                <a:lnTo>
                  <a:pt x="11458" y="86"/>
                </a:lnTo>
                <a:lnTo>
                  <a:pt x="11450" y="82"/>
                </a:lnTo>
                <a:lnTo>
                  <a:pt x="11444" y="78"/>
                </a:lnTo>
                <a:lnTo>
                  <a:pt x="11438" y="70"/>
                </a:lnTo>
                <a:lnTo>
                  <a:pt x="11434" y="62"/>
                </a:lnTo>
                <a:lnTo>
                  <a:pt x="11430" y="54"/>
                </a:lnTo>
                <a:lnTo>
                  <a:pt x="11430" y="46"/>
                </a:lnTo>
                <a:lnTo>
                  <a:pt x="11430" y="46"/>
                </a:lnTo>
                <a:lnTo>
                  <a:pt x="11430" y="36"/>
                </a:lnTo>
                <a:lnTo>
                  <a:pt x="11434" y="28"/>
                </a:lnTo>
                <a:lnTo>
                  <a:pt x="11438" y="20"/>
                </a:lnTo>
                <a:lnTo>
                  <a:pt x="11444" y="12"/>
                </a:lnTo>
                <a:lnTo>
                  <a:pt x="11450" y="8"/>
                </a:lnTo>
                <a:lnTo>
                  <a:pt x="11458" y="4"/>
                </a:lnTo>
                <a:lnTo>
                  <a:pt x="11466" y="0"/>
                </a:lnTo>
                <a:lnTo>
                  <a:pt x="11476" y="0"/>
                </a:lnTo>
                <a:lnTo>
                  <a:pt x="11498" y="0"/>
                </a:lnTo>
                <a:lnTo>
                  <a:pt x="11498" y="0"/>
                </a:lnTo>
                <a:lnTo>
                  <a:pt x="11508" y="0"/>
                </a:lnTo>
                <a:lnTo>
                  <a:pt x="11516" y="4"/>
                </a:lnTo>
                <a:lnTo>
                  <a:pt x="11524" y="8"/>
                </a:lnTo>
                <a:lnTo>
                  <a:pt x="11530" y="12"/>
                </a:lnTo>
                <a:lnTo>
                  <a:pt x="11536" y="20"/>
                </a:lnTo>
                <a:lnTo>
                  <a:pt x="11540" y="28"/>
                </a:lnTo>
                <a:lnTo>
                  <a:pt x="11542" y="36"/>
                </a:lnTo>
                <a:lnTo>
                  <a:pt x="11544" y="46"/>
                </a:lnTo>
                <a:lnTo>
                  <a:pt x="11544" y="46"/>
                </a:lnTo>
                <a:lnTo>
                  <a:pt x="11542" y="54"/>
                </a:lnTo>
                <a:lnTo>
                  <a:pt x="11540" y="62"/>
                </a:lnTo>
                <a:lnTo>
                  <a:pt x="11536" y="70"/>
                </a:lnTo>
                <a:lnTo>
                  <a:pt x="11530" y="78"/>
                </a:lnTo>
                <a:lnTo>
                  <a:pt x="11524" y="82"/>
                </a:lnTo>
                <a:lnTo>
                  <a:pt x="11516" y="86"/>
                </a:lnTo>
                <a:lnTo>
                  <a:pt x="11508" y="90"/>
                </a:lnTo>
                <a:lnTo>
                  <a:pt x="11498" y="90"/>
                </a:lnTo>
                <a:lnTo>
                  <a:pt x="11498" y="90"/>
                </a:lnTo>
                <a:close/>
                <a:moveTo>
                  <a:pt x="11316" y="90"/>
                </a:moveTo>
                <a:lnTo>
                  <a:pt x="11294" y="90"/>
                </a:lnTo>
                <a:lnTo>
                  <a:pt x="11294" y="90"/>
                </a:lnTo>
                <a:lnTo>
                  <a:pt x="11284" y="90"/>
                </a:lnTo>
                <a:lnTo>
                  <a:pt x="11276" y="86"/>
                </a:lnTo>
                <a:lnTo>
                  <a:pt x="11268" y="82"/>
                </a:lnTo>
                <a:lnTo>
                  <a:pt x="11262" y="78"/>
                </a:lnTo>
                <a:lnTo>
                  <a:pt x="11256" y="70"/>
                </a:lnTo>
                <a:lnTo>
                  <a:pt x="11252" y="62"/>
                </a:lnTo>
                <a:lnTo>
                  <a:pt x="11250" y="54"/>
                </a:lnTo>
                <a:lnTo>
                  <a:pt x="11248" y="46"/>
                </a:lnTo>
                <a:lnTo>
                  <a:pt x="11248" y="46"/>
                </a:lnTo>
                <a:lnTo>
                  <a:pt x="11250" y="36"/>
                </a:lnTo>
                <a:lnTo>
                  <a:pt x="11252" y="28"/>
                </a:lnTo>
                <a:lnTo>
                  <a:pt x="11256" y="20"/>
                </a:lnTo>
                <a:lnTo>
                  <a:pt x="11262" y="12"/>
                </a:lnTo>
                <a:lnTo>
                  <a:pt x="11268" y="8"/>
                </a:lnTo>
                <a:lnTo>
                  <a:pt x="11276" y="4"/>
                </a:lnTo>
                <a:lnTo>
                  <a:pt x="11284" y="0"/>
                </a:lnTo>
                <a:lnTo>
                  <a:pt x="11294" y="0"/>
                </a:lnTo>
                <a:lnTo>
                  <a:pt x="11316" y="0"/>
                </a:lnTo>
                <a:lnTo>
                  <a:pt x="11316" y="0"/>
                </a:lnTo>
                <a:lnTo>
                  <a:pt x="11326" y="0"/>
                </a:lnTo>
                <a:lnTo>
                  <a:pt x="11334" y="4"/>
                </a:lnTo>
                <a:lnTo>
                  <a:pt x="11342" y="8"/>
                </a:lnTo>
                <a:lnTo>
                  <a:pt x="11348" y="12"/>
                </a:lnTo>
                <a:lnTo>
                  <a:pt x="11354" y="20"/>
                </a:lnTo>
                <a:lnTo>
                  <a:pt x="11358" y="28"/>
                </a:lnTo>
                <a:lnTo>
                  <a:pt x="11360" y="36"/>
                </a:lnTo>
                <a:lnTo>
                  <a:pt x="11362" y="46"/>
                </a:lnTo>
                <a:lnTo>
                  <a:pt x="11362" y="46"/>
                </a:lnTo>
                <a:lnTo>
                  <a:pt x="11360" y="54"/>
                </a:lnTo>
                <a:lnTo>
                  <a:pt x="11358" y="62"/>
                </a:lnTo>
                <a:lnTo>
                  <a:pt x="11354" y="70"/>
                </a:lnTo>
                <a:lnTo>
                  <a:pt x="11348" y="78"/>
                </a:lnTo>
                <a:lnTo>
                  <a:pt x="11342" y="82"/>
                </a:lnTo>
                <a:lnTo>
                  <a:pt x="11334" y="86"/>
                </a:lnTo>
                <a:lnTo>
                  <a:pt x="11326" y="90"/>
                </a:lnTo>
                <a:lnTo>
                  <a:pt x="11316" y="90"/>
                </a:lnTo>
                <a:lnTo>
                  <a:pt x="11316" y="90"/>
                </a:lnTo>
                <a:close/>
                <a:moveTo>
                  <a:pt x="11136" y="90"/>
                </a:moveTo>
                <a:lnTo>
                  <a:pt x="11112" y="90"/>
                </a:lnTo>
                <a:lnTo>
                  <a:pt x="11112" y="90"/>
                </a:lnTo>
                <a:lnTo>
                  <a:pt x="11104" y="90"/>
                </a:lnTo>
                <a:lnTo>
                  <a:pt x="11094" y="86"/>
                </a:lnTo>
                <a:lnTo>
                  <a:pt x="11088" y="82"/>
                </a:lnTo>
                <a:lnTo>
                  <a:pt x="11080" y="78"/>
                </a:lnTo>
                <a:lnTo>
                  <a:pt x="11074" y="70"/>
                </a:lnTo>
                <a:lnTo>
                  <a:pt x="11070" y="62"/>
                </a:lnTo>
                <a:lnTo>
                  <a:pt x="11068" y="54"/>
                </a:lnTo>
                <a:lnTo>
                  <a:pt x="11068" y="46"/>
                </a:lnTo>
                <a:lnTo>
                  <a:pt x="11068" y="46"/>
                </a:lnTo>
                <a:lnTo>
                  <a:pt x="11068" y="36"/>
                </a:lnTo>
                <a:lnTo>
                  <a:pt x="11070" y="28"/>
                </a:lnTo>
                <a:lnTo>
                  <a:pt x="11074" y="20"/>
                </a:lnTo>
                <a:lnTo>
                  <a:pt x="11080" y="12"/>
                </a:lnTo>
                <a:lnTo>
                  <a:pt x="11088" y="8"/>
                </a:lnTo>
                <a:lnTo>
                  <a:pt x="11094" y="4"/>
                </a:lnTo>
                <a:lnTo>
                  <a:pt x="11104" y="0"/>
                </a:lnTo>
                <a:lnTo>
                  <a:pt x="11112" y="0"/>
                </a:lnTo>
                <a:lnTo>
                  <a:pt x="11136" y="0"/>
                </a:lnTo>
                <a:lnTo>
                  <a:pt x="11136" y="0"/>
                </a:lnTo>
                <a:lnTo>
                  <a:pt x="11144" y="0"/>
                </a:lnTo>
                <a:lnTo>
                  <a:pt x="11152" y="4"/>
                </a:lnTo>
                <a:lnTo>
                  <a:pt x="11160" y="8"/>
                </a:lnTo>
                <a:lnTo>
                  <a:pt x="11168" y="12"/>
                </a:lnTo>
                <a:lnTo>
                  <a:pt x="11172" y="20"/>
                </a:lnTo>
                <a:lnTo>
                  <a:pt x="11176" y="28"/>
                </a:lnTo>
                <a:lnTo>
                  <a:pt x="11180" y="36"/>
                </a:lnTo>
                <a:lnTo>
                  <a:pt x="11180" y="46"/>
                </a:lnTo>
                <a:lnTo>
                  <a:pt x="11180" y="46"/>
                </a:lnTo>
                <a:lnTo>
                  <a:pt x="11180" y="54"/>
                </a:lnTo>
                <a:lnTo>
                  <a:pt x="11176" y="62"/>
                </a:lnTo>
                <a:lnTo>
                  <a:pt x="11172" y="70"/>
                </a:lnTo>
                <a:lnTo>
                  <a:pt x="11168" y="78"/>
                </a:lnTo>
                <a:lnTo>
                  <a:pt x="11160" y="82"/>
                </a:lnTo>
                <a:lnTo>
                  <a:pt x="11152" y="86"/>
                </a:lnTo>
                <a:lnTo>
                  <a:pt x="11144" y="90"/>
                </a:lnTo>
                <a:lnTo>
                  <a:pt x="11136" y="90"/>
                </a:lnTo>
                <a:lnTo>
                  <a:pt x="11136" y="90"/>
                </a:lnTo>
                <a:close/>
                <a:moveTo>
                  <a:pt x="10954" y="90"/>
                </a:moveTo>
                <a:lnTo>
                  <a:pt x="10930" y="90"/>
                </a:lnTo>
                <a:lnTo>
                  <a:pt x="10930" y="90"/>
                </a:lnTo>
                <a:lnTo>
                  <a:pt x="10922" y="90"/>
                </a:lnTo>
                <a:lnTo>
                  <a:pt x="10914" y="86"/>
                </a:lnTo>
                <a:lnTo>
                  <a:pt x="10906" y="82"/>
                </a:lnTo>
                <a:lnTo>
                  <a:pt x="10898" y="78"/>
                </a:lnTo>
                <a:lnTo>
                  <a:pt x="10894" y="70"/>
                </a:lnTo>
                <a:lnTo>
                  <a:pt x="10890" y="62"/>
                </a:lnTo>
                <a:lnTo>
                  <a:pt x="10886" y="54"/>
                </a:lnTo>
                <a:lnTo>
                  <a:pt x="10886" y="46"/>
                </a:lnTo>
                <a:lnTo>
                  <a:pt x="10886" y="46"/>
                </a:lnTo>
                <a:lnTo>
                  <a:pt x="10886" y="36"/>
                </a:lnTo>
                <a:lnTo>
                  <a:pt x="10890" y="28"/>
                </a:lnTo>
                <a:lnTo>
                  <a:pt x="10894" y="20"/>
                </a:lnTo>
                <a:lnTo>
                  <a:pt x="10898" y="12"/>
                </a:lnTo>
                <a:lnTo>
                  <a:pt x="10906" y="8"/>
                </a:lnTo>
                <a:lnTo>
                  <a:pt x="10914" y="4"/>
                </a:lnTo>
                <a:lnTo>
                  <a:pt x="10922" y="0"/>
                </a:lnTo>
                <a:lnTo>
                  <a:pt x="10930" y="0"/>
                </a:lnTo>
                <a:lnTo>
                  <a:pt x="10954" y="0"/>
                </a:lnTo>
                <a:lnTo>
                  <a:pt x="10954" y="0"/>
                </a:lnTo>
                <a:lnTo>
                  <a:pt x="10962" y="0"/>
                </a:lnTo>
                <a:lnTo>
                  <a:pt x="10972" y="4"/>
                </a:lnTo>
                <a:lnTo>
                  <a:pt x="10980" y="8"/>
                </a:lnTo>
                <a:lnTo>
                  <a:pt x="10986" y="12"/>
                </a:lnTo>
                <a:lnTo>
                  <a:pt x="10992" y="20"/>
                </a:lnTo>
                <a:lnTo>
                  <a:pt x="10996" y="28"/>
                </a:lnTo>
                <a:lnTo>
                  <a:pt x="10998" y="36"/>
                </a:lnTo>
                <a:lnTo>
                  <a:pt x="11000" y="46"/>
                </a:lnTo>
                <a:lnTo>
                  <a:pt x="11000" y="46"/>
                </a:lnTo>
                <a:lnTo>
                  <a:pt x="10998" y="54"/>
                </a:lnTo>
                <a:lnTo>
                  <a:pt x="10996" y="62"/>
                </a:lnTo>
                <a:lnTo>
                  <a:pt x="10992" y="70"/>
                </a:lnTo>
                <a:lnTo>
                  <a:pt x="10986" y="78"/>
                </a:lnTo>
                <a:lnTo>
                  <a:pt x="10980" y="82"/>
                </a:lnTo>
                <a:lnTo>
                  <a:pt x="10972" y="86"/>
                </a:lnTo>
                <a:lnTo>
                  <a:pt x="10962" y="90"/>
                </a:lnTo>
                <a:lnTo>
                  <a:pt x="10954" y="90"/>
                </a:lnTo>
                <a:lnTo>
                  <a:pt x="10954" y="90"/>
                </a:lnTo>
                <a:close/>
                <a:moveTo>
                  <a:pt x="10772" y="90"/>
                </a:moveTo>
                <a:lnTo>
                  <a:pt x="10750" y="90"/>
                </a:lnTo>
                <a:lnTo>
                  <a:pt x="10750" y="90"/>
                </a:lnTo>
                <a:lnTo>
                  <a:pt x="10740" y="90"/>
                </a:lnTo>
                <a:lnTo>
                  <a:pt x="10732" y="86"/>
                </a:lnTo>
                <a:lnTo>
                  <a:pt x="10724" y="82"/>
                </a:lnTo>
                <a:lnTo>
                  <a:pt x="10718" y="78"/>
                </a:lnTo>
                <a:lnTo>
                  <a:pt x="10712" y="70"/>
                </a:lnTo>
                <a:lnTo>
                  <a:pt x="10708" y="62"/>
                </a:lnTo>
                <a:lnTo>
                  <a:pt x="10706" y="54"/>
                </a:lnTo>
                <a:lnTo>
                  <a:pt x="10704" y="46"/>
                </a:lnTo>
                <a:lnTo>
                  <a:pt x="10704" y="46"/>
                </a:lnTo>
                <a:lnTo>
                  <a:pt x="10706" y="36"/>
                </a:lnTo>
                <a:lnTo>
                  <a:pt x="10708" y="28"/>
                </a:lnTo>
                <a:lnTo>
                  <a:pt x="10712" y="20"/>
                </a:lnTo>
                <a:lnTo>
                  <a:pt x="10718" y="12"/>
                </a:lnTo>
                <a:lnTo>
                  <a:pt x="10724" y="8"/>
                </a:lnTo>
                <a:lnTo>
                  <a:pt x="10732" y="4"/>
                </a:lnTo>
                <a:lnTo>
                  <a:pt x="10740" y="0"/>
                </a:lnTo>
                <a:lnTo>
                  <a:pt x="10750" y="0"/>
                </a:lnTo>
                <a:lnTo>
                  <a:pt x="10772" y="0"/>
                </a:lnTo>
                <a:lnTo>
                  <a:pt x="10772" y="0"/>
                </a:lnTo>
                <a:lnTo>
                  <a:pt x="10782" y="0"/>
                </a:lnTo>
                <a:lnTo>
                  <a:pt x="10790" y="4"/>
                </a:lnTo>
                <a:lnTo>
                  <a:pt x="10798" y="8"/>
                </a:lnTo>
                <a:lnTo>
                  <a:pt x="10804" y="12"/>
                </a:lnTo>
                <a:lnTo>
                  <a:pt x="10810" y="20"/>
                </a:lnTo>
                <a:lnTo>
                  <a:pt x="10814" y="28"/>
                </a:lnTo>
                <a:lnTo>
                  <a:pt x="10816" y="36"/>
                </a:lnTo>
                <a:lnTo>
                  <a:pt x="10818" y="46"/>
                </a:lnTo>
                <a:lnTo>
                  <a:pt x="10818" y="46"/>
                </a:lnTo>
                <a:lnTo>
                  <a:pt x="10816" y="54"/>
                </a:lnTo>
                <a:lnTo>
                  <a:pt x="10814" y="62"/>
                </a:lnTo>
                <a:lnTo>
                  <a:pt x="10810" y="70"/>
                </a:lnTo>
                <a:lnTo>
                  <a:pt x="10804" y="78"/>
                </a:lnTo>
                <a:lnTo>
                  <a:pt x="10798" y="82"/>
                </a:lnTo>
                <a:lnTo>
                  <a:pt x="10790" y="86"/>
                </a:lnTo>
                <a:lnTo>
                  <a:pt x="10782" y="90"/>
                </a:lnTo>
                <a:lnTo>
                  <a:pt x="10772" y="90"/>
                </a:lnTo>
                <a:lnTo>
                  <a:pt x="10772" y="90"/>
                </a:lnTo>
                <a:close/>
                <a:moveTo>
                  <a:pt x="10590" y="90"/>
                </a:moveTo>
                <a:lnTo>
                  <a:pt x="10568" y="90"/>
                </a:lnTo>
                <a:lnTo>
                  <a:pt x="10568" y="90"/>
                </a:lnTo>
                <a:lnTo>
                  <a:pt x="10560" y="90"/>
                </a:lnTo>
                <a:lnTo>
                  <a:pt x="10550" y="86"/>
                </a:lnTo>
                <a:lnTo>
                  <a:pt x="10542" y="82"/>
                </a:lnTo>
                <a:lnTo>
                  <a:pt x="10536" y="78"/>
                </a:lnTo>
                <a:lnTo>
                  <a:pt x="10530" y="70"/>
                </a:lnTo>
                <a:lnTo>
                  <a:pt x="10526" y="62"/>
                </a:lnTo>
                <a:lnTo>
                  <a:pt x="10524" y="54"/>
                </a:lnTo>
                <a:lnTo>
                  <a:pt x="10522" y="46"/>
                </a:lnTo>
                <a:lnTo>
                  <a:pt x="10522" y="46"/>
                </a:lnTo>
                <a:lnTo>
                  <a:pt x="10524" y="36"/>
                </a:lnTo>
                <a:lnTo>
                  <a:pt x="10526" y="28"/>
                </a:lnTo>
                <a:lnTo>
                  <a:pt x="10530" y="20"/>
                </a:lnTo>
                <a:lnTo>
                  <a:pt x="10536" y="12"/>
                </a:lnTo>
                <a:lnTo>
                  <a:pt x="10542" y="8"/>
                </a:lnTo>
                <a:lnTo>
                  <a:pt x="10550" y="4"/>
                </a:lnTo>
                <a:lnTo>
                  <a:pt x="10560" y="0"/>
                </a:lnTo>
                <a:lnTo>
                  <a:pt x="10568" y="0"/>
                </a:lnTo>
                <a:lnTo>
                  <a:pt x="10590" y="0"/>
                </a:lnTo>
                <a:lnTo>
                  <a:pt x="10590" y="0"/>
                </a:lnTo>
                <a:lnTo>
                  <a:pt x="10600" y="0"/>
                </a:lnTo>
                <a:lnTo>
                  <a:pt x="10608" y="4"/>
                </a:lnTo>
                <a:lnTo>
                  <a:pt x="10616" y="8"/>
                </a:lnTo>
                <a:lnTo>
                  <a:pt x="10622" y="12"/>
                </a:lnTo>
                <a:lnTo>
                  <a:pt x="10628" y="20"/>
                </a:lnTo>
                <a:lnTo>
                  <a:pt x="10632" y="28"/>
                </a:lnTo>
                <a:lnTo>
                  <a:pt x="10636" y="36"/>
                </a:lnTo>
                <a:lnTo>
                  <a:pt x="10636" y="46"/>
                </a:lnTo>
                <a:lnTo>
                  <a:pt x="10636" y="46"/>
                </a:lnTo>
                <a:lnTo>
                  <a:pt x="10636" y="54"/>
                </a:lnTo>
                <a:lnTo>
                  <a:pt x="10632" y="62"/>
                </a:lnTo>
                <a:lnTo>
                  <a:pt x="10628" y="70"/>
                </a:lnTo>
                <a:lnTo>
                  <a:pt x="10622" y="78"/>
                </a:lnTo>
                <a:lnTo>
                  <a:pt x="10616" y="82"/>
                </a:lnTo>
                <a:lnTo>
                  <a:pt x="10608" y="86"/>
                </a:lnTo>
                <a:lnTo>
                  <a:pt x="10600" y="90"/>
                </a:lnTo>
                <a:lnTo>
                  <a:pt x="10590" y="90"/>
                </a:lnTo>
                <a:lnTo>
                  <a:pt x="10590" y="90"/>
                </a:lnTo>
                <a:close/>
                <a:moveTo>
                  <a:pt x="10410" y="90"/>
                </a:moveTo>
                <a:lnTo>
                  <a:pt x="10386" y="90"/>
                </a:lnTo>
                <a:lnTo>
                  <a:pt x="10386" y="90"/>
                </a:lnTo>
                <a:lnTo>
                  <a:pt x="10378" y="90"/>
                </a:lnTo>
                <a:lnTo>
                  <a:pt x="10370" y="86"/>
                </a:lnTo>
                <a:lnTo>
                  <a:pt x="10362" y="82"/>
                </a:lnTo>
                <a:lnTo>
                  <a:pt x="10354" y="78"/>
                </a:lnTo>
                <a:lnTo>
                  <a:pt x="10350" y="70"/>
                </a:lnTo>
                <a:lnTo>
                  <a:pt x="10344" y="62"/>
                </a:lnTo>
                <a:lnTo>
                  <a:pt x="10342" y="54"/>
                </a:lnTo>
                <a:lnTo>
                  <a:pt x="10342" y="46"/>
                </a:lnTo>
                <a:lnTo>
                  <a:pt x="10342" y="46"/>
                </a:lnTo>
                <a:lnTo>
                  <a:pt x="10342" y="36"/>
                </a:lnTo>
                <a:lnTo>
                  <a:pt x="10344" y="28"/>
                </a:lnTo>
                <a:lnTo>
                  <a:pt x="10350" y="20"/>
                </a:lnTo>
                <a:lnTo>
                  <a:pt x="10354" y="12"/>
                </a:lnTo>
                <a:lnTo>
                  <a:pt x="10362" y="8"/>
                </a:lnTo>
                <a:lnTo>
                  <a:pt x="10370" y="4"/>
                </a:lnTo>
                <a:lnTo>
                  <a:pt x="10378" y="0"/>
                </a:lnTo>
                <a:lnTo>
                  <a:pt x="10386" y="0"/>
                </a:lnTo>
                <a:lnTo>
                  <a:pt x="10410" y="0"/>
                </a:lnTo>
                <a:lnTo>
                  <a:pt x="10410" y="0"/>
                </a:lnTo>
                <a:lnTo>
                  <a:pt x="10418" y="0"/>
                </a:lnTo>
                <a:lnTo>
                  <a:pt x="10428" y="4"/>
                </a:lnTo>
                <a:lnTo>
                  <a:pt x="10434" y="8"/>
                </a:lnTo>
                <a:lnTo>
                  <a:pt x="10442" y="12"/>
                </a:lnTo>
                <a:lnTo>
                  <a:pt x="10448" y="20"/>
                </a:lnTo>
                <a:lnTo>
                  <a:pt x="10452" y="28"/>
                </a:lnTo>
                <a:lnTo>
                  <a:pt x="10454" y="36"/>
                </a:lnTo>
                <a:lnTo>
                  <a:pt x="10454" y="46"/>
                </a:lnTo>
                <a:lnTo>
                  <a:pt x="10454" y="46"/>
                </a:lnTo>
                <a:lnTo>
                  <a:pt x="10454" y="54"/>
                </a:lnTo>
                <a:lnTo>
                  <a:pt x="10452" y="62"/>
                </a:lnTo>
                <a:lnTo>
                  <a:pt x="10448" y="70"/>
                </a:lnTo>
                <a:lnTo>
                  <a:pt x="10442" y="78"/>
                </a:lnTo>
                <a:lnTo>
                  <a:pt x="10434" y="82"/>
                </a:lnTo>
                <a:lnTo>
                  <a:pt x="10428" y="86"/>
                </a:lnTo>
                <a:lnTo>
                  <a:pt x="10418" y="90"/>
                </a:lnTo>
                <a:lnTo>
                  <a:pt x="10410" y="90"/>
                </a:lnTo>
                <a:lnTo>
                  <a:pt x="10410" y="90"/>
                </a:lnTo>
                <a:close/>
                <a:moveTo>
                  <a:pt x="10228" y="90"/>
                </a:moveTo>
                <a:lnTo>
                  <a:pt x="10206" y="90"/>
                </a:lnTo>
                <a:lnTo>
                  <a:pt x="10206" y="90"/>
                </a:lnTo>
                <a:lnTo>
                  <a:pt x="10196" y="90"/>
                </a:lnTo>
                <a:lnTo>
                  <a:pt x="10188" y="86"/>
                </a:lnTo>
                <a:lnTo>
                  <a:pt x="10180" y="82"/>
                </a:lnTo>
                <a:lnTo>
                  <a:pt x="10174" y="78"/>
                </a:lnTo>
                <a:lnTo>
                  <a:pt x="10168" y="70"/>
                </a:lnTo>
                <a:lnTo>
                  <a:pt x="10164" y="62"/>
                </a:lnTo>
                <a:lnTo>
                  <a:pt x="10160" y="54"/>
                </a:lnTo>
                <a:lnTo>
                  <a:pt x="10160" y="46"/>
                </a:lnTo>
                <a:lnTo>
                  <a:pt x="10160" y="46"/>
                </a:lnTo>
                <a:lnTo>
                  <a:pt x="10160" y="36"/>
                </a:lnTo>
                <a:lnTo>
                  <a:pt x="10164" y="28"/>
                </a:lnTo>
                <a:lnTo>
                  <a:pt x="10168" y="20"/>
                </a:lnTo>
                <a:lnTo>
                  <a:pt x="10174" y="12"/>
                </a:lnTo>
                <a:lnTo>
                  <a:pt x="10180" y="8"/>
                </a:lnTo>
                <a:lnTo>
                  <a:pt x="10188" y="4"/>
                </a:lnTo>
                <a:lnTo>
                  <a:pt x="10196" y="0"/>
                </a:lnTo>
                <a:lnTo>
                  <a:pt x="10206" y="0"/>
                </a:lnTo>
                <a:lnTo>
                  <a:pt x="10228" y="0"/>
                </a:lnTo>
                <a:lnTo>
                  <a:pt x="10228" y="0"/>
                </a:lnTo>
                <a:lnTo>
                  <a:pt x="10238" y="0"/>
                </a:lnTo>
                <a:lnTo>
                  <a:pt x="10246" y="4"/>
                </a:lnTo>
                <a:lnTo>
                  <a:pt x="10254" y="8"/>
                </a:lnTo>
                <a:lnTo>
                  <a:pt x="10260" y="12"/>
                </a:lnTo>
                <a:lnTo>
                  <a:pt x="10266" y="20"/>
                </a:lnTo>
                <a:lnTo>
                  <a:pt x="10270" y="28"/>
                </a:lnTo>
                <a:lnTo>
                  <a:pt x="10272" y="36"/>
                </a:lnTo>
                <a:lnTo>
                  <a:pt x="10274" y="46"/>
                </a:lnTo>
                <a:lnTo>
                  <a:pt x="10274" y="46"/>
                </a:lnTo>
                <a:lnTo>
                  <a:pt x="10272" y="54"/>
                </a:lnTo>
                <a:lnTo>
                  <a:pt x="10270" y="62"/>
                </a:lnTo>
                <a:lnTo>
                  <a:pt x="10266" y="70"/>
                </a:lnTo>
                <a:lnTo>
                  <a:pt x="10260" y="78"/>
                </a:lnTo>
                <a:lnTo>
                  <a:pt x="10254" y="82"/>
                </a:lnTo>
                <a:lnTo>
                  <a:pt x="10246" y="86"/>
                </a:lnTo>
                <a:lnTo>
                  <a:pt x="10238" y="90"/>
                </a:lnTo>
                <a:lnTo>
                  <a:pt x="10228" y="90"/>
                </a:lnTo>
                <a:lnTo>
                  <a:pt x="10228" y="90"/>
                </a:lnTo>
                <a:close/>
                <a:moveTo>
                  <a:pt x="10046" y="90"/>
                </a:moveTo>
                <a:lnTo>
                  <a:pt x="10024" y="90"/>
                </a:lnTo>
                <a:lnTo>
                  <a:pt x="10024" y="90"/>
                </a:lnTo>
                <a:lnTo>
                  <a:pt x="10014" y="90"/>
                </a:lnTo>
                <a:lnTo>
                  <a:pt x="10006" y="86"/>
                </a:lnTo>
                <a:lnTo>
                  <a:pt x="9998" y="82"/>
                </a:lnTo>
                <a:lnTo>
                  <a:pt x="9992" y="78"/>
                </a:lnTo>
                <a:lnTo>
                  <a:pt x="9986" y="70"/>
                </a:lnTo>
                <a:lnTo>
                  <a:pt x="9982" y="62"/>
                </a:lnTo>
                <a:lnTo>
                  <a:pt x="9980" y="54"/>
                </a:lnTo>
                <a:lnTo>
                  <a:pt x="9978" y="46"/>
                </a:lnTo>
                <a:lnTo>
                  <a:pt x="9978" y="46"/>
                </a:lnTo>
                <a:lnTo>
                  <a:pt x="9980" y="36"/>
                </a:lnTo>
                <a:lnTo>
                  <a:pt x="9982" y="28"/>
                </a:lnTo>
                <a:lnTo>
                  <a:pt x="9986" y="20"/>
                </a:lnTo>
                <a:lnTo>
                  <a:pt x="9992" y="12"/>
                </a:lnTo>
                <a:lnTo>
                  <a:pt x="9998" y="8"/>
                </a:lnTo>
                <a:lnTo>
                  <a:pt x="10006" y="4"/>
                </a:lnTo>
                <a:lnTo>
                  <a:pt x="10014" y="0"/>
                </a:lnTo>
                <a:lnTo>
                  <a:pt x="10024" y="0"/>
                </a:lnTo>
                <a:lnTo>
                  <a:pt x="10046" y="0"/>
                </a:lnTo>
                <a:lnTo>
                  <a:pt x="10046" y="0"/>
                </a:lnTo>
                <a:lnTo>
                  <a:pt x="10056" y="0"/>
                </a:lnTo>
                <a:lnTo>
                  <a:pt x="10064" y="4"/>
                </a:lnTo>
                <a:lnTo>
                  <a:pt x="10072" y="8"/>
                </a:lnTo>
                <a:lnTo>
                  <a:pt x="10078" y="12"/>
                </a:lnTo>
                <a:lnTo>
                  <a:pt x="10084" y="20"/>
                </a:lnTo>
                <a:lnTo>
                  <a:pt x="10088" y="28"/>
                </a:lnTo>
                <a:lnTo>
                  <a:pt x="10092" y="36"/>
                </a:lnTo>
                <a:lnTo>
                  <a:pt x="10092" y="46"/>
                </a:lnTo>
                <a:lnTo>
                  <a:pt x="10092" y="46"/>
                </a:lnTo>
                <a:lnTo>
                  <a:pt x="10092" y="54"/>
                </a:lnTo>
                <a:lnTo>
                  <a:pt x="10088" y="62"/>
                </a:lnTo>
                <a:lnTo>
                  <a:pt x="10084" y="70"/>
                </a:lnTo>
                <a:lnTo>
                  <a:pt x="10078" y="78"/>
                </a:lnTo>
                <a:lnTo>
                  <a:pt x="10072" y="82"/>
                </a:lnTo>
                <a:lnTo>
                  <a:pt x="10064" y="86"/>
                </a:lnTo>
                <a:lnTo>
                  <a:pt x="10056" y="90"/>
                </a:lnTo>
                <a:lnTo>
                  <a:pt x="10046" y="90"/>
                </a:lnTo>
                <a:lnTo>
                  <a:pt x="10046" y="90"/>
                </a:lnTo>
                <a:close/>
                <a:moveTo>
                  <a:pt x="9866" y="90"/>
                </a:moveTo>
                <a:lnTo>
                  <a:pt x="9842" y="90"/>
                </a:lnTo>
                <a:lnTo>
                  <a:pt x="9842" y="90"/>
                </a:lnTo>
                <a:lnTo>
                  <a:pt x="9834" y="90"/>
                </a:lnTo>
                <a:lnTo>
                  <a:pt x="9824" y="86"/>
                </a:lnTo>
                <a:lnTo>
                  <a:pt x="9818" y="82"/>
                </a:lnTo>
                <a:lnTo>
                  <a:pt x="9810" y="78"/>
                </a:lnTo>
                <a:lnTo>
                  <a:pt x="9804" y="70"/>
                </a:lnTo>
                <a:lnTo>
                  <a:pt x="9800" y="62"/>
                </a:lnTo>
                <a:lnTo>
                  <a:pt x="9798" y="54"/>
                </a:lnTo>
                <a:lnTo>
                  <a:pt x="9798" y="46"/>
                </a:lnTo>
                <a:lnTo>
                  <a:pt x="9798" y="46"/>
                </a:lnTo>
                <a:lnTo>
                  <a:pt x="9798" y="36"/>
                </a:lnTo>
                <a:lnTo>
                  <a:pt x="9800" y="28"/>
                </a:lnTo>
                <a:lnTo>
                  <a:pt x="9804" y="20"/>
                </a:lnTo>
                <a:lnTo>
                  <a:pt x="9810" y="12"/>
                </a:lnTo>
                <a:lnTo>
                  <a:pt x="9818" y="8"/>
                </a:lnTo>
                <a:lnTo>
                  <a:pt x="9824" y="4"/>
                </a:lnTo>
                <a:lnTo>
                  <a:pt x="9834" y="0"/>
                </a:lnTo>
                <a:lnTo>
                  <a:pt x="9842" y="0"/>
                </a:lnTo>
                <a:lnTo>
                  <a:pt x="9866" y="0"/>
                </a:lnTo>
                <a:lnTo>
                  <a:pt x="9866" y="0"/>
                </a:lnTo>
                <a:lnTo>
                  <a:pt x="9874" y="0"/>
                </a:lnTo>
                <a:lnTo>
                  <a:pt x="9882" y="4"/>
                </a:lnTo>
                <a:lnTo>
                  <a:pt x="9890" y="8"/>
                </a:lnTo>
                <a:lnTo>
                  <a:pt x="9898" y="12"/>
                </a:lnTo>
                <a:lnTo>
                  <a:pt x="9902" y="20"/>
                </a:lnTo>
                <a:lnTo>
                  <a:pt x="9906" y="28"/>
                </a:lnTo>
                <a:lnTo>
                  <a:pt x="9910" y="36"/>
                </a:lnTo>
                <a:lnTo>
                  <a:pt x="9910" y="46"/>
                </a:lnTo>
                <a:lnTo>
                  <a:pt x="9910" y="46"/>
                </a:lnTo>
                <a:lnTo>
                  <a:pt x="9910" y="54"/>
                </a:lnTo>
                <a:lnTo>
                  <a:pt x="9906" y="62"/>
                </a:lnTo>
                <a:lnTo>
                  <a:pt x="9902" y="70"/>
                </a:lnTo>
                <a:lnTo>
                  <a:pt x="9898" y="78"/>
                </a:lnTo>
                <a:lnTo>
                  <a:pt x="9890" y="82"/>
                </a:lnTo>
                <a:lnTo>
                  <a:pt x="9882" y="86"/>
                </a:lnTo>
                <a:lnTo>
                  <a:pt x="9874" y="90"/>
                </a:lnTo>
                <a:lnTo>
                  <a:pt x="9866" y="90"/>
                </a:lnTo>
                <a:lnTo>
                  <a:pt x="9866" y="90"/>
                </a:lnTo>
                <a:close/>
                <a:moveTo>
                  <a:pt x="9684" y="90"/>
                </a:moveTo>
                <a:lnTo>
                  <a:pt x="9662" y="90"/>
                </a:lnTo>
                <a:lnTo>
                  <a:pt x="9662" y="90"/>
                </a:lnTo>
                <a:lnTo>
                  <a:pt x="9652" y="90"/>
                </a:lnTo>
                <a:lnTo>
                  <a:pt x="9644" y="86"/>
                </a:lnTo>
                <a:lnTo>
                  <a:pt x="9636" y="82"/>
                </a:lnTo>
                <a:lnTo>
                  <a:pt x="9628" y="78"/>
                </a:lnTo>
                <a:lnTo>
                  <a:pt x="9624" y="70"/>
                </a:lnTo>
                <a:lnTo>
                  <a:pt x="9620" y="62"/>
                </a:lnTo>
                <a:lnTo>
                  <a:pt x="9616" y="54"/>
                </a:lnTo>
                <a:lnTo>
                  <a:pt x="9616" y="46"/>
                </a:lnTo>
                <a:lnTo>
                  <a:pt x="9616" y="46"/>
                </a:lnTo>
                <a:lnTo>
                  <a:pt x="9616" y="36"/>
                </a:lnTo>
                <a:lnTo>
                  <a:pt x="9620" y="28"/>
                </a:lnTo>
                <a:lnTo>
                  <a:pt x="9624" y="20"/>
                </a:lnTo>
                <a:lnTo>
                  <a:pt x="9628" y="12"/>
                </a:lnTo>
                <a:lnTo>
                  <a:pt x="9636" y="8"/>
                </a:lnTo>
                <a:lnTo>
                  <a:pt x="9644" y="4"/>
                </a:lnTo>
                <a:lnTo>
                  <a:pt x="9652" y="0"/>
                </a:lnTo>
                <a:lnTo>
                  <a:pt x="9662" y="0"/>
                </a:lnTo>
                <a:lnTo>
                  <a:pt x="9684" y="0"/>
                </a:lnTo>
                <a:lnTo>
                  <a:pt x="9684" y="0"/>
                </a:lnTo>
                <a:lnTo>
                  <a:pt x="9692" y="0"/>
                </a:lnTo>
                <a:lnTo>
                  <a:pt x="9702" y="4"/>
                </a:lnTo>
                <a:lnTo>
                  <a:pt x="9710" y="8"/>
                </a:lnTo>
                <a:lnTo>
                  <a:pt x="9716" y="12"/>
                </a:lnTo>
                <a:lnTo>
                  <a:pt x="9722" y="20"/>
                </a:lnTo>
                <a:lnTo>
                  <a:pt x="9726" y="28"/>
                </a:lnTo>
                <a:lnTo>
                  <a:pt x="9728" y="36"/>
                </a:lnTo>
                <a:lnTo>
                  <a:pt x="9730" y="46"/>
                </a:lnTo>
                <a:lnTo>
                  <a:pt x="9730" y="46"/>
                </a:lnTo>
                <a:lnTo>
                  <a:pt x="9728" y="54"/>
                </a:lnTo>
                <a:lnTo>
                  <a:pt x="9726" y="62"/>
                </a:lnTo>
                <a:lnTo>
                  <a:pt x="9722" y="70"/>
                </a:lnTo>
                <a:lnTo>
                  <a:pt x="9716" y="78"/>
                </a:lnTo>
                <a:lnTo>
                  <a:pt x="9710" y="82"/>
                </a:lnTo>
                <a:lnTo>
                  <a:pt x="9702" y="86"/>
                </a:lnTo>
                <a:lnTo>
                  <a:pt x="9692" y="90"/>
                </a:lnTo>
                <a:lnTo>
                  <a:pt x="9684" y="90"/>
                </a:lnTo>
                <a:lnTo>
                  <a:pt x="9684" y="90"/>
                </a:lnTo>
                <a:close/>
                <a:moveTo>
                  <a:pt x="9502" y="90"/>
                </a:moveTo>
                <a:lnTo>
                  <a:pt x="9480" y="90"/>
                </a:lnTo>
                <a:lnTo>
                  <a:pt x="9480" y="90"/>
                </a:lnTo>
                <a:lnTo>
                  <a:pt x="9470" y="90"/>
                </a:lnTo>
                <a:lnTo>
                  <a:pt x="9462" y="86"/>
                </a:lnTo>
                <a:lnTo>
                  <a:pt x="9454" y="82"/>
                </a:lnTo>
                <a:lnTo>
                  <a:pt x="9448" y="78"/>
                </a:lnTo>
                <a:lnTo>
                  <a:pt x="9442" y="70"/>
                </a:lnTo>
                <a:lnTo>
                  <a:pt x="9438" y="62"/>
                </a:lnTo>
                <a:lnTo>
                  <a:pt x="9436" y="54"/>
                </a:lnTo>
                <a:lnTo>
                  <a:pt x="9434" y="46"/>
                </a:lnTo>
                <a:lnTo>
                  <a:pt x="9434" y="46"/>
                </a:lnTo>
                <a:lnTo>
                  <a:pt x="9436" y="36"/>
                </a:lnTo>
                <a:lnTo>
                  <a:pt x="9438" y="28"/>
                </a:lnTo>
                <a:lnTo>
                  <a:pt x="9442" y="20"/>
                </a:lnTo>
                <a:lnTo>
                  <a:pt x="9448" y="12"/>
                </a:lnTo>
                <a:lnTo>
                  <a:pt x="9454" y="8"/>
                </a:lnTo>
                <a:lnTo>
                  <a:pt x="9462" y="4"/>
                </a:lnTo>
                <a:lnTo>
                  <a:pt x="9470" y="0"/>
                </a:lnTo>
                <a:lnTo>
                  <a:pt x="9480" y="0"/>
                </a:lnTo>
                <a:lnTo>
                  <a:pt x="9502" y="0"/>
                </a:lnTo>
                <a:lnTo>
                  <a:pt x="9502" y="0"/>
                </a:lnTo>
                <a:lnTo>
                  <a:pt x="9512" y="0"/>
                </a:lnTo>
                <a:lnTo>
                  <a:pt x="9520" y="4"/>
                </a:lnTo>
                <a:lnTo>
                  <a:pt x="9528" y="8"/>
                </a:lnTo>
                <a:lnTo>
                  <a:pt x="9534" y="12"/>
                </a:lnTo>
                <a:lnTo>
                  <a:pt x="9540" y="20"/>
                </a:lnTo>
                <a:lnTo>
                  <a:pt x="9544" y="28"/>
                </a:lnTo>
                <a:lnTo>
                  <a:pt x="9546" y="36"/>
                </a:lnTo>
                <a:lnTo>
                  <a:pt x="9548" y="46"/>
                </a:lnTo>
                <a:lnTo>
                  <a:pt x="9548" y="46"/>
                </a:lnTo>
                <a:lnTo>
                  <a:pt x="9546" y="54"/>
                </a:lnTo>
                <a:lnTo>
                  <a:pt x="9544" y="62"/>
                </a:lnTo>
                <a:lnTo>
                  <a:pt x="9540" y="70"/>
                </a:lnTo>
                <a:lnTo>
                  <a:pt x="9534" y="78"/>
                </a:lnTo>
                <a:lnTo>
                  <a:pt x="9528" y="82"/>
                </a:lnTo>
                <a:lnTo>
                  <a:pt x="9520" y="86"/>
                </a:lnTo>
                <a:lnTo>
                  <a:pt x="9512" y="90"/>
                </a:lnTo>
                <a:lnTo>
                  <a:pt x="9502" y="90"/>
                </a:lnTo>
                <a:lnTo>
                  <a:pt x="9502" y="90"/>
                </a:lnTo>
                <a:close/>
                <a:moveTo>
                  <a:pt x="9320" y="90"/>
                </a:moveTo>
                <a:lnTo>
                  <a:pt x="9298" y="90"/>
                </a:lnTo>
                <a:lnTo>
                  <a:pt x="9298" y="90"/>
                </a:lnTo>
                <a:lnTo>
                  <a:pt x="9290" y="90"/>
                </a:lnTo>
                <a:lnTo>
                  <a:pt x="9280" y="86"/>
                </a:lnTo>
                <a:lnTo>
                  <a:pt x="9272" y="82"/>
                </a:lnTo>
                <a:lnTo>
                  <a:pt x="9266" y="78"/>
                </a:lnTo>
                <a:lnTo>
                  <a:pt x="9260" y="70"/>
                </a:lnTo>
                <a:lnTo>
                  <a:pt x="9256" y="62"/>
                </a:lnTo>
                <a:lnTo>
                  <a:pt x="9254" y="54"/>
                </a:lnTo>
                <a:lnTo>
                  <a:pt x="9252" y="46"/>
                </a:lnTo>
                <a:lnTo>
                  <a:pt x="9252" y="46"/>
                </a:lnTo>
                <a:lnTo>
                  <a:pt x="9254" y="36"/>
                </a:lnTo>
                <a:lnTo>
                  <a:pt x="9256" y="28"/>
                </a:lnTo>
                <a:lnTo>
                  <a:pt x="9260" y="20"/>
                </a:lnTo>
                <a:lnTo>
                  <a:pt x="9266" y="12"/>
                </a:lnTo>
                <a:lnTo>
                  <a:pt x="9272" y="8"/>
                </a:lnTo>
                <a:lnTo>
                  <a:pt x="9280" y="4"/>
                </a:lnTo>
                <a:lnTo>
                  <a:pt x="9290" y="0"/>
                </a:lnTo>
                <a:lnTo>
                  <a:pt x="9298" y="0"/>
                </a:lnTo>
                <a:lnTo>
                  <a:pt x="9320" y="0"/>
                </a:lnTo>
                <a:lnTo>
                  <a:pt x="9320" y="0"/>
                </a:lnTo>
                <a:lnTo>
                  <a:pt x="9330" y="0"/>
                </a:lnTo>
                <a:lnTo>
                  <a:pt x="9338" y="4"/>
                </a:lnTo>
                <a:lnTo>
                  <a:pt x="9346" y="8"/>
                </a:lnTo>
                <a:lnTo>
                  <a:pt x="9352" y="12"/>
                </a:lnTo>
                <a:lnTo>
                  <a:pt x="9358" y="20"/>
                </a:lnTo>
                <a:lnTo>
                  <a:pt x="9362" y="28"/>
                </a:lnTo>
                <a:lnTo>
                  <a:pt x="9366" y="36"/>
                </a:lnTo>
                <a:lnTo>
                  <a:pt x="9366" y="46"/>
                </a:lnTo>
                <a:lnTo>
                  <a:pt x="9366" y="46"/>
                </a:lnTo>
                <a:lnTo>
                  <a:pt x="9366" y="54"/>
                </a:lnTo>
                <a:lnTo>
                  <a:pt x="9362" y="62"/>
                </a:lnTo>
                <a:lnTo>
                  <a:pt x="9358" y="70"/>
                </a:lnTo>
                <a:lnTo>
                  <a:pt x="9352" y="78"/>
                </a:lnTo>
                <a:lnTo>
                  <a:pt x="9346" y="82"/>
                </a:lnTo>
                <a:lnTo>
                  <a:pt x="9338" y="86"/>
                </a:lnTo>
                <a:lnTo>
                  <a:pt x="9330" y="90"/>
                </a:lnTo>
                <a:lnTo>
                  <a:pt x="9320" y="90"/>
                </a:lnTo>
                <a:lnTo>
                  <a:pt x="9320" y="90"/>
                </a:lnTo>
                <a:close/>
                <a:moveTo>
                  <a:pt x="9140" y="90"/>
                </a:moveTo>
                <a:lnTo>
                  <a:pt x="9116" y="90"/>
                </a:lnTo>
                <a:lnTo>
                  <a:pt x="9116" y="90"/>
                </a:lnTo>
                <a:lnTo>
                  <a:pt x="9108" y="90"/>
                </a:lnTo>
                <a:lnTo>
                  <a:pt x="9100" y="86"/>
                </a:lnTo>
                <a:lnTo>
                  <a:pt x="9092" y="82"/>
                </a:lnTo>
                <a:lnTo>
                  <a:pt x="9084" y="78"/>
                </a:lnTo>
                <a:lnTo>
                  <a:pt x="9080" y="70"/>
                </a:lnTo>
                <a:lnTo>
                  <a:pt x="9076" y="62"/>
                </a:lnTo>
                <a:lnTo>
                  <a:pt x="9072" y="54"/>
                </a:lnTo>
                <a:lnTo>
                  <a:pt x="9072" y="46"/>
                </a:lnTo>
                <a:lnTo>
                  <a:pt x="9072" y="46"/>
                </a:lnTo>
                <a:lnTo>
                  <a:pt x="9072" y="36"/>
                </a:lnTo>
                <a:lnTo>
                  <a:pt x="9076" y="28"/>
                </a:lnTo>
                <a:lnTo>
                  <a:pt x="9080" y="20"/>
                </a:lnTo>
                <a:lnTo>
                  <a:pt x="9084" y="12"/>
                </a:lnTo>
                <a:lnTo>
                  <a:pt x="9092" y="8"/>
                </a:lnTo>
                <a:lnTo>
                  <a:pt x="9100" y="4"/>
                </a:lnTo>
                <a:lnTo>
                  <a:pt x="9108" y="0"/>
                </a:lnTo>
                <a:lnTo>
                  <a:pt x="9116" y="0"/>
                </a:lnTo>
                <a:lnTo>
                  <a:pt x="9140" y="0"/>
                </a:lnTo>
                <a:lnTo>
                  <a:pt x="9140" y="0"/>
                </a:lnTo>
                <a:lnTo>
                  <a:pt x="9148" y="0"/>
                </a:lnTo>
                <a:lnTo>
                  <a:pt x="9158" y="4"/>
                </a:lnTo>
                <a:lnTo>
                  <a:pt x="9164" y="8"/>
                </a:lnTo>
                <a:lnTo>
                  <a:pt x="9172" y="12"/>
                </a:lnTo>
                <a:lnTo>
                  <a:pt x="9178" y="20"/>
                </a:lnTo>
                <a:lnTo>
                  <a:pt x="9182" y="28"/>
                </a:lnTo>
                <a:lnTo>
                  <a:pt x="9184" y="36"/>
                </a:lnTo>
                <a:lnTo>
                  <a:pt x="9184" y="46"/>
                </a:lnTo>
                <a:lnTo>
                  <a:pt x="9184" y="46"/>
                </a:lnTo>
                <a:lnTo>
                  <a:pt x="9184" y="54"/>
                </a:lnTo>
                <a:lnTo>
                  <a:pt x="9182" y="62"/>
                </a:lnTo>
                <a:lnTo>
                  <a:pt x="9178" y="70"/>
                </a:lnTo>
                <a:lnTo>
                  <a:pt x="9172" y="78"/>
                </a:lnTo>
                <a:lnTo>
                  <a:pt x="9164" y="82"/>
                </a:lnTo>
                <a:lnTo>
                  <a:pt x="9158" y="86"/>
                </a:lnTo>
                <a:lnTo>
                  <a:pt x="9148" y="90"/>
                </a:lnTo>
                <a:lnTo>
                  <a:pt x="9140" y="90"/>
                </a:lnTo>
                <a:lnTo>
                  <a:pt x="9140" y="90"/>
                </a:lnTo>
                <a:close/>
                <a:moveTo>
                  <a:pt x="8958" y="90"/>
                </a:moveTo>
                <a:lnTo>
                  <a:pt x="8936" y="90"/>
                </a:lnTo>
                <a:lnTo>
                  <a:pt x="8936" y="90"/>
                </a:lnTo>
                <a:lnTo>
                  <a:pt x="8926" y="90"/>
                </a:lnTo>
                <a:lnTo>
                  <a:pt x="8918" y="86"/>
                </a:lnTo>
                <a:lnTo>
                  <a:pt x="8910" y="82"/>
                </a:lnTo>
                <a:lnTo>
                  <a:pt x="8904" y="78"/>
                </a:lnTo>
                <a:lnTo>
                  <a:pt x="8898" y="70"/>
                </a:lnTo>
                <a:lnTo>
                  <a:pt x="8894" y="62"/>
                </a:lnTo>
                <a:lnTo>
                  <a:pt x="8890" y="54"/>
                </a:lnTo>
                <a:lnTo>
                  <a:pt x="8890" y="46"/>
                </a:lnTo>
                <a:lnTo>
                  <a:pt x="8890" y="46"/>
                </a:lnTo>
                <a:lnTo>
                  <a:pt x="8890" y="36"/>
                </a:lnTo>
                <a:lnTo>
                  <a:pt x="8894" y="28"/>
                </a:lnTo>
                <a:lnTo>
                  <a:pt x="8898" y="20"/>
                </a:lnTo>
                <a:lnTo>
                  <a:pt x="8904" y="12"/>
                </a:lnTo>
                <a:lnTo>
                  <a:pt x="8910" y="8"/>
                </a:lnTo>
                <a:lnTo>
                  <a:pt x="8918" y="4"/>
                </a:lnTo>
                <a:lnTo>
                  <a:pt x="8926" y="0"/>
                </a:lnTo>
                <a:lnTo>
                  <a:pt x="8936" y="0"/>
                </a:lnTo>
                <a:lnTo>
                  <a:pt x="8958" y="0"/>
                </a:lnTo>
                <a:lnTo>
                  <a:pt x="8958" y="0"/>
                </a:lnTo>
                <a:lnTo>
                  <a:pt x="8968" y="0"/>
                </a:lnTo>
                <a:lnTo>
                  <a:pt x="8976" y="4"/>
                </a:lnTo>
                <a:lnTo>
                  <a:pt x="8984" y="8"/>
                </a:lnTo>
                <a:lnTo>
                  <a:pt x="8990" y="12"/>
                </a:lnTo>
                <a:lnTo>
                  <a:pt x="8996" y="20"/>
                </a:lnTo>
                <a:lnTo>
                  <a:pt x="9000" y="28"/>
                </a:lnTo>
                <a:lnTo>
                  <a:pt x="9002" y="36"/>
                </a:lnTo>
                <a:lnTo>
                  <a:pt x="9004" y="46"/>
                </a:lnTo>
                <a:lnTo>
                  <a:pt x="9004" y="46"/>
                </a:lnTo>
                <a:lnTo>
                  <a:pt x="9002" y="54"/>
                </a:lnTo>
                <a:lnTo>
                  <a:pt x="9000" y="62"/>
                </a:lnTo>
                <a:lnTo>
                  <a:pt x="8996" y="70"/>
                </a:lnTo>
                <a:lnTo>
                  <a:pt x="8990" y="78"/>
                </a:lnTo>
                <a:lnTo>
                  <a:pt x="8984" y="82"/>
                </a:lnTo>
                <a:lnTo>
                  <a:pt x="8976" y="86"/>
                </a:lnTo>
                <a:lnTo>
                  <a:pt x="8968" y="90"/>
                </a:lnTo>
                <a:lnTo>
                  <a:pt x="8958" y="90"/>
                </a:lnTo>
                <a:lnTo>
                  <a:pt x="8958" y="90"/>
                </a:lnTo>
                <a:close/>
                <a:moveTo>
                  <a:pt x="8776" y="90"/>
                </a:moveTo>
                <a:lnTo>
                  <a:pt x="8754" y="90"/>
                </a:lnTo>
                <a:lnTo>
                  <a:pt x="8754" y="90"/>
                </a:lnTo>
                <a:lnTo>
                  <a:pt x="8744" y="90"/>
                </a:lnTo>
                <a:lnTo>
                  <a:pt x="8736" y="86"/>
                </a:lnTo>
                <a:lnTo>
                  <a:pt x="8728" y="82"/>
                </a:lnTo>
                <a:lnTo>
                  <a:pt x="8722" y="78"/>
                </a:lnTo>
                <a:lnTo>
                  <a:pt x="8716" y="70"/>
                </a:lnTo>
                <a:lnTo>
                  <a:pt x="8712" y="62"/>
                </a:lnTo>
                <a:lnTo>
                  <a:pt x="8710" y="54"/>
                </a:lnTo>
                <a:lnTo>
                  <a:pt x="8708" y="46"/>
                </a:lnTo>
                <a:lnTo>
                  <a:pt x="8708" y="46"/>
                </a:lnTo>
                <a:lnTo>
                  <a:pt x="8710" y="36"/>
                </a:lnTo>
                <a:lnTo>
                  <a:pt x="8712" y="28"/>
                </a:lnTo>
                <a:lnTo>
                  <a:pt x="8716" y="20"/>
                </a:lnTo>
                <a:lnTo>
                  <a:pt x="8722" y="12"/>
                </a:lnTo>
                <a:lnTo>
                  <a:pt x="8728" y="8"/>
                </a:lnTo>
                <a:lnTo>
                  <a:pt x="8736" y="4"/>
                </a:lnTo>
                <a:lnTo>
                  <a:pt x="8744" y="0"/>
                </a:lnTo>
                <a:lnTo>
                  <a:pt x="8754" y="0"/>
                </a:lnTo>
                <a:lnTo>
                  <a:pt x="8776" y="0"/>
                </a:lnTo>
                <a:lnTo>
                  <a:pt x="8776" y="0"/>
                </a:lnTo>
                <a:lnTo>
                  <a:pt x="8786" y="0"/>
                </a:lnTo>
                <a:lnTo>
                  <a:pt x="8794" y="4"/>
                </a:lnTo>
                <a:lnTo>
                  <a:pt x="8802" y="8"/>
                </a:lnTo>
                <a:lnTo>
                  <a:pt x="8808" y="12"/>
                </a:lnTo>
                <a:lnTo>
                  <a:pt x="8814" y="20"/>
                </a:lnTo>
                <a:lnTo>
                  <a:pt x="8818" y="28"/>
                </a:lnTo>
                <a:lnTo>
                  <a:pt x="8822" y="36"/>
                </a:lnTo>
                <a:lnTo>
                  <a:pt x="8822" y="46"/>
                </a:lnTo>
                <a:lnTo>
                  <a:pt x="8822" y="46"/>
                </a:lnTo>
                <a:lnTo>
                  <a:pt x="8822" y="54"/>
                </a:lnTo>
                <a:lnTo>
                  <a:pt x="8818" y="62"/>
                </a:lnTo>
                <a:lnTo>
                  <a:pt x="8814" y="70"/>
                </a:lnTo>
                <a:lnTo>
                  <a:pt x="8808" y="78"/>
                </a:lnTo>
                <a:lnTo>
                  <a:pt x="8802" y="82"/>
                </a:lnTo>
                <a:lnTo>
                  <a:pt x="8794" y="86"/>
                </a:lnTo>
                <a:lnTo>
                  <a:pt x="8786" y="90"/>
                </a:lnTo>
                <a:lnTo>
                  <a:pt x="8776" y="90"/>
                </a:lnTo>
                <a:lnTo>
                  <a:pt x="8776" y="90"/>
                </a:lnTo>
                <a:close/>
                <a:moveTo>
                  <a:pt x="8596" y="90"/>
                </a:moveTo>
                <a:lnTo>
                  <a:pt x="8572" y="90"/>
                </a:lnTo>
                <a:lnTo>
                  <a:pt x="8572" y="90"/>
                </a:lnTo>
                <a:lnTo>
                  <a:pt x="8564" y="90"/>
                </a:lnTo>
                <a:lnTo>
                  <a:pt x="8554" y="86"/>
                </a:lnTo>
                <a:lnTo>
                  <a:pt x="8548" y="82"/>
                </a:lnTo>
                <a:lnTo>
                  <a:pt x="8540" y="78"/>
                </a:lnTo>
                <a:lnTo>
                  <a:pt x="8534" y="70"/>
                </a:lnTo>
                <a:lnTo>
                  <a:pt x="8530" y="62"/>
                </a:lnTo>
                <a:lnTo>
                  <a:pt x="8528" y="54"/>
                </a:lnTo>
                <a:lnTo>
                  <a:pt x="8528" y="46"/>
                </a:lnTo>
                <a:lnTo>
                  <a:pt x="8528" y="46"/>
                </a:lnTo>
                <a:lnTo>
                  <a:pt x="8528" y="36"/>
                </a:lnTo>
                <a:lnTo>
                  <a:pt x="8530" y="28"/>
                </a:lnTo>
                <a:lnTo>
                  <a:pt x="8534" y="20"/>
                </a:lnTo>
                <a:lnTo>
                  <a:pt x="8540" y="12"/>
                </a:lnTo>
                <a:lnTo>
                  <a:pt x="8548" y="8"/>
                </a:lnTo>
                <a:lnTo>
                  <a:pt x="8554" y="4"/>
                </a:lnTo>
                <a:lnTo>
                  <a:pt x="8564" y="0"/>
                </a:lnTo>
                <a:lnTo>
                  <a:pt x="8572" y="0"/>
                </a:lnTo>
                <a:lnTo>
                  <a:pt x="8596" y="0"/>
                </a:lnTo>
                <a:lnTo>
                  <a:pt x="8596" y="0"/>
                </a:lnTo>
                <a:lnTo>
                  <a:pt x="8604" y="0"/>
                </a:lnTo>
                <a:lnTo>
                  <a:pt x="8612" y="4"/>
                </a:lnTo>
                <a:lnTo>
                  <a:pt x="8620" y="8"/>
                </a:lnTo>
                <a:lnTo>
                  <a:pt x="8628" y="12"/>
                </a:lnTo>
                <a:lnTo>
                  <a:pt x="8632" y="20"/>
                </a:lnTo>
                <a:lnTo>
                  <a:pt x="8638" y="28"/>
                </a:lnTo>
                <a:lnTo>
                  <a:pt x="8640" y="36"/>
                </a:lnTo>
                <a:lnTo>
                  <a:pt x="8640" y="46"/>
                </a:lnTo>
                <a:lnTo>
                  <a:pt x="8640" y="46"/>
                </a:lnTo>
                <a:lnTo>
                  <a:pt x="8640" y="54"/>
                </a:lnTo>
                <a:lnTo>
                  <a:pt x="8638" y="62"/>
                </a:lnTo>
                <a:lnTo>
                  <a:pt x="8632" y="70"/>
                </a:lnTo>
                <a:lnTo>
                  <a:pt x="8628" y="78"/>
                </a:lnTo>
                <a:lnTo>
                  <a:pt x="8620" y="82"/>
                </a:lnTo>
                <a:lnTo>
                  <a:pt x="8612" y="86"/>
                </a:lnTo>
                <a:lnTo>
                  <a:pt x="8604" y="90"/>
                </a:lnTo>
                <a:lnTo>
                  <a:pt x="8596" y="90"/>
                </a:lnTo>
                <a:lnTo>
                  <a:pt x="8596" y="90"/>
                </a:lnTo>
                <a:close/>
                <a:moveTo>
                  <a:pt x="8414" y="90"/>
                </a:moveTo>
                <a:lnTo>
                  <a:pt x="8392" y="90"/>
                </a:lnTo>
                <a:lnTo>
                  <a:pt x="8392" y="90"/>
                </a:lnTo>
                <a:lnTo>
                  <a:pt x="8382" y="90"/>
                </a:lnTo>
                <a:lnTo>
                  <a:pt x="8374" y="86"/>
                </a:lnTo>
                <a:lnTo>
                  <a:pt x="8366" y="82"/>
                </a:lnTo>
                <a:lnTo>
                  <a:pt x="8360" y="78"/>
                </a:lnTo>
                <a:lnTo>
                  <a:pt x="8354" y="70"/>
                </a:lnTo>
                <a:lnTo>
                  <a:pt x="8350" y="62"/>
                </a:lnTo>
                <a:lnTo>
                  <a:pt x="8346" y="54"/>
                </a:lnTo>
                <a:lnTo>
                  <a:pt x="8346" y="46"/>
                </a:lnTo>
                <a:lnTo>
                  <a:pt x="8346" y="46"/>
                </a:lnTo>
                <a:lnTo>
                  <a:pt x="8346" y="36"/>
                </a:lnTo>
                <a:lnTo>
                  <a:pt x="8350" y="28"/>
                </a:lnTo>
                <a:lnTo>
                  <a:pt x="8354" y="20"/>
                </a:lnTo>
                <a:lnTo>
                  <a:pt x="8360" y="12"/>
                </a:lnTo>
                <a:lnTo>
                  <a:pt x="8366" y="8"/>
                </a:lnTo>
                <a:lnTo>
                  <a:pt x="8374" y="4"/>
                </a:lnTo>
                <a:lnTo>
                  <a:pt x="8382" y="0"/>
                </a:lnTo>
                <a:lnTo>
                  <a:pt x="8392" y="0"/>
                </a:lnTo>
                <a:lnTo>
                  <a:pt x="8414" y="0"/>
                </a:lnTo>
                <a:lnTo>
                  <a:pt x="8414" y="0"/>
                </a:lnTo>
                <a:lnTo>
                  <a:pt x="8422" y="0"/>
                </a:lnTo>
                <a:lnTo>
                  <a:pt x="8432" y="4"/>
                </a:lnTo>
                <a:lnTo>
                  <a:pt x="8440" y="8"/>
                </a:lnTo>
                <a:lnTo>
                  <a:pt x="8446" y="12"/>
                </a:lnTo>
                <a:lnTo>
                  <a:pt x="8452" y="20"/>
                </a:lnTo>
                <a:lnTo>
                  <a:pt x="8456" y="28"/>
                </a:lnTo>
                <a:lnTo>
                  <a:pt x="8458" y="36"/>
                </a:lnTo>
                <a:lnTo>
                  <a:pt x="8460" y="46"/>
                </a:lnTo>
                <a:lnTo>
                  <a:pt x="8460" y="46"/>
                </a:lnTo>
                <a:lnTo>
                  <a:pt x="8458" y="54"/>
                </a:lnTo>
                <a:lnTo>
                  <a:pt x="8456" y="62"/>
                </a:lnTo>
                <a:lnTo>
                  <a:pt x="8452" y="70"/>
                </a:lnTo>
                <a:lnTo>
                  <a:pt x="8446" y="78"/>
                </a:lnTo>
                <a:lnTo>
                  <a:pt x="8440" y="82"/>
                </a:lnTo>
                <a:lnTo>
                  <a:pt x="8432" y="86"/>
                </a:lnTo>
                <a:lnTo>
                  <a:pt x="8422" y="90"/>
                </a:lnTo>
                <a:lnTo>
                  <a:pt x="8414" y="90"/>
                </a:lnTo>
                <a:lnTo>
                  <a:pt x="8414" y="90"/>
                </a:lnTo>
                <a:close/>
                <a:moveTo>
                  <a:pt x="8232" y="90"/>
                </a:moveTo>
                <a:lnTo>
                  <a:pt x="8210" y="90"/>
                </a:lnTo>
                <a:lnTo>
                  <a:pt x="8210" y="90"/>
                </a:lnTo>
                <a:lnTo>
                  <a:pt x="8200" y="90"/>
                </a:lnTo>
                <a:lnTo>
                  <a:pt x="8192" y="86"/>
                </a:lnTo>
                <a:lnTo>
                  <a:pt x="8184" y="82"/>
                </a:lnTo>
                <a:lnTo>
                  <a:pt x="8178" y="78"/>
                </a:lnTo>
                <a:lnTo>
                  <a:pt x="8172" y="70"/>
                </a:lnTo>
                <a:lnTo>
                  <a:pt x="8168" y="62"/>
                </a:lnTo>
                <a:lnTo>
                  <a:pt x="8166" y="54"/>
                </a:lnTo>
                <a:lnTo>
                  <a:pt x="8164" y="46"/>
                </a:lnTo>
                <a:lnTo>
                  <a:pt x="8164" y="46"/>
                </a:lnTo>
                <a:lnTo>
                  <a:pt x="8166" y="36"/>
                </a:lnTo>
                <a:lnTo>
                  <a:pt x="8168" y="28"/>
                </a:lnTo>
                <a:lnTo>
                  <a:pt x="8172" y="20"/>
                </a:lnTo>
                <a:lnTo>
                  <a:pt x="8178" y="12"/>
                </a:lnTo>
                <a:lnTo>
                  <a:pt x="8184" y="8"/>
                </a:lnTo>
                <a:lnTo>
                  <a:pt x="8192" y="4"/>
                </a:lnTo>
                <a:lnTo>
                  <a:pt x="8200" y="0"/>
                </a:lnTo>
                <a:lnTo>
                  <a:pt x="8210" y="0"/>
                </a:lnTo>
                <a:lnTo>
                  <a:pt x="8232" y="0"/>
                </a:lnTo>
                <a:lnTo>
                  <a:pt x="8232" y="0"/>
                </a:lnTo>
                <a:lnTo>
                  <a:pt x="8242" y="0"/>
                </a:lnTo>
                <a:lnTo>
                  <a:pt x="8250" y="4"/>
                </a:lnTo>
                <a:lnTo>
                  <a:pt x="8258" y="8"/>
                </a:lnTo>
                <a:lnTo>
                  <a:pt x="8264" y="12"/>
                </a:lnTo>
                <a:lnTo>
                  <a:pt x="8270" y="20"/>
                </a:lnTo>
                <a:lnTo>
                  <a:pt x="8274" y="28"/>
                </a:lnTo>
                <a:lnTo>
                  <a:pt x="8276" y="36"/>
                </a:lnTo>
                <a:lnTo>
                  <a:pt x="8278" y="46"/>
                </a:lnTo>
                <a:lnTo>
                  <a:pt x="8278" y="46"/>
                </a:lnTo>
                <a:lnTo>
                  <a:pt x="8276" y="54"/>
                </a:lnTo>
                <a:lnTo>
                  <a:pt x="8274" y="62"/>
                </a:lnTo>
                <a:lnTo>
                  <a:pt x="8270" y="70"/>
                </a:lnTo>
                <a:lnTo>
                  <a:pt x="8264" y="78"/>
                </a:lnTo>
                <a:lnTo>
                  <a:pt x="8258" y="82"/>
                </a:lnTo>
                <a:lnTo>
                  <a:pt x="8250" y="86"/>
                </a:lnTo>
                <a:lnTo>
                  <a:pt x="8242" y="90"/>
                </a:lnTo>
                <a:lnTo>
                  <a:pt x="8232" y="90"/>
                </a:lnTo>
                <a:lnTo>
                  <a:pt x="8232" y="90"/>
                </a:lnTo>
                <a:close/>
                <a:moveTo>
                  <a:pt x="8050" y="90"/>
                </a:moveTo>
                <a:lnTo>
                  <a:pt x="8028" y="90"/>
                </a:lnTo>
                <a:lnTo>
                  <a:pt x="8028" y="90"/>
                </a:lnTo>
                <a:lnTo>
                  <a:pt x="8020" y="90"/>
                </a:lnTo>
                <a:lnTo>
                  <a:pt x="8010" y="86"/>
                </a:lnTo>
                <a:lnTo>
                  <a:pt x="8002" y="82"/>
                </a:lnTo>
                <a:lnTo>
                  <a:pt x="7996" y="78"/>
                </a:lnTo>
                <a:lnTo>
                  <a:pt x="7990" y="70"/>
                </a:lnTo>
                <a:lnTo>
                  <a:pt x="7986" y="62"/>
                </a:lnTo>
                <a:lnTo>
                  <a:pt x="7984" y="54"/>
                </a:lnTo>
                <a:lnTo>
                  <a:pt x="7982" y="46"/>
                </a:lnTo>
                <a:lnTo>
                  <a:pt x="7982" y="46"/>
                </a:lnTo>
                <a:lnTo>
                  <a:pt x="7984" y="36"/>
                </a:lnTo>
                <a:lnTo>
                  <a:pt x="7986" y="28"/>
                </a:lnTo>
                <a:lnTo>
                  <a:pt x="7990" y="20"/>
                </a:lnTo>
                <a:lnTo>
                  <a:pt x="7996" y="12"/>
                </a:lnTo>
                <a:lnTo>
                  <a:pt x="8002" y="8"/>
                </a:lnTo>
                <a:lnTo>
                  <a:pt x="8010" y="4"/>
                </a:lnTo>
                <a:lnTo>
                  <a:pt x="8020" y="0"/>
                </a:lnTo>
                <a:lnTo>
                  <a:pt x="8028" y="0"/>
                </a:lnTo>
                <a:lnTo>
                  <a:pt x="8050" y="0"/>
                </a:lnTo>
                <a:lnTo>
                  <a:pt x="8050" y="0"/>
                </a:lnTo>
                <a:lnTo>
                  <a:pt x="8060" y="0"/>
                </a:lnTo>
                <a:lnTo>
                  <a:pt x="8068" y="4"/>
                </a:lnTo>
                <a:lnTo>
                  <a:pt x="8076" y="8"/>
                </a:lnTo>
                <a:lnTo>
                  <a:pt x="8084" y="12"/>
                </a:lnTo>
                <a:lnTo>
                  <a:pt x="8088" y="20"/>
                </a:lnTo>
                <a:lnTo>
                  <a:pt x="8092" y="28"/>
                </a:lnTo>
                <a:lnTo>
                  <a:pt x="8096" y="36"/>
                </a:lnTo>
                <a:lnTo>
                  <a:pt x="8096" y="46"/>
                </a:lnTo>
                <a:lnTo>
                  <a:pt x="8096" y="46"/>
                </a:lnTo>
                <a:lnTo>
                  <a:pt x="8096" y="54"/>
                </a:lnTo>
                <a:lnTo>
                  <a:pt x="8092" y="62"/>
                </a:lnTo>
                <a:lnTo>
                  <a:pt x="8088" y="70"/>
                </a:lnTo>
                <a:lnTo>
                  <a:pt x="8084" y="78"/>
                </a:lnTo>
                <a:lnTo>
                  <a:pt x="8076" y="82"/>
                </a:lnTo>
                <a:lnTo>
                  <a:pt x="8068" y="86"/>
                </a:lnTo>
                <a:lnTo>
                  <a:pt x="8060" y="90"/>
                </a:lnTo>
                <a:lnTo>
                  <a:pt x="8050" y="90"/>
                </a:lnTo>
                <a:lnTo>
                  <a:pt x="8050" y="90"/>
                </a:lnTo>
                <a:close/>
                <a:moveTo>
                  <a:pt x="7870" y="90"/>
                </a:moveTo>
                <a:lnTo>
                  <a:pt x="7846" y="90"/>
                </a:lnTo>
                <a:lnTo>
                  <a:pt x="7846" y="90"/>
                </a:lnTo>
                <a:lnTo>
                  <a:pt x="7838" y="90"/>
                </a:lnTo>
                <a:lnTo>
                  <a:pt x="7830" y="86"/>
                </a:lnTo>
                <a:lnTo>
                  <a:pt x="7822" y="82"/>
                </a:lnTo>
                <a:lnTo>
                  <a:pt x="7814" y="78"/>
                </a:lnTo>
                <a:lnTo>
                  <a:pt x="7810" y="70"/>
                </a:lnTo>
                <a:lnTo>
                  <a:pt x="7806" y="62"/>
                </a:lnTo>
                <a:lnTo>
                  <a:pt x="7802" y="54"/>
                </a:lnTo>
                <a:lnTo>
                  <a:pt x="7802" y="46"/>
                </a:lnTo>
                <a:lnTo>
                  <a:pt x="7802" y="46"/>
                </a:lnTo>
                <a:lnTo>
                  <a:pt x="7802" y="36"/>
                </a:lnTo>
                <a:lnTo>
                  <a:pt x="7806" y="28"/>
                </a:lnTo>
                <a:lnTo>
                  <a:pt x="7810" y="20"/>
                </a:lnTo>
                <a:lnTo>
                  <a:pt x="7814" y="12"/>
                </a:lnTo>
                <a:lnTo>
                  <a:pt x="7822" y="8"/>
                </a:lnTo>
                <a:lnTo>
                  <a:pt x="7830" y="4"/>
                </a:lnTo>
                <a:lnTo>
                  <a:pt x="7838" y="0"/>
                </a:lnTo>
                <a:lnTo>
                  <a:pt x="7846" y="0"/>
                </a:lnTo>
                <a:lnTo>
                  <a:pt x="7870" y="0"/>
                </a:lnTo>
                <a:lnTo>
                  <a:pt x="7870" y="0"/>
                </a:lnTo>
                <a:lnTo>
                  <a:pt x="7878" y="0"/>
                </a:lnTo>
                <a:lnTo>
                  <a:pt x="7888" y="4"/>
                </a:lnTo>
                <a:lnTo>
                  <a:pt x="7894" y="8"/>
                </a:lnTo>
                <a:lnTo>
                  <a:pt x="7902" y="12"/>
                </a:lnTo>
                <a:lnTo>
                  <a:pt x="7908" y="20"/>
                </a:lnTo>
                <a:lnTo>
                  <a:pt x="7912" y="28"/>
                </a:lnTo>
                <a:lnTo>
                  <a:pt x="7914" y="36"/>
                </a:lnTo>
                <a:lnTo>
                  <a:pt x="7914" y="46"/>
                </a:lnTo>
                <a:lnTo>
                  <a:pt x="7914" y="46"/>
                </a:lnTo>
                <a:lnTo>
                  <a:pt x="7914" y="54"/>
                </a:lnTo>
                <a:lnTo>
                  <a:pt x="7912" y="62"/>
                </a:lnTo>
                <a:lnTo>
                  <a:pt x="7908" y="70"/>
                </a:lnTo>
                <a:lnTo>
                  <a:pt x="7902" y="78"/>
                </a:lnTo>
                <a:lnTo>
                  <a:pt x="7894" y="82"/>
                </a:lnTo>
                <a:lnTo>
                  <a:pt x="7888" y="86"/>
                </a:lnTo>
                <a:lnTo>
                  <a:pt x="7878" y="90"/>
                </a:lnTo>
                <a:lnTo>
                  <a:pt x="7870" y="90"/>
                </a:lnTo>
                <a:lnTo>
                  <a:pt x="7870" y="90"/>
                </a:lnTo>
                <a:close/>
                <a:moveTo>
                  <a:pt x="7688" y="90"/>
                </a:moveTo>
                <a:lnTo>
                  <a:pt x="7666" y="90"/>
                </a:lnTo>
                <a:lnTo>
                  <a:pt x="7666" y="90"/>
                </a:lnTo>
                <a:lnTo>
                  <a:pt x="7656" y="90"/>
                </a:lnTo>
                <a:lnTo>
                  <a:pt x="7648" y="86"/>
                </a:lnTo>
                <a:lnTo>
                  <a:pt x="7640" y="82"/>
                </a:lnTo>
                <a:lnTo>
                  <a:pt x="7634" y="78"/>
                </a:lnTo>
                <a:lnTo>
                  <a:pt x="7628" y="70"/>
                </a:lnTo>
                <a:lnTo>
                  <a:pt x="7624" y="62"/>
                </a:lnTo>
                <a:lnTo>
                  <a:pt x="7622" y="54"/>
                </a:lnTo>
                <a:lnTo>
                  <a:pt x="7620" y="46"/>
                </a:lnTo>
                <a:lnTo>
                  <a:pt x="7620" y="46"/>
                </a:lnTo>
                <a:lnTo>
                  <a:pt x="7622" y="36"/>
                </a:lnTo>
                <a:lnTo>
                  <a:pt x="7624" y="28"/>
                </a:lnTo>
                <a:lnTo>
                  <a:pt x="7628" y="20"/>
                </a:lnTo>
                <a:lnTo>
                  <a:pt x="7634" y="12"/>
                </a:lnTo>
                <a:lnTo>
                  <a:pt x="7640" y="8"/>
                </a:lnTo>
                <a:lnTo>
                  <a:pt x="7648" y="4"/>
                </a:lnTo>
                <a:lnTo>
                  <a:pt x="7656" y="0"/>
                </a:lnTo>
                <a:lnTo>
                  <a:pt x="7666" y="0"/>
                </a:lnTo>
                <a:lnTo>
                  <a:pt x="7688" y="0"/>
                </a:lnTo>
                <a:lnTo>
                  <a:pt x="7688" y="0"/>
                </a:lnTo>
                <a:lnTo>
                  <a:pt x="7698" y="0"/>
                </a:lnTo>
                <a:lnTo>
                  <a:pt x="7706" y="4"/>
                </a:lnTo>
                <a:lnTo>
                  <a:pt x="7714" y="8"/>
                </a:lnTo>
                <a:lnTo>
                  <a:pt x="7720" y="12"/>
                </a:lnTo>
                <a:lnTo>
                  <a:pt x="7726" y="20"/>
                </a:lnTo>
                <a:lnTo>
                  <a:pt x="7730" y="28"/>
                </a:lnTo>
                <a:lnTo>
                  <a:pt x="7732" y="36"/>
                </a:lnTo>
                <a:lnTo>
                  <a:pt x="7734" y="46"/>
                </a:lnTo>
                <a:lnTo>
                  <a:pt x="7734" y="46"/>
                </a:lnTo>
                <a:lnTo>
                  <a:pt x="7732" y="54"/>
                </a:lnTo>
                <a:lnTo>
                  <a:pt x="7730" y="62"/>
                </a:lnTo>
                <a:lnTo>
                  <a:pt x="7726" y="70"/>
                </a:lnTo>
                <a:lnTo>
                  <a:pt x="7720" y="78"/>
                </a:lnTo>
                <a:lnTo>
                  <a:pt x="7714" y="82"/>
                </a:lnTo>
                <a:lnTo>
                  <a:pt x="7706" y="86"/>
                </a:lnTo>
                <a:lnTo>
                  <a:pt x="7698" y="90"/>
                </a:lnTo>
                <a:lnTo>
                  <a:pt x="7688" y="90"/>
                </a:lnTo>
                <a:lnTo>
                  <a:pt x="7688" y="90"/>
                </a:lnTo>
                <a:close/>
                <a:moveTo>
                  <a:pt x="7506" y="90"/>
                </a:moveTo>
                <a:lnTo>
                  <a:pt x="7484" y="90"/>
                </a:lnTo>
                <a:lnTo>
                  <a:pt x="7484" y="90"/>
                </a:lnTo>
                <a:lnTo>
                  <a:pt x="7474" y="90"/>
                </a:lnTo>
                <a:lnTo>
                  <a:pt x="7466" y="86"/>
                </a:lnTo>
                <a:lnTo>
                  <a:pt x="7458" y="82"/>
                </a:lnTo>
                <a:lnTo>
                  <a:pt x="7452" y="78"/>
                </a:lnTo>
                <a:lnTo>
                  <a:pt x="7446" y="70"/>
                </a:lnTo>
                <a:lnTo>
                  <a:pt x="7442" y="62"/>
                </a:lnTo>
                <a:lnTo>
                  <a:pt x="7440" y="54"/>
                </a:lnTo>
                <a:lnTo>
                  <a:pt x="7438" y="46"/>
                </a:lnTo>
                <a:lnTo>
                  <a:pt x="7438" y="46"/>
                </a:lnTo>
                <a:lnTo>
                  <a:pt x="7440" y="36"/>
                </a:lnTo>
                <a:lnTo>
                  <a:pt x="7442" y="28"/>
                </a:lnTo>
                <a:lnTo>
                  <a:pt x="7446" y="20"/>
                </a:lnTo>
                <a:lnTo>
                  <a:pt x="7452" y="12"/>
                </a:lnTo>
                <a:lnTo>
                  <a:pt x="7458" y="8"/>
                </a:lnTo>
                <a:lnTo>
                  <a:pt x="7466" y="4"/>
                </a:lnTo>
                <a:lnTo>
                  <a:pt x="7474" y="0"/>
                </a:lnTo>
                <a:lnTo>
                  <a:pt x="7484" y="0"/>
                </a:lnTo>
                <a:lnTo>
                  <a:pt x="7506" y="0"/>
                </a:lnTo>
                <a:lnTo>
                  <a:pt x="7506" y="0"/>
                </a:lnTo>
                <a:lnTo>
                  <a:pt x="7516" y="0"/>
                </a:lnTo>
                <a:lnTo>
                  <a:pt x="7524" y="4"/>
                </a:lnTo>
                <a:lnTo>
                  <a:pt x="7532" y="8"/>
                </a:lnTo>
                <a:lnTo>
                  <a:pt x="7538" y="12"/>
                </a:lnTo>
                <a:lnTo>
                  <a:pt x="7544" y="20"/>
                </a:lnTo>
                <a:lnTo>
                  <a:pt x="7548" y="28"/>
                </a:lnTo>
                <a:lnTo>
                  <a:pt x="7552" y="36"/>
                </a:lnTo>
                <a:lnTo>
                  <a:pt x="7552" y="46"/>
                </a:lnTo>
                <a:lnTo>
                  <a:pt x="7552" y="46"/>
                </a:lnTo>
                <a:lnTo>
                  <a:pt x="7552" y="54"/>
                </a:lnTo>
                <a:lnTo>
                  <a:pt x="7548" y="62"/>
                </a:lnTo>
                <a:lnTo>
                  <a:pt x="7544" y="70"/>
                </a:lnTo>
                <a:lnTo>
                  <a:pt x="7538" y="78"/>
                </a:lnTo>
                <a:lnTo>
                  <a:pt x="7532" y="82"/>
                </a:lnTo>
                <a:lnTo>
                  <a:pt x="7524" y="86"/>
                </a:lnTo>
                <a:lnTo>
                  <a:pt x="7516" y="90"/>
                </a:lnTo>
                <a:lnTo>
                  <a:pt x="7506" y="90"/>
                </a:lnTo>
                <a:lnTo>
                  <a:pt x="7506" y="90"/>
                </a:lnTo>
                <a:close/>
                <a:moveTo>
                  <a:pt x="7326" y="90"/>
                </a:moveTo>
                <a:lnTo>
                  <a:pt x="7302" y="90"/>
                </a:lnTo>
                <a:lnTo>
                  <a:pt x="7302" y="90"/>
                </a:lnTo>
                <a:lnTo>
                  <a:pt x="7294" y="90"/>
                </a:lnTo>
                <a:lnTo>
                  <a:pt x="7284" y="86"/>
                </a:lnTo>
                <a:lnTo>
                  <a:pt x="7278" y="82"/>
                </a:lnTo>
                <a:lnTo>
                  <a:pt x="7270" y="78"/>
                </a:lnTo>
                <a:lnTo>
                  <a:pt x="7266" y="70"/>
                </a:lnTo>
                <a:lnTo>
                  <a:pt x="7260" y="62"/>
                </a:lnTo>
                <a:lnTo>
                  <a:pt x="7258" y="54"/>
                </a:lnTo>
                <a:lnTo>
                  <a:pt x="7258" y="46"/>
                </a:lnTo>
                <a:lnTo>
                  <a:pt x="7258" y="46"/>
                </a:lnTo>
                <a:lnTo>
                  <a:pt x="7258" y="36"/>
                </a:lnTo>
                <a:lnTo>
                  <a:pt x="7260" y="28"/>
                </a:lnTo>
                <a:lnTo>
                  <a:pt x="7266" y="20"/>
                </a:lnTo>
                <a:lnTo>
                  <a:pt x="7270" y="12"/>
                </a:lnTo>
                <a:lnTo>
                  <a:pt x="7278" y="8"/>
                </a:lnTo>
                <a:lnTo>
                  <a:pt x="7284" y="4"/>
                </a:lnTo>
                <a:lnTo>
                  <a:pt x="7294" y="0"/>
                </a:lnTo>
                <a:lnTo>
                  <a:pt x="7302" y="0"/>
                </a:lnTo>
                <a:lnTo>
                  <a:pt x="7326" y="0"/>
                </a:lnTo>
                <a:lnTo>
                  <a:pt x="7326" y="0"/>
                </a:lnTo>
                <a:lnTo>
                  <a:pt x="7334" y="0"/>
                </a:lnTo>
                <a:lnTo>
                  <a:pt x="7342" y="4"/>
                </a:lnTo>
                <a:lnTo>
                  <a:pt x="7350" y="8"/>
                </a:lnTo>
                <a:lnTo>
                  <a:pt x="7358" y="12"/>
                </a:lnTo>
                <a:lnTo>
                  <a:pt x="7362" y="20"/>
                </a:lnTo>
                <a:lnTo>
                  <a:pt x="7368" y="28"/>
                </a:lnTo>
                <a:lnTo>
                  <a:pt x="7370" y="36"/>
                </a:lnTo>
                <a:lnTo>
                  <a:pt x="7370" y="46"/>
                </a:lnTo>
                <a:lnTo>
                  <a:pt x="7370" y="46"/>
                </a:lnTo>
                <a:lnTo>
                  <a:pt x="7370" y="54"/>
                </a:lnTo>
                <a:lnTo>
                  <a:pt x="7368" y="62"/>
                </a:lnTo>
                <a:lnTo>
                  <a:pt x="7362" y="70"/>
                </a:lnTo>
                <a:lnTo>
                  <a:pt x="7358" y="78"/>
                </a:lnTo>
                <a:lnTo>
                  <a:pt x="7350" y="82"/>
                </a:lnTo>
                <a:lnTo>
                  <a:pt x="7342" y="86"/>
                </a:lnTo>
                <a:lnTo>
                  <a:pt x="7334" y="90"/>
                </a:lnTo>
                <a:lnTo>
                  <a:pt x="7326" y="90"/>
                </a:lnTo>
                <a:lnTo>
                  <a:pt x="7326" y="90"/>
                </a:lnTo>
                <a:close/>
                <a:moveTo>
                  <a:pt x="7144" y="90"/>
                </a:moveTo>
                <a:lnTo>
                  <a:pt x="7122" y="90"/>
                </a:lnTo>
                <a:lnTo>
                  <a:pt x="7122" y="90"/>
                </a:lnTo>
                <a:lnTo>
                  <a:pt x="7112" y="90"/>
                </a:lnTo>
                <a:lnTo>
                  <a:pt x="7104" y="86"/>
                </a:lnTo>
                <a:lnTo>
                  <a:pt x="7096" y="82"/>
                </a:lnTo>
                <a:lnTo>
                  <a:pt x="7090" y="78"/>
                </a:lnTo>
                <a:lnTo>
                  <a:pt x="7084" y="70"/>
                </a:lnTo>
                <a:lnTo>
                  <a:pt x="7080" y="62"/>
                </a:lnTo>
                <a:lnTo>
                  <a:pt x="7076" y="54"/>
                </a:lnTo>
                <a:lnTo>
                  <a:pt x="7076" y="46"/>
                </a:lnTo>
                <a:lnTo>
                  <a:pt x="7076" y="46"/>
                </a:lnTo>
                <a:lnTo>
                  <a:pt x="7076" y="36"/>
                </a:lnTo>
                <a:lnTo>
                  <a:pt x="7080" y="28"/>
                </a:lnTo>
                <a:lnTo>
                  <a:pt x="7084" y="20"/>
                </a:lnTo>
                <a:lnTo>
                  <a:pt x="7090" y="12"/>
                </a:lnTo>
                <a:lnTo>
                  <a:pt x="7096" y="8"/>
                </a:lnTo>
                <a:lnTo>
                  <a:pt x="7104" y="4"/>
                </a:lnTo>
                <a:lnTo>
                  <a:pt x="7112" y="0"/>
                </a:lnTo>
                <a:lnTo>
                  <a:pt x="7122" y="0"/>
                </a:lnTo>
                <a:lnTo>
                  <a:pt x="7144" y="0"/>
                </a:lnTo>
                <a:lnTo>
                  <a:pt x="7144" y="0"/>
                </a:lnTo>
                <a:lnTo>
                  <a:pt x="7154" y="0"/>
                </a:lnTo>
                <a:lnTo>
                  <a:pt x="7162" y="4"/>
                </a:lnTo>
                <a:lnTo>
                  <a:pt x="7170" y="8"/>
                </a:lnTo>
                <a:lnTo>
                  <a:pt x="7176" y="12"/>
                </a:lnTo>
                <a:lnTo>
                  <a:pt x="7182" y="20"/>
                </a:lnTo>
                <a:lnTo>
                  <a:pt x="7186" y="28"/>
                </a:lnTo>
                <a:lnTo>
                  <a:pt x="7188" y="36"/>
                </a:lnTo>
                <a:lnTo>
                  <a:pt x="7190" y="46"/>
                </a:lnTo>
                <a:lnTo>
                  <a:pt x="7190" y="46"/>
                </a:lnTo>
                <a:lnTo>
                  <a:pt x="7188" y="54"/>
                </a:lnTo>
                <a:lnTo>
                  <a:pt x="7186" y="62"/>
                </a:lnTo>
                <a:lnTo>
                  <a:pt x="7182" y="70"/>
                </a:lnTo>
                <a:lnTo>
                  <a:pt x="7176" y="78"/>
                </a:lnTo>
                <a:lnTo>
                  <a:pt x="7170" y="82"/>
                </a:lnTo>
                <a:lnTo>
                  <a:pt x="7162" y="86"/>
                </a:lnTo>
                <a:lnTo>
                  <a:pt x="7154" y="90"/>
                </a:lnTo>
                <a:lnTo>
                  <a:pt x="7144" y="90"/>
                </a:lnTo>
                <a:lnTo>
                  <a:pt x="7144" y="90"/>
                </a:lnTo>
                <a:close/>
                <a:moveTo>
                  <a:pt x="6962" y="90"/>
                </a:moveTo>
                <a:lnTo>
                  <a:pt x="6940" y="90"/>
                </a:lnTo>
                <a:lnTo>
                  <a:pt x="6940" y="90"/>
                </a:lnTo>
                <a:lnTo>
                  <a:pt x="6930" y="90"/>
                </a:lnTo>
                <a:lnTo>
                  <a:pt x="6922" y="86"/>
                </a:lnTo>
                <a:lnTo>
                  <a:pt x="6914" y="82"/>
                </a:lnTo>
                <a:lnTo>
                  <a:pt x="6908" y="78"/>
                </a:lnTo>
                <a:lnTo>
                  <a:pt x="6902" y="70"/>
                </a:lnTo>
                <a:lnTo>
                  <a:pt x="6898" y="62"/>
                </a:lnTo>
                <a:lnTo>
                  <a:pt x="6896" y="54"/>
                </a:lnTo>
                <a:lnTo>
                  <a:pt x="6894" y="46"/>
                </a:lnTo>
                <a:lnTo>
                  <a:pt x="6894" y="46"/>
                </a:lnTo>
                <a:lnTo>
                  <a:pt x="6896" y="36"/>
                </a:lnTo>
                <a:lnTo>
                  <a:pt x="6898" y="28"/>
                </a:lnTo>
                <a:lnTo>
                  <a:pt x="6902" y="20"/>
                </a:lnTo>
                <a:lnTo>
                  <a:pt x="6908" y="12"/>
                </a:lnTo>
                <a:lnTo>
                  <a:pt x="6914" y="8"/>
                </a:lnTo>
                <a:lnTo>
                  <a:pt x="6922" y="4"/>
                </a:lnTo>
                <a:lnTo>
                  <a:pt x="6930" y="0"/>
                </a:lnTo>
                <a:lnTo>
                  <a:pt x="6940" y="0"/>
                </a:lnTo>
                <a:lnTo>
                  <a:pt x="6962" y="0"/>
                </a:lnTo>
                <a:lnTo>
                  <a:pt x="6962" y="0"/>
                </a:lnTo>
                <a:lnTo>
                  <a:pt x="6972" y="0"/>
                </a:lnTo>
                <a:lnTo>
                  <a:pt x="6980" y="4"/>
                </a:lnTo>
                <a:lnTo>
                  <a:pt x="6988" y="8"/>
                </a:lnTo>
                <a:lnTo>
                  <a:pt x="6994" y="12"/>
                </a:lnTo>
                <a:lnTo>
                  <a:pt x="7000" y="20"/>
                </a:lnTo>
                <a:lnTo>
                  <a:pt x="7004" y="28"/>
                </a:lnTo>
                <a:lnTo>
                  <a:pt x="7006" y="36"/>
                </a:lnTo>
                <a:lnTo>
                  <a:pt x="7008" y="46"/>
                </a:lnTo>
                <a:lnTo>
                  <a:pt x="7008" y="46"/>
                </a:lnTo>
                <a:lnTo>
                  <a:pt x="7006" y="54"/>
                </a:lnTo>
                <a:lnTo>
                  <a:pt x="7004" y="62"/>
                </a:lnTo>
                <a:lnTo>
                  <a:pt x="7000" y="70"/>
                </a:lnTo>
                <a:lnTo>
                  <a:pt x="6994" y="78"/>
                </a:lnTo>
                <a:lnTo>
                  <a:pt x="6988" y="82"/>
                </a:lnTo>
                <a:lnTo>
                  <a:pt x="6980" y="86"/>
                </a:lnTo>
                <a:lnTo>
                  <a:pt x="6972" y="90"/>
                </a:lnTo>
                <a:lnTo>
                  <a:pt x="6962" y="90"/>
                </a:lnTo>
                <a:lnTo>
                  <a:pt x="6962" y="90"/>
                </a:lnTo>
                <a:close/>
                <a:moveTo>
                  <a:pt x="6782" y="90"/>
                </a:moveTo>
                <a:lnTo>
                  <a:pt x="6758" y="90"/>
                </a:lnTo>
                <a:lnTo>
                  <a:pt x="6758" y="90"/>
                </a:lnTo>
                <a:lnTo>
                  <a:pt x="6750" y="90"/>
                </a:lnTo>
                <a:lnTo>
                  <a:pt x="6740" y="86"/>
                </a:lnTo>
                <a:lnTo>
                  <a:pt x="6734" y="82"/>
                </a:lnTo>
                <a:lnTo>
                  <a:pt x="6726" y="78"/>
                </a:lnTo>
                <a:lnTo>
                  <a:pt x="6720" y="70"/>
                </a:lnTo>
                <a:lnTo>
                  <a:pt x="6716" y="62"/>
                </a:lnTo>
                <a:lnTo>
                  <a:pt x="6714" y="54"/>
                </a:lnTo>
                <a:lnTo>
                  <a:pt x="6714" y="46"/>
                </a:lnTo>
                <a:lnTo>
                  <a:pt x="6714" y="46"/>
                </a:lnTo>
                <a:lnTo>
                  <a:pt x="6714" y="36"/>
                </a:lnTo>
                <a:lnTo>
                  <a:pt x="6716" y="28"/>
                </a:lnTo>
                <a:lnTo>
                  <a:pt x="6720" y="20"/>
                </a:lnTo>
                <a:lnTo>
                  <a:pt x="6726" y="12"/>
                </a:lnTo>
                <a:lnTo>
                  <a:pt x="6734" y="8"/>
                </a:lnTo>
                <a:lnTo>
                  <a:pt x="6740" y="4"/>
                </a:lnTo>
                <a:lnTo>
                  <a:pt x="6750" y="0"/>
                </a:lnTo>
                <a:lnTo>
                  <a:pt x="6758" y="0"/>
                </a:lnTo>
                <a:lnTo>
                  <a:pt x="6782" y="0"/>
                </a:lnTo>
                <a:lnTo>
                  <a:pt x="6782" y="0"/>
                </a:lnTo>
                <a:lnTo>
                  <a:pt x="6790" y="0"/>
                </a:lnTo>
                <a:lnTo>
                  <a:pt x="6798" y="4"/>
                </a:lnTo>
                <a:lnTo>
                  <a:pt x="6806" y="8"/>
                </a:lnTo>
                <a:lnTo>
                  <a:pt x="6814" y="12"/>
                </a:lnTo>
                <a:lnTo>
                  <a:pt x="6818" y="20"/>
                </a:lnTo>
                <a:lnTo>
                  <a:pt x="6822" y="28"/>
                </a:lnTo>
                <a:lnTo>
                  <a:pt x="6826" y="36"/>
                </a:lnTo>
                <a:lnTo>
                  <a:pt x="6826" y="46"/>
                </a:lnTo>
                <a:lnTo>
                  <a:pt x="6826" y="46"/>
                </a:lnTo>
                <a:lnTo>
                  <a:pt x="6826" y="54"/>
                </a:lnTo>
                <a:lnTo>
                  <a:pt x="6822" y="62"/>
                </a:lnTo>
                <a:lnTo>
                  <a:pt x="6818" y="70"/>
                </a:lnTo>
                <a:lnTo>
                  <a:pt x="6814" y="78"/>
                </a:lnTo>
                <a:lnTo>
                  <a:pt x="6806" y="82"/>
                </a:lnTo>
                <a:lnTo>
                  <a:pt x="6798" y="86"/>
                </a:lnTo>
                <a:lnTo>
                  <a:pt x="6790" y="90"/>
                </a:lnTo>
                <a:lnTo>
                  <a:pt x="6782" y="90"/>
                </a:lnTo>
                <a:lnTo>
                  <a:pt x="6782" y="90"/>
                </a:lnTo>
                <a:close/>
                <a:moveTo>
                  <a:pt x="6600" y="90"/>
                </a:moveTo>
                <a:lnTo>
                  <a:pt x="6576" y="90"/>
                </a:lnTo>
                <a:lnTo>
                  <a:pt x="6576" y="90"/>
                </a:lnTo>
                <a:lnTo>
                  <a:pt x="6568" y="90"/>
                </a:lnTo>
                <a:lnTo>
                  <a:pt x="6560" y="86"/>
                </a:lnTo>
                <a:lnTo>
                  <a:pt x="6552" y="82"/>
                </a:lnTo>
                <a:lnTo>
                  <a:pt x="6544" y="78"/>
                </a:lnTo>
                <a:lnTo>
                  <a:pt x="6540" y="70"/>
                </a:lnTo>
                <a:lnTo>
                  <a:pt x="6536" y="62"/>
                </a:lnTo>
                <a:lnTo>
                  <a:pt x="6532" y="54"/>
                </a:lnTo>
                <a:lnTo>
                  <a:pt x="6532" y="46"/>
                </a:lnTo>
                <a:lnTo>
                  <a:pt x="6532" y="46"/>
                </a:lnTo>
                <a:lnTo>
                  <a:pt x="6532" y="36"/>
                </a:lnTo>
                <a:lnTo>
                  <a:pt x="6536" y="28"/>
                </a:lnTo>
                <a:lnTo>
                  <a:pt x="6540" y="20"/>
                </a:lnTo>
                <a:lnTo>
                  <a:pt x="6544" y="12"/>
                </a:lnTo>
                <a:lnTo>
                  <a:pt x="6552" y="8"/>
                </a:lnTo>
                <a:lnTo>
                  <a:pt x="6560" y="4"/>
                </a:lnTo>
                <a:lnTo>
                  <a:pt x="6568" y="0"/>
                </a:lnTo>
                <a:lnTo>
                  <a:pt x="6576" y="0"/>
                </a:lnTo>
                <a:lnTo>
                  <a:pt x="6600" y="0"/>
                </a:lnTo>
                <a:lnTo>
                  <a:pt x="6600" y="0"/>
                </a:lnTo>
                <a:lnTo>
                  <a:pt x="6608" y="0"/>
                </a:lnTo>
                <a:lnTo>
                  <a:pt x="6618" y="4"/>
                </a:lnTo>
                <a:lnTo>
                  <a:pt x="6626" y="8"/>
                </a:lnTo>
                <a:lnTo>
                  <a:pt x="6632" y="12"/>
                </a:lnTo>
                <a:lnTo>
                  <a:pt x="6638" y="20"/>
                </a:lnTo>
                <a:lnTo>
                  <a:pt x="6642" y="28"/>
                </a:lnTo>
                <a:lnTo>
                  <a:pt x="6644" y="36"/>
                </a:lnTo>
                <a:lnTo>
                  <a:pt x="6646" y="46"/>
                </a:lnTo>
                <a:lnTo>
                  <a:pt x="6646" y="46"/>
                </a:lnTo>
                <a:lnTo>
                  <a:pt x="6644" y="54"/>
                </a:lnTo>
                <a:lnTo>
                  <a:pt x="6642" y="62"/>
                </a:lnTo>
                <a:lnTo>
                  <a:pt x="6638" y="70"/>
                </a:lnTo>
                <a:lnTo>
                  <a:pt x="6632" y="78"/>
                </a:lnTo>
                <a:lnTo>
                  <a:pt x="6626" y="82"/>
                </a:lnTo>
                <a:lnTo>
                  <a:pt x="6618" y="86"/>
                </a:lnTo>
                <a:lnTo>
                  <a:pt x="6608" y="90"/>
                </a:lnTo>
                <a:lnTo>
                  <a:pt x="6600" y="90"/>
                </a:lnTo>
                <a:lnTo>
                  <a:pt x="6600" y="90"/>
                </a:lnTo>
                <a:close/>
                <a:moveTo>
                  <a:pt x="6418" y="90"/>
                </a:moveTo>
                <a:lnTo>
                  <a:pt x="6396" y="90"/>
                </a:lnTo>
                <a:lnTo>
                  <a:pt x="6396" y="90"/>
                </a:lnTo>
                <a:lnTo>
                  <a:pt x="6386" y="90"/>
                </a:lnTo>
                <a:lnTo>
                  <a:pt x="6378" y="86"/>
                </a:lnTo>
                <a:lnTo>
                  <a:pt x="6370" y="82"/>
                </a:lnTo>
                <a:lnTo>
                  <a:pt x="6364" y="78"/>
                </a:lnTo>
                <a:lnTo>
                  <a:pt x="6358" y="70"/>
                </a:lnTo>
                <a:lnTo>
                  <a:pt x="6354" y="62"/>
                </a:lnTo>
                <a:lnTo>
                  <a:pt x="6352" y="54"/>
                </a:lnTo>
                <a:lnTo>
                  <a:pt x="6350" y="46"/>
                </a:lnTo>
                <a:lnTo>
                  <a:pt x="6350" y="46"/>
                </a:lnTo>
                <a:lnTo>
                  <a:pt x="6352" y="36"/>
                </a:lnTo>
                <a:lnTo>
                  <a:pt x="6354" y="28"/>
                </a:lnTo>
                <a:lnTo>
                  <a:pt x="6358" y="20"/>
                </a:lnTo>
                <a:lnTo>
                  <a:pt x="6364" y="12"/>
                </a:lnTo>
                <a:lnTo>
                  <a:pt x="6370" y="8"/>
                </a:lnTo>
                <a:lnTo>
                  <a:pt x="6378" y="4"/>
                </a:lnTo>
                <a:lnTo>
                  <a:pt x="6386" y="0"/>
                </a:lnTo>
                <a:lnTo>
                  <a:pt x="6396" y="0"/>
                </a:lnTo>
                <a:lnTo>
                  <a:pt x="6418" y="0"/>
                </a:lnTo>
                <a:lnTo>
                  <a:pt x="6418" y="0"/>
                </a:lnTo>
                <a:lnTo>
                  <a:pt x="6428" y="0"/>
                </a:lnTo>
                <a:lnTo>
                  <a:pt x="6436" y="4"/>
                </a:lnTo>
                <a:lnTo>
                  <a:pt x="6444" y="8"/>
                </a:lnTo>
                <a:lnTo>
                  <a:pt x="6450" y="12"/>
                </a:lnTo>
                <a:lnTo>
                  <a:pt x="6456" y="20"/>
                </a:lnTo>
                <a:lnTo>
                  <a:pt x="6460" y="28"/>
                </a:lnTo>
                <a:lnTo>
                  <a:pt x="6462" y="36"/>
                </a:lnTo>
                <a:lnTo>
                  <a:pt x="6464" y="46"/>
                </a:lnTo>
                <a:lnTo>
                  <a:pt x="6464" y="46"/>
                </a:lnTo>
                <a:lnTo>
                  <a:pt x="6462" y="54"/>
                </a:lnTo>
                <a:lnTo>
                  <a:pt x="6460" y="62"/>
                </a:lnTo>
                <a:lnTo>
                  <a:pt x="6456" y="70"/>
                </a:lnTo>
                <a:lnTo>
                  <a:pt x="6450" y="78"/>
                </a:lnTo>
                <a:lnTo>
                  <a:pt x="6444" y="82"/>
                </a:lnTo>
                <a:lnTo>
                  <a:pt x="6436" y="86"/>
                </a:lnTo>
                <a:lnTo>
                  <a:pt x="6428" y="90"/>
                </a:lnTo>
                <a:lnTo>
                  <a:pt x="6418" y="90"/>
                </a:lnTo>
                <a:lnTo>
                  <a:pt x="6418" y="90"/>
                </a:lnTo>
                <a:close/>
                <a:moveTo>
                  <a:pt x="6236" y="90"/>
                </a:moveTo>
                <a:lnTo>
                  <a:pt x="6214" y="90"/>
                </a:lnTo>
                <a:lnTo>
                  <a:pt x="6214" y="90"/>
                </a:lnTo>
                <a:lnTo>
                  <a:pt x="6206" y="90"/>
                </a:lnTo>
                <a:lnTo>
                  <a:pt x="6196" y="86"/>
                </a:lnTo>
                <a:lnTo>
                  <a:pt x="6188" y="82"/>
                </a:lnTo>
                <a:lnTo>
                  <a:pt x="6182" y="78"/>
                </a:lnTo>
                <a:lnTo>
                  <a:pt x="6176" y="70"/>
                </a:lnTo>
                <a:lnTo>
                  <a:pt x="6172" y="62"/>
                </a:lnTo>
                <a:lnTo>
                  <a:pt x="6170" y="54"/>
                </a:lnTo>
                <a:lnTo>
                  <a:pt x="6168" y="46"/>
                </a:lnTo>
                <a:lnTo>
                  <a:pt x="6168" y="46"/>
                </a:lnTo>
                <a:lnTo>
                  <a:pt x="6170" y="36"/>
                </a:lnTo>
                <a:lnTo>
                  <a:pt x="6172" y="28"/>
                </a:lnTo>
                <a:lnTo>
                  <a:pt x="6176" y="20"/>
                </a:lnTo>
                <a:lnTo>
                  <a:pt x="6182" y="12"/>
                </a:lnTo>
                <a:lnTo>
                  <a:pt x="6188" y="8"/>
                </a:lnTo>
                <a:lnTo>
                  <a:pt x="6196" y="4"/>
                </a:lnTo>
                <a:lnTo>
                  <a:pt x="6206" y="0"/>
                </a:lnTo>
                <a:lnTo>
                  <a:pt x="6214" y="0"/>
                </a:lnTo>
                <a:lnTo>
                  <a:pt x="6236" y="0"/>
                </a:lnTo>
                <a:lnTo>
                  <a:pt x="6236" y="0"/>
                </a:lnTo>
                <a:lnTo>
                  <a:pt x="6246" y="0"/>
                </a:lnTo>
                <a:lnTo>
                  <a:pt x="6254" y="4"/>
                </a:lnTo>
                <a:lnTo>
                  <a:pt x="6262" y="8"/>
                </a:lnTo>
                <a:lnTo>
                  <a:pt x="6268" y="12"/>
                </a:lnTo>
                <a:lnTo>
                  <a:pt x="6274" y="20"/>
                </a:lnTo>
                <a:lnTo>
                  <a:pt x="6278" y="28"/>
                </a:lnTo>
                <a:lnTo>
                  <a:pt x="6282" y="36"/>
                </a:lnTo>
                <a:lnTo>
                  <a:pt x="6282" y="46"/>
                </a:lnTo>
                <a:lnTo>
                  <a:pt x="6282" y="46"/>
                </a:lnTo>
                <a:lnTo>
                  <a:pt x="6282" y="54"/>
                </a:lnTo>
                <a:lnTo>
                  <a:pt x="6278" y="62"/>
                </a:lnTo>
                <a:lnTo>
                  <a:pt x="6274" y="70"/>
                </a:lnTo>
                <a:lnTo>
                  <a:pt x="6268" y="78"/>
                </a:lnTo>
                <a:lnTo>
                  <a:pt x="6262" y="82"/>
                </a:lnTo>
                <a:lnTo>
                  <a:pt x="6254" y="86"/>
                </a:lnTo>
                <a:lnTo>
                  <a:pt x="6246" y="90"/>
                </a:lnTo>
                <a:lnTo>
                  <a:pt x="6236" y="90"/>
                </a:lnTo>
                <a:lnTo>
                  <a:pt x="6236" y="90"/>
                </a:lnTo>
                <a:close/>
                <a:moveTo>
                  <a:pt x="6056" y="90"/>
                </a:moveTo>
                <a:lnTo>
                  <a:pt x="6032" y="90"/>
                </a:lnTo>
                <a:lnTo>
                  <a:pt x="6032" y="90"/>
                </a:lnTo>
                <a:lnTo>
                  <a:pt x="6024" y="90"/>
                </a:lnTo>
                <a:lnTo>
                  <a:pt x="6016" y="86"/>
                </a:lnTo>
                <a:lnTo>
                  <a:pt x="6008" y="82"/>
                </a:lnTo>
                <a:lnTo>
                  <a:pt x="6000" y="78"/>
                </a:lnTo>
                <a:lnTo>
                  <a:pt x="5996" y="70"/>
                </a:lnTo>
                <a:lnTo>
                  <a:pt x="5990" y="62"/>
                </a:lnTo>
                <a:lnTo>
                  <a:pt x="5988" y="54"/>
                </a:lnTo>
                <a:lnTo>
                  <a:pt x="5988" y="46"/>
                </a:lnTo>
                <a:lnTo>
                  <a:pt x="5988" y="46"/>
                </a:lnTo>
                <a:lnTo>
                  <a:pt x="5988" y="36"/>
                </a:lnTo>
                <a:lnTo>
                  <a:pt x="5990" y="28"/>
                </a:lnTo>
                <a:lnTo>
                  <a:pt x="5996" y="20"/>
                </a:lnTo>
                <a:lnTo>
                  <a:pt x="6000" y="12"/>
                </a:lnTo>
                <a:lnTo>
                  <a:pt x="6008" y="8"/>
                </a:lnTo>
                <a:lnTo>
                  <a:pt x="6016" y="4"/>
                </a:lnTo>
                <a:lnTo>
                  <a:pt x="6024" y="0"/>
                </a:lnTo>
                <a:lnTo>
                  <a:pt x="6032" y="0"/>
                </a:lnTo>
                <a:lnTo>
                  <a:pt x="6056" y="0"/>
                </a:lnTo>
                <a:lnTo>
                  <a:pt x="6056" y="0"/>
                </a:lnTo>
                <a:lnTo>
                  <a:pt x="6064" y="0"/>
                </a:lnTo>
                <a:lnTo>
                  <a:pt x="6074" y="4"/>
                </a:lnTo>
                <a:lnTo>
                  <a:pt x="6080" y="8"/>
                </a:lnTo>
                <a:lnTo>
                  <a:pt x="6088" y="12"/>
                </a:lnTo>
                <a:lnTo>
                  <a:pt x="6094" y="20"/>
                </a:lnTo>
                <a:lnTo>
                  <a:pt x="6098" y="28"/>
                </a:lnTo>
                <a:lnTo>
                  <a:pt x="6100" y="36"/>
                </a:lnTo>
                <a:lnTo>
                  <a:pt x="6100" y="46"/>
                </a:lnTo>
                <a:lnTo>
                  <a:pt x="6100" y="46"/>
                </a:lnTo>
                <a:lnTo>
                  <a:pt x="6100" y="54"/>
                </a:lnTo>
                <a:lnTo>
                  <a:pt x="6098" y="62"/>
                </a:lnTo>
                <a:lnTo>
                  <a:pt x="6094" y="70"/>
                </a:lnTo>
                <a:lnTo>
                  <a:pt x="6088" y="78"/>
                </a:lnTo>
                <a:lnTo>
                  <a:pt x="6080" y="82"/>
                </a:lnTo>
                <a:lnTo>
                  <a:pt x="6074" y="86"/>
                </a:lnTo>
                <a:lnTo>
                  <a:pt x="6064" y="90"/>
                </a:lnTo>
                <a:lnTo>
                  <a:pt x="6056" y="90"/>
                </a:lnTo>
                <a:lnTo>
                  <a:pt x="6056" y="90"/>
                </a:lnTo>
                <a:close/>
                <a:moveTo>
                  <a:pt x="5874" y="90"/>
                </a:moveTo>
                <a:lnTo>
                  <a:pt x="5852" y="90"/>
                </a:lnTo>
                <a:lnTo>
                  <a:pt x="5852" y="90"/>
                </a:lnTo>
                <a:lnTo>
                  <a:pt x="5842" y="90"/>
                </a:lnTo>
                <a:lnTo>
                  <a:pt x="5834" y="86"/>
                </a:lnTo>
                <a:lnTo>
                  <a:pt x="5826" y="82"/>
                </a:lnTo>
                <a:lnTo>
                  <a:pt x="5820" y="78"/>
                </a:lnTo>
                <a:lnTo>
                  <a:pt x="5814" y="70"/>
                </a:lnTo>
                <a:lnTo>
                  <a:pt x="5810" y="62"/>
                </a:lnTo>
                <a:lnTo>
                  <a:pt x="5806" y="54"/>
                </a:lnTo>
                <a:lnTo>
                  <a:pt x="5806" y="46"/>
                </a:lnTo>
                <a:lnTo>
                  <a:pt x="5806" y="46"/>
                </a:lnTo>
                <a:lnTo>
                  <a:pt x="5806" y="36"/>
                </a:lnTo>
                <a:lnTo>
                  <a:pt x="5810" y="28"/>
                </a:lnTo>
                <a:lnTo>
                  <a:pt x="5814" y="20"/>
                </a:lnTo>
                <a:lnTo>
                  <a:pt x="5820" y="12"/>
                </a:lnTo>
                <a:lnTo>
                  <a:pt x="5826" y="8"/>
                </a:lnTo>
                <a:lnTo>
                  <a:pt x="5834" y="4"/>
                </a:lnTo>
                <a:lnTo>
                  <a:pt x="5842" y="0"/>
                </a:lnTo>
                <a:lnTo>
                  <a:pt x="5852" y="0"/>
                </a:lnTo>
                <a:lnTo>
                  <a:pt x="5874" y="0"/>
                </a:lnTo>
                <a:lnTo>
                  <a:pt x="5874" y="0"/>
                </a:lnTo>
                <a:lnTo>
                  <a:pt x="5884" y="0"/>
                </a:lnTo>
                <a:lnTo>
                  <a:pt x="5892" y="4"/>
                </a:lnTo>
                <a:lnTo>
                  <a:pt x="5900" y="8"/>
                </a:lnTo>
                <a:lnTo>
                  <a:pt x="5906" y="12"/>
                </a:lnTo>
                <a:lnTo>
                  <a:pt x="5912" y="20"/>
                </a:lnTo>
                <a:lnTo>
                  <a:pt x="5916" y="28"/>
                </a:lnTo>
                <a:lnTo>
                  <a:pt x="5918" y="36"/>
                </a:lnTo>
                <a:lnTo>
                  <a:pt x="5920" y="46"/>
                </a:lnTo>
                <a:lnTo>
                  <a:pt x="5920" y="46"/>
                </a:lnTo>
                <a:lnTo>
                  <a:pt x="5918" y="54"/>
                </a:lnTo>
                <a:lnTo>
                  <a:pt x="5916" y="62"/>
                </a:lnTo>
                <a:lnTo>
                  <a:pt x="5912" y="70"/>
                </a:lnTo>
                <a:lnTo>
                  <a:pt x="5906" y="78"/>
                </a:lnTo>
                <a:lnTo>
                  <a:pt x="5900" y="82"/>
                </a:lnTo>
                <a:lnTo>
                  <a:pt x="5892" y="86"/>
                </a:lnTo>
                <a:lnTo>
                  <a:pt x="5884" y="90"/>
                </a:lnTo>
                <a:lnTo>
                  <a:pt x="5874" y="90"/>
                </a:lnTo>
                <a:lnTo>
                  <a:pt x="5874" y="90"/>
                </a:lnTo>
                <a:close/>
                <a:moveTo>
                  <a:pt x="5692" y="90"/>
                </a:moveTo>
                <a:lnTo>
                  <a:pt x="5670" y="90"/>
                </a:lnTo>
                <a:lnTo>
                  <a:pt x="5670" y="90"/>
                </a:lnTo>
                <a:lnTo>
                  <a:pt x="5660" y="90"/>
                </a:lnTo>
                <a:lnTo>
                  <a:pt x="5652" y="86"/>
                </a:lnTo>
                <a:lnTo>
                  <a:pt x="5644" y="82"/>
                </a:lnTo>
                <a:lnTo>
                  <a:pt x="5638" y="78"/>
                </a:lnTo>
                <a:lnTo>
                  <a:pt x="5632" y="70"/>
                </a:lnTo>
                <a:lnTo>
                  <a:pt x="5628" y="62"/>
                </a:lnTo>
                <a:lnTo>
                  <a:pt x="5626" y="54"/>
                </a:lnTo>
                <a:lnTo>
                  <a:pt x="5624" y="46"/>
                </a:lnTo>
                <a:lnTo>
                  <a:pt x="5624" y="46"/>
                </a:lnTo>
                <a:lnTo>
                  <a:pt x="5626" y="36"/>
                </a:lnTo>
                <a:lnTo>
                  <a:pt x="5628" y="28"/>
                </a:lnTo>
                <a:lnTo>
                  <a:pt x="5632" y="20"/>
                </a:lnTo>
                <a:lnTo>
                  <a:pt x="5638" y="12"/>
                </a:lnTo>
                <a:lnTo>
                  <a:pt x="5644" y="8"/>
                </a:lnTo>
                <a:lnTo>
                  <a:pt x="5652" y="4"/>
                </a:lnTo>
                <a:lnTo>
                  <a:pt x="5660" y="0"/>
                </a:lnTo>
                <a:lnTo>
                  <a:pt x="5670" y="0"/>
                </a:lnTo>
                <a:lnTo>
                  <a:pt x="5692" y="0"/>
                </a:lnTo>
                <a:lnTo>
                  <a:pt x="5692" y="0"/>
                </a:lnTo>
                <a:lnTo>
                  <a:pt x="5702" y="0"/>
                </a:lnTo>
                <a:lnTo>
                  <a:pt x="5710" y="4"/>
                </a:lnTo>
                <a:lnTo>
                  <a:pt x="5718" y="8"/>
                </a:lnTo>
                <a:lnTo>
                  <a:pt x="5724" y="12"/>
                </a:lnTo>
                <a:lnTo>
                  <a:pt x="5730" y="20"/>
                </a:lnTo>
                <a:lnTo>
                  <a:pt x="5734" y="28"/>
                </a:lnTo>
                <a:lnTo>
                  <a:pt x="5738" y="36"/>
                </a:lnTo>
                <a:lnTo>
                  <a:pt x="5738" y="46"/>
                </a:lnTo>
                <a:lnTo>
                  <a:pt x="5738" y="46"/>
                </a:lnTo>
                <a:lnTo>
                  <a:pt x="5738" y="54"/>
                </a:lnTo>
                <a:lnTo>
                  <a:pt x="5734" y="62"/>
                </a:lnTo>
                <a:lnTo>
                  <a:pt x="5730" y="70"/>
                </a:lnTo>
                <a:lnTo>
                  <a:pt x="5724" y="78"/>
                </a:lnTo>
                <a:lnTo>
                  <a:pt x="5718" y="82"/>
                </a:lnTo>
                <a:lnTo>
                  <a:pt x="5710" y="86"/>
                </a:lnTo>
                <a:lnTo>
                  <a:pt x="5702" y="90"/>
                </a:lnTo>
                <a:lnTo>
                  <a:pt x="5692" y="90"/>
                </a:lnTo>
                <a:lnTo>
                  <a:pt x="5692" y="90"/>
                </a:lnTo>
                <a:close/>
                <a:moveTo>
                  <a:pt x="5512" y="90"/>
                </a:moveTo>
                <a:lnTo>
                  <a:pt x="5488" y="90"/>
                </a:lnTo>
                <a:lnTo>
                  <a:pt x="5488" y="90"/>
                </a:lnTo>
                <a:lnTo>
                  <a:pt x="5480" y="90"/>
                </a:lnTo>
                <a:lnTo>
                  <a:pt x="5470" y="86"/>
                </a:lnTo>
                <a:lnTo>
                  <a:pt x="5464" y="82"/>
                </a:lnTo>
                <a:lnTo>
                  <a:pt x="5456" y="78"/>
                </a:lnTo>
                <a:lnTo>
                  <a:pt x="5450" y="70"/>
                </a:lnTo>
                <a:lnTo>
                  <a:pt x="5446" y="62"/>
                </a:lnTo>
                <a:lnTo>
                  <a:pt x="5444" y="54"/>
                </a:lnTo>
                <a:lnTo>
                  <a:pt x="5444" y="46"/>
                </a:lnTo>
                <a:lnTo>
                  <a:pt x="5444" y="46"/>
                </a:lnTo>
                <a:lnTo>
                  <a:pt x="5444" y="36"/>
                </a:lnTo>
                <a:lnTo>
                  <a:pt x="5446" y="28"/>
                </a:lnTo>
                <a:lnTo>
                  <a:pt x="5450" y="20"/>
                </a:lnTo>
                <a:lnTo>
                  <a:pt x="5456" y="12"/>
                </a:lnTo>
                <a:lnTo>
                  <a:pt x="5464" y="8"/>
                </a:lnTo>
                <a:lnTo>
                  <a:pt x="5470" y="4"/>
                </a:lnTo>
                <a:lnTo>
                  <a:pt x="5480" y="0"/>
                </a:lnTo>
                <a:lnTo>
                  <a:pt x="5488" y="0"/>
                </a:lnTo>
                <a:lnTo>
                  <a:pt x="5512" y="0"/>
                </a:lnTo>
                <a:lnTo>
                  <a:pt x="5512" y="0"/>
                </a:lnTo>
                <a:lnTo>
                  <a:pt x="5520" y="0"/>
                </a:lnTo>
                <a:lnTo>
                  <a:pt x="5528" y="4"/>
                </a:lnTo>
                <a:lnTo>
                  <a:pt x="5536" y="8"/>
                </a:lnTo>
                <a:lnTo>
                  <a:pt x="5544" y="12"/>
                </a:lnTo>
                <a:lnTo>
                  <a:pt x="5548" y="20"/>
                </a:lnTo>
                <a:lnTo>
                  <a:pt x="5552" y="28"/>
                </a:lnTo>
                <a:lnTo>
                  <a:pt x="5556" y="36"/>
                </a:lnTo>
                <a:lnTo>
                  <a:pt x="5556" y="46"/>
                </a:lnTo>
                <a:lnTo>
                  <a:pt x="5556" y="46"/>
                </a:lnTo>
                <a:lnTo>
                  <a:pt x="5556" y="54"/>
                </a:lnTo>
                <a:lnTo>
                  <a:pt x="5552" y="62"/>
                </a:lnTo>
                <a:lnTo>
                  <a:pt x="5548" y="70"/>
                </a:lnTo>
                <a:lnTo>
                  <a:pt x="5544" y="78"/>
                </a:lnTo>
                <a:lnTo>
                  <a:pt x="5536" y="82"/>
                </a:lnTo>
                <a:lnTo>
                  <a:pt x="5528" y="86"/>
                </a:lnTo>
                <a:lnTo>
                  <a:pt x="5520" y="90"/>
                </a:lnTo>
                <a:lnTo>
                  <a:pt x="5512" y="90"/>
                </a:lnTo>
                <a:lnTo>
                  <a:pt x="5512" y="90"/>
                </a:lnTo>
                <a:close/>
                <a:moveTo>
                  <a:pt x="5330" y="90"/>
                </a:moveTo>
                <a:lnTo>
                  <a:pt x="5308" y="90"/>
                </a:lnTo>
                <a:lnTo>
                  <a:pt x="5308" y="90"/>
                </a:lnTo>
                <a:lnTo>
                  <a:pt x="5298" y="90"/>
                </a:lnTo>
                <a:lnTo>
                  <a:pt x="5290" y="86"/>
                </a:lnTo>
                <a:lnTo>
                  <a:pt x="5282" y="82"/>
                </a:lnTo>
                <a:lnTo>
                  <a:pt x="5274" y="78"/>
                </a:lnTo>
                <a:lnTo>
                  <a:pt x="5270" y="70"/>
                </a:lnTo>
                <a:lnTo>
                  <a:pt x="5266" y="62"/>
                </a:lnTo>
                <a:lnTo>
                  <a:pt x="5262" y="54"/>
                </a:lnTo>
                <a:lnTo>
                  <a:pt x="5262" y="46"/>
                </a:lnTo>
                <a:lnTo>
                  <a:pt x="5262" y="46"/>
                </a:lnTo>
                <a:lnTo>
                  <a:pt x="5262" y="36"/>
                </a:lnTo>
                <a:lnTo>
                  <a:pt x="5266" y="28"/>
                </a:lnTo>
                <a:lnTo>
                  <a:pt x="5270" y="20"/>
                </a:lnTo>
                <a:lnTo>
                  <a:pt x="5274" y="12"/>
                </a:lnTo>
                <a:lnTo>
                  <a:pt x="5282" y="8"/>
                </a:lnTo>
                <a:lnTo>
                  <a:pt x="5290" y="4"/>
                </a:lnTo>
                <a:lnTo>
                  <a:pt x="5298" y="0"/>
                </a:lnTo>
                <a:lnTo>
                  <a:pt x="5308" y="0"/>
                </a:lnTo>
                <a:lnTo>
                  <a:pt x="5330" y="0"/>
                </a:lnTo>
                <a:lnTo>
                  <a:pt x="5330" y="0"/>
                </a:lnTo>
                <a:lnTo>
                  <a:pt x="5338" y="0"/>
                </a:lnTo>
                <a:lnTo>
                  <a:pt x="5348" y="4"/>
                </a:lnTo>
                <a:lnTo>
                  <a:pt x="5356" y="8"/>
                </a:lnTo>
                <a:lnTo>
                  <a:pt x="5362" y="12"/>
                </a:lnTo>
                <a:lnTo>
                  <a:pt x="5368" y="20"/>
                </a:lnTo>
                <a:lnTo>
                  <a:pt x="5372" y="28"/>
                </a:lnTo>
                <a:lnTo>
                  <a:pt x="5374" y="36"/>
                </a:lnTo>
                <a:lnTo>
                  <a:pt x="5376" y="46"/>
                </a:lnTo>
                <a:lnTo>
                  <a:pt x="5376" y="46"/>
                </a:lnTo>
                <a:lnTo>
                  <a:pt x="5374" y="54"/>
                </a:lnTo>
                <a:lnTo>
                  <a:pt x="5372" y="62"/>
                </a:lnTo>
                <a:lnTo>
                  <a:pt x="5368" y="70"/>
                </a:lnTo>
                <a:lnTo>
                  <a:pt x="5362" y="78"/>
                </a:lnTo>
                <a:lnTo>
                  <a:pt x="5356" y="82"/>
                </a:lnTo>
                <a:lnTo>
                  <a:pt x="5348" y="86"/>
                </a:lnTo>
                <a:lnTo>
                  <a:pt x="5338" y="90"/>
                </a:lnTo>
                <a:lnTo>
                  <a:pt x="5330" y="90"/>
                </a:lnTo>
                <a:lnTo>
                  <a:pt x="5330" y="90"/>
                </a:lnTo>
                <a:close/>
                <a:moveTo>
                  <a:pt x="5148" y="90"/>
                </a:moveTo>
                <a:lnTo>
                  <a:pt x="5126" y="90"/>
                </a:lnTo>
                <a:lnTo>
                  <a:pt x="5126" y="90"/>
                </a:lnTo>
                <a:lnTo>
                  <a:pt x="5116" y="90"/>
                </a:lnTo>
                <a:lnTo>
                  <a:pt x="5108" y="86"/>
                </a:lnTo>
                <a:lnTo>
                  <a:pt x="5100" y="82"/>
                </a:lnTo>
                <a:lnTo>
                  <a:pt x="5094" y="78"/>
                </a:lnTo>
                <a:lnTo>
                  <a:pt x="5088" y="70"/>
                </a:lnTo>
                <a:lnTo>
                  <a:pt x="5084" y="62"/>
                </a:lnTo>
                <a:lnTo>
                  <a:pt x="5082" y="54"/>
                </a:lnTo>
                <a:lnTo>
                  <a:pt x="5080" y="46"/>
                </a:lnTo>
                <a:lnTo>
                  <a:pt x="5080" y="46"/>
                </a:lnTo>
                <a:lnTo>
                  <a:pt x="5082" y="36"/>
                </a:lnTo>
                <a:lnTo>
                  <a:pt x="5084" y="28"/>
                </a:lnTo>
                <a:lnTo>
                  <a:pt x="5088" y="20"/>
                </a:lnTo>
                <a:lnTo>
                  <a:pt x="5094" y="12"/>
                </a:lnTo>
                <a:lnTo>
                  <a:pt x="5100" y="8"/>
                </a:lnTo>
                <a:lnTo>
                  <a:pt x="5108" y="4"/>
                </a:lnTo>
                <a:lnTo>
                  <a:pt x="5116" y="0"/>
                </a:lnTo>
                <a:lnTo>
                  <a:pt x="5126" y="0"/>
                </a:lnTo>
                <a:lnTo>
                  <a:pt x="5148" y="0"/>
                </a:lnTo>
                <a:lnTo>
                  <a:pt x="5148" y="0"/>
                </a:lnTo>
                <a:lnTo>
                  <a:pt x="5158" y="0"/>
                </a:lnTo>
                <a:lnTo>
                  <a:pt x="5166" y="4"/>
                </a:lnTo>
                <a:lnTo>
                  <a:pt x="5174" y="8"/>
                </a:lnTo>
                <a:lnTo>
                  <a:pt x="5180" y="12"/>
                </a:lnTo>
                <a:lnTo>
                  <a:pt x="5186" y="20"/>
                </a:lnTo>
                <a:lnTo>
                  <a:pt x="5190" y="28"/>
                </a:lnTo>
                <a:lnTo>
                  <a:pt x="5192" y="36"/>
                </a:lnTo>
                <a:lnTo>
                  <a:pt x="5194" y="46"/>
                </a:lnTo>
                <a:lnTo>
                  <a:pt x="5194" y="46"/>
                </a:lnTo>
                <a:lnTo>
                  <a:pt x="5192" y="54"/>
                </a:lnTo>
                <a:lnTo>
                  <a:pt x="5190" y="62"/>
                </a:lnTo>
                <a:lnTo>
                  <a:pt x="5186" y="70"/>
                </a:lnTo>
                <a:lnTo>
                  <a:pt x="5180" y="78"/>
                </a:lnTo>
                <a:lnTo>
                  <a:pt x="5174" y="82"/>
                </a:lnTo>
                <a:lnTo>
                  <a:pt x="5166" y="86"/>
                </a:lnTo>
                <a:lnTo>
                  <a:pt x="5158" y="90"/>
                </a:lnTo>
                <a:lnTo>
                  <a:pt x="5148" y="90"/>
                </a:lnTo>
                <a:lnTo>
                  <a:pt x="5148" y="90"/>
                </a:lnTo>
                <a:close/>
                <a:moveTo>
                  <a:pt x="4966" y="90"/>
                </a:moveTo>
                <a:lnTo>
                  <a:pt x="4944" y="90"/>
                </a:lnTo>
                <a:lnTo>
                  <a:pt x="4944" y="90"/>
                </a:lnTo>
                <a:lnTo>
                  <a:pt x="4936" y="90"/>
                </a:lnTo>
                <a:lnTo>
                  <a:pt x="4926" y="86"/>
                </a:lnTo>
                <a:lnTo>
                  <a:pt x="4918" y="82"/>
                </a:lnTo>
                <a:lnTo>
                  <a:pt x="4912" y="78"/>
                </a:lnTo>
                <a:lnTo>
                  <a:pt x="4906" y="70"/>
                </a:lnTo>
                <a:lnTo>
                  <a:pt x="4902" y="62"/>
                </a:lnTo>
                <a:lnTo>
                  <a:pt x="4900" y="54"/>
                </a:lnTo>
                <a:lnTo>
                  <a:pt x="4898" y="46"/>
                </a:lnTo>
                <a:lnTo>
                  <a:pt x="4898" y="46"/>
                </a:lnTo>
                <a:lnTo>
                  <a:pt x="4900" y="36"/>
                </a:lnTo>
                <a:lnTo>
                  <a:pt x="4902" y="28"/>
                </a:lnTo>
                <a:lnTo>
                  <a:pt x="4906" y="20"/>
                </a:lnTo>
                <a:lnTo>
                  <a:pt x="4912" y="12"/>
                </a:lnTo>
                <a:lnTo>
                  <a:pt x="4918" y="8"/>
                </a:lnTo>
                <a:lnTo>
                  <a:pt x="4926" y="4"/>
                </a:lnTo>
                <a:lnTo>
                  <a:pt x="4936" y="0"/>
                </a:lnTo>
                <a:lnTo>
                  <a:pt x="4944" y="0"/>
                </a:lnTo>
                <a:lnTo>
                  <a:pt x="4966" y="0"/>
                </a:lnTo>
                <a:lnTo>
                  <a:pt x="4966" y="0"/>
                </a:lnTo>
                <a:lnTo>
                  <a:pt x="4976" y="0"/>
                </a:lnTo>
                <a:lnTo>
                  <a:pt x="4984" y="4"/>
                </a:lnTo>
                <a:lnTo>
                  <a:pt x="4992" y="8"/>
                </a:lnTo>
                <a:lnTo>
                  <a:pt x="4998" y="12"/>
                </a:lnTo>
                <a:lnTo>
                  <a:pt x="5004" y="20"/>
                </a:lnTo>
                <a:lnTo>
                  <a:pt x="5008" y="28"/>
                </a:lnTo>
                <a:lnTo>
                  <a:pt x="5012" y="36"/>
                </a:lnTo>
                <a:lnTo>
                  <a:pt x="5012" y="46"/>
                </a:lnTo>
                <a:lnTo>
                  <a:pt x="5012" y="46"/>
                </a:lnTo>
                <a:lnTo>
                  <a:pt x="5012" y="54"/>
                </a:lnTo>
                <a:lnTo>
                  <a:pt x="5008" y="62"/>
                </a:lnTo>
                <a:lnTo>
                  <a:pt x="5004" y="70"/>
                </a:lnTo>
                <a:lnTo>
                  <a:pt x="4998" y="78"/>
                </a:lnTo>
                <a:lnTo>
                  <a:pt x="4992" y="82"/>
                </a:lnTo>
                <a:lnTo>
                  <a:pt x="4984" y="86"/>
                </a:lnTo>
                <a:lnTo>
                  <a:pt x="4976" y="90"/>
                </a:lnTo>
                <a:lnTo>
                  <a:pt x="4966" y="90"/>
                </a:lnTo>
                <a:lnTo>
                  <a:pt x="4966" y="90"/>
                </a:lnTo>
                <a:close/>
                <a:moveTo>
                  <a:pt x="4786" y="90"/>
                </a:moveTo>
                <a:lnTo>
                  <a:pt x="4762" y="90"/>
                </a:lnTo>
                <a:lnTo>
                  <a:pt x="4762" y="90"/>
                </a:lnTo>
                <a:lnTo>
                  <a:pt x="4754" y="90"/>
                </a:lnTo>
                <a:lnTo>
                  <a:pt x="4746" y="86"/>
                </a:lnTo>
                <a:lnTo>
                  <a:pt x="4738" y="82"/>
                </a:lnTo>
                <a:lnTo>
                  <a:pt x="4730" y="78"/>
                </a:lnTo>
                <a:lnTo>
                  <a:pt x="4726" y="70"/>
                </a:lnTo>
                <a:lnTo>
                  <a:pt x="4722" y="62"/>
                </a:lnTo>
                <a:lnTo>
                  <a:pt x="4718" y="54"/>
                </a:lnTo>
                <a:lnTo>
                  <a:pt x="4718" y="46"/>
                </a:lnTo>
                <a:lnTo>
                  <a:pt x="4718" y="46"/>
                </a:lnTo>
                <a:lnTo>
                  <a:pt x="4718" y="36"/>
                </a:lnTo>
                <a:lnTo>
                  <a:pt x="4722" y="28"/>
                </a:lnTo>
                <a:lnTo>
                  <a:pt x="4726" y="20"/>
                </a:lnTo>
                <a:lnTo>
                  <a:pt x="4730" y="12"/>
                </a:lnTo>
                <a:lnTo>
                  <a:pt x="4738" y="8"/>
                </a:lnTo>
                <a:lnTo>
                  <a:pt x="4746" y="4"/>
                </a:lnTo>
                <a:lnTo>
                  <a:pt x="4754" y="0"/>
                </a:lnTo>
                <a:lnTo>
                  <a:pt x="4762" y="0"/>
                </a:lnTo>
                <a:lnTo>
                  <a:pt x="4786" y="0"/>
                </a:lnTo>
                <a:lnTo>
                  <a:pt x="4786" y="0"/>
                </a:lnTo>
                <a:lnTo>
                  <a:pt x="4794" y="0"/>
                </a:lnTo>
                <a:lnTo>
                  <a:pt x="4804" y="4"/>
                </a:lnTo>
                <a:lnTo>
                  <a:pt x="4810" y="8"/>
                </a:lnTo>
                <a:lnTo>
                  <a:pt x="4818" y="12"/>
                </a:lnTo>
                <a:lnTo>
                  <a:pt x="4824" y="20"/>
                </a:lnTo>
                <a:lnTo>
                  <a:pt x="4828" y="28"/>
                </a:lnTo>
                <a:lnTo>
                  <a:pt x="4830" y="36"/>
                </a:lnTo>
                <a:lnTo>
                  <a:pt x="4830" y="46"/>
                </a:lnTo>
                <a:lnTo>
                  <a:pt x="4830" y="46"/>
                </a:lnTo>
                <a:lnTo>
                  <a:pt x="4830" y="54"/>
                </a:lnTo>
                <a:lnTo>
                  <a:pt x="4828" y="62"/>
                </a:lnTo>
                <a:lnTo>
                  <a:pt x="4824" y="70"/>
                </a:lnTo>
                <a:lnTo>
                  <a:pt x="4818" y="78"/>
                </a:lnTo>
                <a:lnTo>
                  <a:pt x="4810" y="82"/>
                </a:lnTo>
                <a:lnTo>
                  <a:pt x="4804" y="86"/>
                </a:lnTo>
                <a:lnTo>
                  <a:pt x="4794" y="90"/>
                </a:lnTo>
                <a:lnTo>
                  <a:pt x="4786" y="90"/>
                </a:lnTo>
                <a:lnTo>
                  <a:pt x="4786" y="90"/>
                </a:lnTo>
                <a:close/>
                <a:moveTo>
                  <a:pt x="4604" y="90"/>
                </a:moveTo>
                <a:lnTo>
                  <a:pt x="4582" y="90"/>
                </a:lnTo>
                <a:lnTo>
                  <a:pt x="4582" y="90"/>
                </a:lnTo>
                <a:lnTo>
                  <a:pt x="4572" y="90"/>
                </a:lnTo>
                <a:lnTo>
                  <a:pt x="4564" y="86"/>
                </a:lnTo>
                <a:lnTo>
                  <a:pt x="4556" y="82"/>
                </a:lnTo>
                <a:lnTo>
                  <a:pt x="4550" y="78"/>
                </a:lnTo>
                <a:lnTo>
                  <a:pt x="4544" y="70"/>
                </a:lnTo>
                <a:lnTo>
                  <a:pt x="4540" y="62"/>
                </a:lnTo>
                <a:lnTo>
                  <a:pt x="4536" y="54"/>
                </a:lnTo>
                <a:lnTo>
                  <a:pt x="4536" y="46"/>
                </a:lnTo>
                <a:lnTo>
                  <a:pt x="4536" y="46"/>
                </a:lnTo>
                <a:lnTo>
                  <a:pt x="4536" y="36"/>
                </a:lnTo>
                <a:lnTo>
                  <a:pt x="4540" y="28"/>
                </a:lnTo>
                <a:lnTo>
                  <a:pt x="4544" y="20"/>
                </a:lnTo>
                <a:lnTo>
                  <a:pt x="4550" y="12"/>
                </a:lnTo>
                <a:lnTo>
                  <a:pt x="4556" y="8"/>
                </a:lnTo>
                <a:lnTo>
                  <a:pt x="4564" y="4"/>
                </a:lnTo>
                <a:lnTo>
                  <a:pt x="4572" y="0"/>
                </a:lnTo>
                <a:lnTo>
                  <a:pt x="4582" y="0"/>
                </a:lnTo>
                <a:lnTo>
                  <a:pt x="4604" y="0"/>
                </a:lnTo>
                <a:lnTo>
                  <a:pt x="4604" y="0"/>
                </a:lnTo>
                <a:lnTo>
                  <a:pt x="4614" y="0"/>
                </a:lnTo>
                <a:lnTo>
                  <a:pt x="4622" y="4"/>
                </a:lnTo>
                <a:lnTo>
                  <a:pt x="4630" y="8"/>
                </a:lnTo>
                <a:lnTo>
                  <a:pt x="4636" y="12"/>
                </a:lnTo>
                <a:lnTo>
                  <a:pt x="4642" y="20"/>
                </a:lnTo>
                <a:lnTo>
                  <a:pt x="4646" y="28"/>
                </a:lnTo>
                <a:lnTo>
                  <a:pt x="4648" y="36"/>
                </a:lnTo>
                <a:lnTo>
                  <a:pt x="4650" y="46"/>
                </a:lnTo>
                <a:lnTo>
                  <a:pt x="4650" y="46"/>
                </a:lnTo>
                <a:lnTo>
                  <a:pt x="4648" y="54"/>
                </a:lnTo>
                <a:lnTo>
                  <a:pt x="4646" y="62"/>
                </a:lnTo>
                <a:lnTo>
                  <a:pt x="4642" y="70"/>
                </a:lnTo>
                <a:lnTo>
                  <a:pt x="4636" y="78"/>
                </a:lnTo>
                <a:lnTo>
                  <a:pt x="4630" y="82"/>
                </a:lnTo>
                <a:lnTo>
                  <a:pt x="4622" y="86"/>
                </a:lnTo>
                <a:lnTo>
                  <a:pt x="4614" y="90"/>
                </a:lnTo>
                <a:lnTo>
                  <a:pt x="4604" y="90"/>
                </a:lnTo>
                <a:lnTo>
                  <a:pt x="4604" y="90"/>
                </a:lnTo>
                <a:close/>
                <a:moveTo>
                  <a:pt x="4422" y="90"/>
                </a:moveTo>
                <a:lnTo>
                  <a:pt x="4400" y="90"/>
                </a:lnTo>
                <a:lnTo>
                  <a:pt x="4400" y="90"/>
                </a:lnTo>
                <a:lnTo>
                  <a:pt x="4390" y="90"/>
                </a:lnTo>
                <a:lnTo>
                  <a:pt x="4382" y="86"/>
                </a:lnTo>
                <a:lnTo>
                  <a:pt x="4374" y="82"/>
                </a:lnTo>
                <a:lnTo>
                  <a:pt x="4368" y="78"/>
                </a:lnTo>
                <a:lnTo>
                  <a:pt x="4362" y="70"/>
                </a:lnTo>
                <a:lnTo>
                  <a:pt x="4358" y="62"/>
                </a:lnTo>
                <a:lnTo>
                  <a:pt x="4356" y="54"/>
                </a:lnTo>
                <a:lnTo>
                  <a:pt x="4354" y="46"/>
                </a:lnTo>
                <a:lnTo>
                  <a:pt x="4354" y="46"/>
                </a:lnTo>
                <a:lnTo>
                  <a:pt x="4356" y="36"/>
                </a:lnTo>
                <a:lnTo>
                  <a:pt x="4358" y="28"/>
                </a:lnTo>
                <a:lnTo>
                  <a:pt x="4362" y="20"/>
                </a:lnTo>
                <a:lnTo>
                  <a:pt x="4368" y="12"/>
                </a:lnTo>
                <a:lnTo>
                  <a:pt x="4374" y="8"/>
                </a:lnTo>
                <a:lnTo>
                  <a:pt x="4382" y="4"/>
                </a:lnTo>
                <a:lnTo>
                  <a:pt x="4390" y="0"/>
                </a:lnTo>
                <a:lnTo>
                  <a:pt x="4400" y="0"/>
                </a:lnTo>
                <a:lnTo>
                  <a:pt x="4422" y="0"/>
                </a:lnTo>
                <a:lnTo>
                  <a:pt x="4422" y="0"/>
                </a:lnTo>
                <a:lnTo>
                  <a:pt x="4432" y="0"/>
                </a:lnTo>
                <a:lnTo>
                  <a:pt x="4440" y="4"/>
                </a:lnTo>
                <a:lnTo>
                  <a:pt x="4448" y="8"/>
                </a:lnTo>
                <a:lnTo>
                  <a:pt x="4454" y="12"/>
                </a:lnTo>
                <a:lnTo>
                  <a:pt x="4460" y="20"/>
                </a:lnTo>
                <a:lnTo>
                  <a:pt x="4464" y="28"/>
                </a:lnTo>
                <a:lnTo>
                  <a:pt x="4468" y="36"/>
                </a:lnTo>
                <a:lnTo>
                  <a:pt x="4468" y="46"/>
                </a:lnTo>
                <a:lnTo>
                  <a:pt x="4468" y="46"/>
                </a:lnTo>
                <a:lnTo>
                  <a:pt x="4468" y="54"/>
                </a:lnTo>
                <a:lnTo>
                  <a:pt x="4464" y="62"/>
                </a:lnTo>
                <a:lnTo>
                  <a:pt x="4460" y="70"/>
                </a:lnTo>
                <a:lnTo>
                  <a:pt x="4454" y="78"/>
                </a:lnTo>
                <a:lnTo>
                  <a:pt x="4448" y="82"/>
                </a:lnTo>
                <a:lnTo>
                  <a:pt x="4440" y="86"/>
                </a:lnTo>
                <a:lnTo>
                  <a:pt x="4432" y="90"/>
                </a:lnTo>
                <a:lnTo>
                  <a:pt x="4422" y="90"/>
                </a:lnTo>
                <a:lnTo>
                  <a:pt x="4422" y="90"/>
                </a:lnTo>
                <a:close/>
                <a:moveTo>
                  <a:pt x="4242" y="90"/>
                </a:moveTo>
                <a:lnTo>
                  <a:pt x="4218" y="90"/>
                </a:lnTo>
                <a:lnTo>
                  <a:pt x="4218" y="90"/>
                </a:lnTo>
                <a:lnTo>
                  <a:pt x="4210" y="90"/>
                </a:lnTo>
                <a:lnTo>
                  <a:pt x="4200" y="86"/>
                </a:lnTo>
                <a:lnTo>
                  <a:pt x="4194" y="82"/>
                </a:lnTo>
                <a:lnTo>
                  <a:pt x="4186" y="78"/>
                </a:lnTo>
                <a:lnTo>
                  <a:pt x="4180" y="70"/>
                </a:lnTo>
                <a:lnTo>
                  <a:pt x="4176" y="62"/>
                </a:lnTo>
                <a:lnTo>
                  <a:pt x="4174" y="54"/>
                </a:lnTo>
                <a:lnTo>
                  <a:pt x="4174" y="46"/>
                </a:lnTo>
                <a:lnTo>
                  <a:pt x="4174" y="46"/>
                </a:lnTo>
                <a:lnTo>
                  <a:pt x="4174" y="36"/>
                </a:lnTo>
                <a:lnTo>
                  <a:pt x="4176" y="28"/>
                </a:lnTo>
                <a:lnTo>
                  <a:pt x="4180" y="20"/>
                </a:lnTo>
                <a:lnTo>
                  <a:pt x="4186" y="12"/>
                </a:lnTo>
                <a:lnTo>
                  <a:pt x="4194" y="8"/>
                </a:lnTo>
                <a:lnTo>
                  <a:pt x="4200" y="4"/>
                </a:lnTo>
                <a:lnTo>
                  <a:pt x="4210" y="0"/>
                </a:lnTo>
                <a:lnTo>
                  <a:pt x="4218" y="0"/>
                </a:lnTo>
                <a:lnTo>
                  <a:pt x="4242" y="0"/>
                </a:lnTo>
                <a:lnTo>
                  <a:pt x="4242" y="0"/>
                </a:lnTo>
                <a:lnTo>
                  <a:pt x="4250" y="0"/>
                </a:lnTo>
                <a:lnTo>
                  <a:pt x="4258" y="4"/>
                </a:lnTo>
                <a:lnTo>
                  <a:pt x="4266" y="8"/>
                </a:lnTo>
                <a:lnTo>
                  <a:pt x="4274" y="12"/>
                </a:lnTo>
                <a:lnTo>
                  <a:pt x="4278" y="20"/>
                </a:lnTo>
                <a:lnTo>
                  <a:pt x="4284" y="28"/>
                </a:lnTo>
                <a:lnTo>
                  <a:pt x="4286" y="36"/>
                </a:lnTo>
                <a:lnTo>
                  <a:pt x="4286" y="46"/>
                </a:lnTo>
                <a:lnTo>
                  <a:pt x="4286" y="46"/>
                </a:lnTo>
                <a:lnTo>
                  <a:pt x="4286" y="54"/>
                </a:lnTo>
                <a:lnTo>
                  <a:pt x="4284" y="62"/>
                </a:lnTo>
                <a:lnTo>
                  <a:pt x="4278" y="70"/>
                </a:lnTo>
                <a:lnTo>
                  <a:pt x="4274" y="78"/>
                </a:lnTo>
                <a:lnTo>
                  <a:pt x="4266" y="82"/>
                </a:lnTo>
                <a:lnTo>
                  <a:pt x="4258" y="86"/>
                </a:lnTo>
                <a:lnTo>
                  <a:pt x="4250" y="90"/>
                </a:lnTo>
                <a:lnTo>
                  <a:pt x="4242" y="90"/>
                </a:lnTo>
                <a:lnTo>
                  <a:pt x="4242" y="90"/>
                </a:lnTo>
                <a:close/>
                <a:moveTo>
                  <a:pt x="4060" y="90"/>
                </a:moveTo>
                <a:lnTo>
                  <a:pt x="4038" y="90"/>
                </a:lnTo>
                <a:lnTo>
                  <a:pt x="4038" y="90"/>
                </a:lnTo>
                <a:lnTo>
                  <a:pt x="4028" y="90"/>
                </a:lnTo>
                <a:lnTo>
                  <a:pt x="4020" y="86"/>
                </a:lnTo>
                <a:lnTo>
                  <a:pt x="4012" y="82"/>
                </a:lnTo>
                <a:lnTo>
                  <a:pt x="4006" y="78"/>
                </a:lnTo>
                <a:lnTo>
                  <a:pt x="4000" y="70"/>
                </a:lnTo>
                <a:lnTo>
                  <a:pt x="3996" y="62"/>
                </a:lnTo>
                <a:lnTo>
                  <a:pt x="3992" y="54"/>
                </a:lnTo>
                <a:lnTo>
                  <a:pt x="3992" y="46"/>
                </a:lnTo>
                <a:lnTo>
                  <a:pt x="3992" y="46"/>
                </a:lnTo>
                <a:lnTo>
                  <a:pt x="3992" y="36"/>
                </a:lnTo>
                <a:lnTo>
                  <a:pt x="3996" y="28"/>
                </a:lnTo>
                <a:lnTo>
                  <a:pt x="4000" y="20"/>
                </a:lnTo>
                <a:lnTo>
                  <a:pt x="4006" y="12"/>
                </a:lnTo>
                <a:lnTo>
                  <a:pt x="4012" y="8"/>
                </a:lnTo>
                <a:lnTo>
                  <a:pt x="4020" y="4"/>
                </a:lnTo>
                <a:lnTo>
                  <a:pt x="4028" y="0"/>
                </a:lnTo>
                <a:lnTo>
                  <a:pt x="4038" y="0"/>
                </a:lnTo>
                <a:lnTo>
                  <a:pt x="4060" y="0"/>
                </a:lnTo>
                <a:lnTo>
                  <a:pt x="4060" y="0"/>
                </a:lnTo>
                <a:lnTo>
                  <a:pt x="4068" y="0"/>
                </a:lnTo>
                <a:lnTo>
                  <a:pt x="4078" y="4"/>
                </a:lnTo>
                <a:lnTo>
                  <a:pt x="4086" y="8"/>
                </a:lnTo>
                <a:lnTo>
                  <a:pt x="4092" y="12"/>
                </a:lnTo>
                <a:lnTo>
                  <a:pt x="4098" y="20"/>
                </a:lnTo>
                <a:lnTo>
                  <a:pt x="4102" y="28"/>
                </a:lnTo>
                <a:lnTo>
                  <a:pt x="4104" y="36"/>
                </a:lnTo>
                <a:lnTo>
                  <a:pt x="4106" y="46"/>
                </a:lnTo>
                <a:lnTo>
                  <a:pt x="4106" y="46"/>
                </a:lnTo>
                <a:lnTo>
                  <a:pt x="4104" y="54"/>
                </a:lnTo>
                <a:lnTo>
                  <a:pt x="4102" y="62"/>
                </a:lnTo>
                <a:lnTo>
                  <a:pt x="4098" y="70"/>
                </a:lnTo>
                <a:lnTo>
                  <a:pt x="4092" y="78"/>
                </a:lnTo>
                <a:lnTo>
                  <a:pt x="4086" y="82"/>
                </a:lnTo>
                <a:lnTo>
                  <a:pt x="4078" y="86"/>
                </a:lnTo>
                <a:lnTo>
                  <a:pt x="4068" y="90"/>
                </a:lnTo>
                <a:lnTo>
                  <a:pt x="4060" y="90"/>
                </a:lnTo>
                <a:lnTo>
                  <a:pt x="4060" y="90"/>
                </a:lnTo>
                <a:close/>
                <a:moveTo>
                  <a:pt x="3878" y="90"/>
                </a:moveTo>
                <a:lnTo>
                  <a:pt x="3856" y="90"/>
                </a:lnTo>
                <a:lnTo>
                  <a:pt x="3856" y="90"/>
                </a:lnTo>
                <a:lnTo>
                  <a:pt x="3846" y="90"/>
                </a:lnTo>
                <a:lnTo>
                  <a:pt x="3838" y="86"/>
                </a:lnTo>
                <a:lnTo>
                  <a:pt x="3830" y="82"/>
                </a:lnTo>
                <a:lnTo>
                  <a:pt x="3824" y="78"/>
                </a:lnTo>
                <a:lnTo>
                  <a:pt x="3818" y="70"/>
                </a:lnTo>
                <a:lnTo>
                  <a:pt x="3814" y="62"/>
                </a:lnTo>
                <a:lnTo>
                  <a:pt x="3812" y="54"/>
                </a:lnTo>
                <a:lnTo>
                  <a:pt x="3810" y="46"/>
                </a:lnTo>
                <a:lnTo>
                  <a:pt x="3810" y="46"/>
                </a:lnTo>
                <a:lnTo>
                  <a:pt x="3812" y="36"/>
                </a:lnTo>
                <a:lnTo>
                  <a:pt x="3814" y="28"/>
                </a:lnTo>
                <a:lnTo>
                  <a:pt x="3818" y="20"/>
                </a:lnTo>
                <a:lnTo>
                  <a:pt x="3824" y="12"/>
                </a:lnTo>
                <a:lnTo>
                  <a:pt x="3830" y="8"/>
                </a:lnTo>
                <a:lnTo>
                  <a:pt x="3838" y="4"/>
                </a:lnTo>
                <a:lnTo>
                  <a:pt x="3846" y="0"/>
                </a:lnTo>
                <a:lnTo>
                  <a:pt x="3856" y="0"/>
                </a:lnTo>
                <a:lnTo>
                  <a:pt x="3878" y="0"/>
                </a:lnTo>
                <a:lnTo>
                  <a:pt x="3878" y="0"/>
                </a:lnTo>
                <a:lnTo>
                  <a:pt x="3888" y="0"/>
                </a:lnTo>
                <a:lnTo>
                  <a:pt x="3896" y="4"/>
                </a:lnTo>
                <a:lnTo>
                  <a:pt x="3904" y="8"/>
                </a:lnTo>
                <a:lnTo>
                  <a:pt x="3910" y="12"/>
                </a:lnTo>
                <a:lnTo>
                  <a:pt x="3916" y="20"/>
                </a:lnTo>
                <a:lnTo>
                  <a:pt x="3920" y="28"/>
                </a:lnTo>
                <a:lnTo>
                  <a:pt x="3922" y="36"/>
                </a:lnTo>
                <a:lnTo>
                  <a:pt x="3924" y="46"/>
                </a:lnTo>
                <a:lnTo>
                  <a:pt x="3924" y="46"/>
                </a:lnTo>
                <a:lnTo>
                  <a:pt x="3922" y="54"/>
                </a:lnTo>
                <a:lnTo>
                  <a:pt x="3920" y="62"/>
                </a:lnTo>
                <a:lnTo>
                  <a:pt x="3916" y="70"/>
                </a:lnTo>
                <a:lnTo>
                  <a:pt x="3910" y="78"/>
                </a:lnTo>
                <a:lnTo>
                  <a:pt x="3904" y="82"/>
                </a:lnTo>
                <a:lnTo>
                  <a:pt x="3896" y="86"/>
                </a:lnTo>
                <a:lnTo>
                  <a:pt x="3888" y="90"/>
                </a:lnTo>
                <a:lnTo>
                  <a:pt x="3878" y="90"/>
                </a:lnTo>
                <a:lnTo>
                  <a:pt x="3878" y="90"/>
                </a:lnTo>
                <a:close/>
                <a:moveTo>
                  <a:pt x="3696" y="90"/>
                </a:moveTo>
                <a:lnTo>
                  <a:pt x="3674" y="90"/>
                </a:lnTo>
                <a:lnTo>
                  <a:pt x="3674" y="90"/>
                </a:lnTo>
                <a:lnTo>
                  <a:pt x="3666" y="90"/>
                </a:lnTo>
                <a:lnTo>
                  <a:pt x="3656" y="86"/>
                </a:lnTo>
                <a:lnTo>
                  <a:pt x="3648" y="82"/>
                </a:lnTo>
                <a:lnTo>
                  <a:pt x="3642" y="78"/>
                </a:lnTo>
                <a:lnTo>
                  <a:pt x="3636" y="70"/>
                </a:lnTo>
                <a:lnTo>
                  <a:pt x="3632" y="62"/>
                </a:lnTo>
                <a:lnTo>
                  <a:pt x="3630" y="54"/>
                </a:lnTo>
                <a:lnTo>
                  <a:pt x="3628" y="46"/>
                </a:lnTo>
                <a:lnTo>
                  <a:pt x="3628" y="46"/>
                </a:lnTo>
                <a:lnTo>
                  <a:pt x="3630" y="36"/>
                </a:lnTo>
                <a:lnTo>
                  <a:pt x="3632" y="28"/>
                </a:lnTo>
                <a:lnTo>
                  <a:pt x="3636" y="20"/>
                </a:lnTo>
                <a:lnTo>
                  <a:pt x="3642" y="12"/>
                </a:lnTo>
                <a:lnTo>
                  <a:pt x="3648" y="8"/>
                </a:lnTo>
                <a:lnTo>
                  <a:pt x="3656" y="4"/>
                </a:lnTo>
                <a:lnTo>
                  <a:pt x="3666" y="0"/>
                </a:lnTo>
                <a:lnTo>
                  <a:pt x="3674" y="0"/>
                </a:lnTo>
                <a:lnTo>
                  <a:pt x="3696" y="0"/>
                </a:lnTo>
                <a:lnTo>
                  <a:pt x="3696" y="0"/>
                </a:lnTo>
                <a:lnTo>
                  <a:pt x="3706" y="0"/>
                </a:lnTo>
                <a:lnTo>
                  <a:pt x="3714" y="4"/>
                </a:lnTo>
                <a:lnTo>
                  <a:pt x="3722" y="8"/>
                </a:lnTo>
                <a:lnTo>
                  <a:pt x="3730" y="12"/>
                </a:lnTo>
                <a:lnTo>
                  <a:pt x="3734" y="20"/>
                </a:lnTo>
                <a:lnTo>
                  <a:pt x="3738" y="28"/>
                </a:lnTo>
                <a:lnTo>
                  <a:pt x="3742" y="36"/>
                </a:lnTo>
                <a:lnTo>
                  <a:pt x="3742" y="46"/>
                </a:lnTo>
                <a:lnTo>
                  <a:pt x="3742" y="46"/>
                </a:lnTo>
                <a:lnTo>
                  <a:pt x="3742" y="54"/>
                </a:lnTo>
                <a:lnTo>
                  <a:pt x="3738" y="62"/>
                </a:lnTo>
                <a:lnTo>
                  <a:pt x="3734" y="70"/>
                </a:lnTo>
                <a:lnTo>
                  <a:pt x="3730" y="78"/>
                </a:lnTo>
                <a:lnTo>
                  <a:pt x="3722" y="82"/>
                </a:lnTo>
                <a:lnTo>
                  <a:pt x="3714" y="86"/>
                </a:lnTo>
                <a:lnTo>
                  <a:pt x="3706" y="90"/>
                </a:lnTo>
                <a:lnTo>
                  <a:pt x="3696" y="90"/>
                </a:lnTo>
                <a:lnTo>
                  <a:pt x="3696" y="90"/>
                </a:lnTo>
                <a:close/>
                <a:moveTo>
                  <a:pt x="3516" y="90"/>
                </a:moveTo>
                <a:lnTo>
                  <a:pt x="3492" y="90"/>
                </a:lnTo>
                <a:lnTo>
                  <a:pt x="3492" y="90"/>
                </a:lnTo>
                <a:lnTo>
                  <a:pt x="3484" y="90"/>
                </a:lnTo>
                <a:lnTo>
                  <a:pt x="3476" y="86"/>
                </a:lnTo>
                <a:lnTo>
                  <a:pt x="3468" y="82"/>
                </a:lnTo>
                <a:lnTo>
                  <a:pt x="3460" y="78"/>
                </a:lnTo>
                <a:lnTo>
                  <a:pt x="3456" y="70"/>
                </a:lnTo>
                <a:lnTo>
                  <a:pt x="3452" y="62"/>
                </a:lnTo>
                <a:lnTo>
                  <a:pt x="3448" y="54"/>
                </a:lnTo>
                <a:lnTo>
                  <a:pt x="3448" y="46"/>
                </a:lnTo>
                <a:lnTo>
                  <a:pt x="3448" y="46"/>
                </a:lnTo>
                <a:lnTo>
                  <a:pt x="3448" y="36"/>
                </a:lnTo>
                <a:lnTo>
                  <a:pt x="3452" y="28"/>
                </a:lnTo>
                <a:lnTo>
                  <a:pt x="3456" y="20"/>
                </a:lnTo>
                <a:lnTo>
                  <a:pt x="3460" y="12"/>
                </a:lnTo>
                <a:lnTo>
                  <a:pt x="3468" y="8"/>
                </a:lnTo>
                <a:lnTo>
                  <a:pt x="3476" y="4"/>
                </a:lnTo>
                <a:lnTo>
                  <a:pt x="3484" y="0"/>
                </a:lnTo>
                <a:lnTo>
                  <a:pt x="3492" y="0"/>
                </a:lnTo>
                <a:lnTo>
                  <a:pt x="3516" y="0"/>
                </a:lnTo>
                <a:lnTo>
                  <a:pt x="3516" y="0"/>
                </a:lnTo>
                <a:lnTo>
                  <a:pt x="3524" y="0"/>
                </a:lnTo>
                <a:lnTo>
                  <a:pt x="3534" y="4"/>
                </a:lnTo>
                <a:lnTo>
                  <a:pt x="3540" y="8"/>
                </a:lnTo>
                <a:lnTo>
                  <a:pt x="3548" y="12"/>
                </a:lnTo>
                <a:lnTo>
                  <a:pt x="3554" y="20"/>
                </a:lnTo>
                <a:lnTo>
                  <a:pt x="3558" y="28"/>
                </a:lnTo>
                <a:lnTo>
                  <a:pt x="3560" y="36"/>
                </a:lnTo>
                <a:lnTo>
                  <a:pt x="3560" y="46"/>
                </a:lnTo>
                <a:lnTo>
                  <a:pt x="3560" y="46"/>
                </a:lnTo>
                <a:lnTo>
                  <a:pt x="3560" y="54"/>
                </a:lnTo>
                <a:lnTo>
                  <a:pt x="3558" y="62"/>
                </a:lnTo>
                <a:lnTo>
                  <a:pt x="3554" y="70"/>
                </a:lnTo>
                <a:lnTo>
                  <a:pt x="3548" y="78"/>
                </a:lnTo>
                <a:lnTo>
                  <a:pt x="3540" y="82"/>
                </a:lnTo>
                <a:lnTo>
                  <a:pt x="3534" y="86"/>
                </a:lnTo>
                <a:lnTo>
                  <a:pt x="3524" y="90"/>
                </a:lnTo>
                <a:lnTo>
                  <a:pt x="3516" y="90"/>
                </a:lnTo>
                <a:lnTo>
                  <a:pt x="3516" y="90"/>
                </a:lnTo>
                <a:close/>
                <a:moveTo>
                  <a:pt x="3334" y="90"/>
                </a:moveTo>
                <a:lnTo>
                  <a:pt x="3312" y="90"/>
                </a:lnTo>
                <a:lnTo>
                  <a:pt x="3312" y="90"/>
                </a:lnTo>
                <a:lnTo>
                  <a:pt x="3302" y="90"/>
                </a:lnTo>
                <a:lnTo>
                  <a:pt x="3294" y="86"/>
                </a:lnTo>
                <a:lnTo>
                  <a:pt x="3286" y="82"/>
                </a:lnTo>
                <a:lnTo>
                  <a:pt x="3280" y="78"/>
                </a:lnTo>
                <a:lnTo>
                  <a:pt x="3274" y="70"/>
                </a:lnTo>
                <a:lnTo>
                  <a:pt x="3270" y="62"/>
                </a:lnTo>
                <a:lnTo>
                  <a:pt x="3268" y="54"/>
                </a:lnTo>
                <a:lnTo>
                  <a:pt x="3266" y="46"/>
                </a:lnTo>
                <a:lnTo>
                  <a:pt x="3266" y="46"/>
                </a:lnTo>
                <a:lnTo>
                  <a:pt x="3268" y="36"/>
                </a:lnTo>
                <a:lnTo>
                  <a:pt x="3270" y="28"/>
                </a:lnTo>
                <a:lnTo>
                  <a:pt x="3274" y="20"/>
                </a:lnTo>
                <a:lnTo>
                  <a:pt x="3280" y="12"/>
                </a:lnTo>
                <a:lnTo>
                  <a:pt x="3286" y="8"/>
                </a:lnTo>
                <a:lnTo>
                  <a:pt x="3294" y="4"/>
                </a:lnTo>
                <a:lnTo>
                  <a:pt x="3302" y="0"/>
                </a:lnTo>
                <a:lnTo>
                  <a:pt x="3312" y="0"/>
                </a:lnTo>
                <a:lnTo>
                  <a:pt x="3334" y="0"/>
                </a:lnTo>
                <a:lnTo>
                  <a:pt x="3334" y="0"/>
                </a:lnTo>
                <a:lnTo>
                  <a:pt x="3344" y="0"/>
                </a:lnTo>
                <a:lnTo>
                  <a:pt x="3352" y="4"/>
                </a:lnTo>
                <a:lnTo>
                  <a:pt x="3360" y="8"/>
                </a:lnTo>
                <a:lnTo>
                  <a:pt x="3366" y="12"/>
                </a:lnTo>
                <a:lnTo>
                  <a:pt x="3372" y="20"/>
                </a:lnTo>
                <a:lnTo>
                  <a:pt x="3376" y="28"/>
                </a:lnTo>
                <a:lnTo>
                  <a:pt x="3378" y="36"/>
                </a:lnTo>
                <a:lnTo>
                  <a:pt x="3380" y="46"/>
                </a:lnTo>
                <a:lnTo>
                  <a:pt x="3380" y="46"/>
                </a:lnTo>
                <a:lnTo>
                  <a:pt x="3378" y="54"/>
                </a:lnTo>
                <a:lnTo>
                  <a:pt x="3376" y="62"/>
                </a:lnTo>
                <a:lnTo>
                  <a:pt x="3372" y="70"/>
                </a:lnTo>
                <a:lnTo>
                  <a:pt x="3366" y="78"/>
                </a:lnTo>
                <a:lnTo>
                  <a:pt x="3360" y="82"/>
                </a:lnTo>
                <a:lnTo>
                  <a:pt x="3352" y="86"/>
                </a:lnTo>
                <a:lnTo>
                  <a:pt x="3344" y="90"/>
                </a:lnTo>
                <a:lnTo>
                  <a:pt x="3334" y="90"/>
                </a:lnTo>
                <a:lnTo>
                  <a:pt x="3334" y="90"/>
                </a:lnTo>
                <a:close/>
                <a:moveTo>
                  <a:pt x="3152" y="90"/>
                </a:moveTo>
                <a:lnTo>
                  <a:pt x="3130" y="90"/>
                </a:lnTo>
                <a:lnTo>
                  <a:pt x="3130" y="90"/>
                </a:lnTo>
                <a:lnTo>
                  <a:pt x="3120" y="90"/>
                </a:lnTo>
                <a:lnTo>
                  <a:pt x="3112" y="86"/>
                </a:lnTo>
                <a:lnTo>
                  <a:pt x="3104" y="82"/>
                </a:lnTo>
                <a:lnTo>
                  <a:pt x="3098" y="78"/>
                </a:lnTo>
                <a:lnTo>
                  <a:pt x="3092" y="70"/>
                </a:lnTo>
                <a:lnTo>
                  <a:pt x="3088" y="62"/>
                </a:lnTo>
                <a:lnTo>
                  <a:pt x="3086" y="54"/>
                </a:lnTo>
                <a:lnTo>
                  <a:pt x="3084" y="46"/>
                </a:lnTo>
                <a:lnTo>
                  <a:pt x="3084" y="46"/>
                </a:lnTo>
                <a:lnTo>
                  <a:pt x="3086" y="36"/>
                </a:lnTo>
                <a:lnTo>
                  <a:pt x="3088" y="28"/>
                </a:lnTo>
                <a:lnTo>
                  <a:pt x="3092" y="20"/>
                </a:lnTo>
                <a:lnTo>
                  <a:pt x="3098" y="12"/>
                </a:lnTo>
                <a:lnTo>
                  <a:pt x="3104" y="8"/>
                </a:lnTo>
                <a:lnTo>
                  <a:pt x="3112" y="4"/>
                </a:lnTo>
                <a:lnTo>
                  <a:pt x="3120" y="0"/>
                </a:lnTo>
                <a:lnTo>
                  <a:pt x="3130" y="0"/>
                </a:lnTo>
                <a:lnTo>
                  <a:pt x="3152" y="0"/>
                </a:lnTo>
                <a:lnTo>
                  <a:pt x="3152" y="0"/>
                </a:lnTo>
                <a:lnTo>
                  <a:pt x="3162" y="0"/>
                </a:lnTo>
                <a:lnTo>
                  <a:pt x="3170" y="4"/>
                </a:lnTo>
                <a:lnTo>
                  <a:pt x="3178" y="8"/>
                </a:lnTo>
                <a:lnTo>
                  <a:pt x="3184" y="12"/>
                </a:lnTo>
                <a:lnTo>
                  <a:pt x="3190" y="20"/>
                </a:lnTo>
                <a:lnTo>
                  <a:pt x="3194" y="28"/>
                </a:lnTo>
                <a:lnTo>
                  <a:pt x="3198" y="36"/>
                </a:lnTo>
                <a:lnTo>
                  <a:pt x="3198" y="46"/>
                </a:lnTo>
                <a:lnTo>
                  <a:pt x="3198" y="46"/>
                </a:lnTo>
                <a:lnTo>
                  <a:pt x="3198" y="54"/>
                </a:lnTo>
                <a:lnTo>
                  <a:pt x="3194" y="62"/>
                </a:lnTo>
                <a:lnTo>
                  <a:pt x="3190" y="70"/>
                </a:lnTo>
                <a:lnTo>
                  <a:pt x="3184" y="78"/>
                </a:lnTo>
                <a:lnTo>
                  <a:pt x="3178" y="82"/>
                </a:lnTo>
                <a:lnTo>
                  <a:pt x="3170" y="86"/>
                </a:lnTo>
                <a:lnTo>
                  <a:pt x="3162" y="90"/>
                </a:lnTo>
                <a:lnTo>
                  <a:pt x="3152" y="90"/>
                </a:lnTo>
                <a:lnTo>
                  <a:pt x="3152" y="90"/>
                </a:lnTo>
                <a:close/>
                <a:moveTo>
                  <a:pt x="2972" y="90"/>
                </a:moveTo>
                <a:lnTo>
                  <a:pt x="2948" y="90"/>
                </a:lnTo>
                <a:lnTo>
                  <a:pt x="2948" y="90"/>
                </a:lnTo>
                <a:lnTo>
                  <a:pt x="2940" y="90"/>
                </a:lnTo>
                <a:lnTo>
                  <a:pt x="2930" y="86"/>
                </a:lnTo>
                <a:lnTo>
                  <a:pt x="2924" y="82"/>
                </a:lnTo>
                <a:lnTo>
                  <a:pt x="2916" y="78"/>
                </a:lnTo>
                <a:lnTo>
                  <a:pt x="2912" y="70"/>
                </a:lnTo>
                <a:lnTo>
                  <a:pt x="2906" y="62"/>
                </a:lnTo>
                <a:lnTo>
                  <a:pt x="2904" y="54"/>
                </a:lnTo>
                <a:lnTo>
                  <a:pt x="2904" y="46"/>
                </a:lnTo>
                <a:lnTo>
                  <a:pt x="2904" y="46"/>
                </a:lnTo>
                <a:lnTo>
                  <a:pt x="2904" y="36"/>
                </a:lnTo>
                <a:lnTo>
                  <a:pt x="2906" y="28"/>
                </a:lnTo>
                <a:lnTo>
                  <a:pt x="2912" y="20"/>
                </a:lnTo>
                <a:lnTo>
                  <a:pt x="2916" y="12"/>
                </a:lnTo>
                <a:lnTo>
                  <a:pt x="2924" y="8"/>
                </a:lnTo>
                <a:lnTo>
                  <a:pt x="2930" y="4"/>
                </a:lnTo>
                <a:lnTo>
                  <a:pt x="2940" y="0"/>
                </a:lnTo>
                <a:lnTo>
                  <a:pt x="2948" y="0"/>
                </a:lnTo>
                <a:lnTo>
                  <a:pt x="2972" y="0"/>
                </a:lnTo>
                <a:lnTo>
                  <a:pt x="2972" y="0"/>
                </a:lnTo>
                <a:lnTo>
                  <a:pt x="2980" y="0"/>
                </a:lnTo>
                <a:lnTo>
                  <a:pt x="2988" y="4"/>
                </a:lnTo>
                <a:lnTo>
                  <a:pt x="2996" y="8"/>
                </a:lnTo>
                <a:lnTo>
                  <a:pt x="3004" y="12"/>
                </a:lnTo>
                <a:lnTo>
                  <a:pt x="3008" y="20"/>
                </a:lnTo>
                <a:lnTo>
                  <a:pt x="3014" y="28"/>
                </a:lnTo>
                <a:lnTo>
                  <a:pt x="3016" y="36"/>
                </a:lnTo>
                <a:lnTo>
                  <a:pt x="3016" y="46"/>
                </a:lnTo>
                <a:lnTo>
                  <a:pt x="3016" y="46"/>
                </a:lnTo>
                <a:lnTo>
                  <a:pt x="3016" y="54"/>
                </a:lnTo>
                <a:lnTo>
                  <a:pt x="3014" y="62"/>
                </a:lnTo>
                <a:lnTo>
                  <a:pt x="3008" y="70"/>
                </a:lnTo>
                <a:lnTo>
                  <a:pt x="3004" y="78"/>
                </a:lnTo>
                <a:lnTo>
                  <a:pt x="2996" y="82"/>
                </a:lnTo>
                <a:lnTo>
                  <a:pt x="2988" y="86"/>
                </a:lnTo>
                <a:lnTo>
                  <a:pt x="2980" y="90"/>
                </a:lnTo>
                <a:lnTo>
                  <a:pt x="2972" y="90"/>
                </a:lnTo>
                <a:lnTo>
                  <a:pt x="2972" y="90"/>
                </a:lnTo>
                <a:close/>
                <a:moveTo>
                  <a:pt x="2790" y="90"/>
                </a:moveTo>
                <a:lnTo>
                  <a:pt x="2768" y="90"/>
                </a:lnTo>
                <a:lnTo>
                  <a:pt x="2768" y="90"/>
                </a:lnTo>
                <a:lnTo>
                  <a:pt x="2758" y="90"/>
                </a:lnTo>
                <a:lnTo>
                  <a:pt x="2750" y="86"/>
                </a:lnTo>
                <a:lnTo>
                  <a:pt x="2742" y="82"/>
                </a:lnTo>
                <a:lnTo>
                  <a:pt x="2736" y="78"/>
                </a:lnTo>
                <a:lnTo>
                  <a:pt x="2730" y="70"/>
                </a:lnTo>
                <a:lnTo>
                  <a:pt x="2726" y="62"/>
                </a:lnTo>
                <a:lnTo>
                  <a:pt x="2722" y="54"/>
                </a:lnTo>
                <a:lnTo>
                  <a:pt x="2722" y="46"/>
                </a:lnTo>
                <a:lnTo>
                  <a:pt x="2722" y="46"/>
                </a:lnTo>
                <a:lnTo>
                  <a:pt x="2722" y="36"/>
                </a:lnTo>
                <a:lnTo>
                  <a:pt x="2726" y="28"/>
                </a:lnTo>
                <a:lnTo>
                  <a:pt x="2730" y="20"/>
                </a:lnTo>
                <a:lnTo>
                  <a:pt x="2736" y="12"/>
                </a:lnTo>
                <a:lnTo>
                  <a:pt x="2742" y="8"/>
                </a:lnTo>
                <a:lnTo>
                  <a:pt x="2750" y="4"/>
                </a:lnTo>
                <a:lnTo>
                  <a:pt x="2758" y="0"/>
                </a:lnTo>
                <a:lnTo>
                  <a:pt x="2768" y="0"/>
                </a:lnTo>
                <a:lnTo>
                  <a:pt x="2790" y="0"/>
                </a:lnTo>
                <a:lnTo>
                  <a:pt x="2790" y="0"/>
                </a:lnTo>
                <a:lnTo>
                  <a:pt x="2800" y="0"/>
                </a:lnTo>
                <a:lnTo>
                  <a:pt x="2808" y="4"/>
                </a:lnTo>
                <a:lnTo>
                  <a:pt x="2816" y="8"/>
                </a:lnTo>
                <a:lnTo>
                  <a:pt x="2822" y="12"/>
                </a:lnTo>
                <a:lnTo>
                  <a:pt x="2828" y="20"/>
                </a:lnTo>
                <a:lnTo>
                  <a:pt x="2832" y="28"/>
                </a:lnTo>
                <a:lnTo>
                  <a:pt x="2834" y="36"/>
                </a:lnTo>
                <a:lnTo>
                  <a:pt x="2836" y="46"/>
                </a:lnTo>
                <a:lnTo>
                  <a:pt x="2836" y="46"/>
                </a:lnTo>
                <a:lnTo>
                  <a:pt x="2834" y="54"/>
                </a:lnTo>
                <a:lnTo>
                  <a:pt x="2832" y="62"/>
                </a:lnTo>
                <a:lnTo>
                  <a:pt x="2828" y="70"/>
                </a:lnTo>
                <a:lnTo>
                  <a:pt x="2822" y="78"/>
                </a:lnTo>
                <a:lnTo>
                  <a:pt x="2816" y="82"/>
                </a:lnTo>
                <a:lnTo>
                  <a:pt x="2808" y="86"/>
                </a:lnTo>
                <a:lnTo>
                  <a:pt x="2800" y="90"/>
                </a:lnTo>
                <a:lnTo>
                  <a:pt x="2790" y="90"/>
                </a:lnTo>
                <a:lnTo>
                  <a:pt x="2790" y="90"/>
                </a:lnTo>
                <a:close/>
                <a:moveTo>
                  <a:pt x="2608" y="90"/>
                </a:moveTo>
                <a:lnTo>
                  <a:pt x="2586" y="90"/>
                </a:lnTo>
                <a:lnTo>
                  <a:pt x="2586" y="90"/>
                </a:lnTo>
                <a:lnTo>
                  <a:pt x="2576" y="90"/>
                </a:lnTo>
                <a:lnTo>
                  <a:pt x="2568" y="86"/>
                </a:lnTo>
                <a:lnTo>
                  <a:pt x="2560" y="82"/>
                </a:lnTo>
                <a:lnTo>
                  <a:pt x="2554" y="78"/>
                </a:lnTo>
                <a:lnTo>
                  <a:pt x="2548" y="70"/>
                </a:lnTo>
                <a:lnTo>
                  <a:pt x="2544" y="62"/>
                </a:lnTo>
                <a:lnTo>
                  <a:pt x="2542" y="54"/>
                </a:lnTo>
                <a:lnTo>
                  <a:pt x="2540" y="46"/>
                </a:lnTo>
                <a:lnTo>
                  <a:pt x="2540" y="46"/>
                </a:lnTo>
                <a:lnTo>
                  <a:pt x="2542" y="36"/>
                </a:lnTo>
                <a:lnTo>
                  <a:pt x="2544" y="28"/>
                </a:lnTo>
                <a:lnTo>
                  <a:pt x="2548" y="20"/>
                </a:lnTo>
                <a:lnTo>
                  <a:pt x="2554" y="12"/>
                </a:lnTo>
                <a:lnTo>
                  <a:pt x="2560" y="8"/>
                </a:lnTo>
                <a:lnTo>
                  <a:pt x="2568" y="4"/>
                </a:lnTo>
                <a:lnTo>
                  <a:pt x="2576" y="0"/>
                </a:lnTo>
                <a:lnTo>
                  <a:pt x="2586" y="0"/>
                </a:lnTo>
                <a:lnTo>
                  <a:pt x="2608" y="0"/>
                </a:lnTo>
                <a:lnTo>
                  <a:pt x="2608" y="0"/>
                </a:lnTo>
                <a:lnTo>
                  <a:pt x="2618" y="0"/>
                </a:lnTo>
                <a:lnTo>
                  <a:pt x="2626" y="4"/>
                </a:lnTo>
                <a:lnTo>
                  <a:pt x="2634" y="8"/>
                </a:lnTo>
                <a:lnTo>
                  <a:pt x="2640" y="12"/>
                </a:lnTo>
                <a:lnTo>
                  <a:pt x="2646" y="20"/>
                </a:lnTo>
                <a:lnTo>
                  <a:pt x="2650" y="28"/>
                </a:lnTo>
                <a:lnTo>
                  <a:pt x="2652" y="36"/>
                </a:lnTo>
                <a:lnTo>
                  <a:pt x="2654" y="46"/>
                </a:lnTo>
                <a:lnTo>
                  <a:pt x="2654" y="46"/>
                </a:lnTo>
                <a:lnTo>
                  <a:pt x="2652" y="54"/>
                </a:lnTo>
                <a:lnTo>
                  <a:pt x="2650" y="62"/>
                </a:lnTo>
                <a:lnTo>
                  <a:pt x="2646" y="70"/>
                </a:lnTo>
                <a:lnTo>
                  <a:pt x="2640" y="78"/>
                </a:lnTo>
                <a:lnTo>
                  <a:pt x="2634" y="82"/>
                </a:lnTo>
                <a:lnTo>
                  <a:pt x="2626" y="86"/>
                </a:lnTo>
                <a:lnTo>
                  <a:pt x="2618" y="90"/>
                </a:lnTo>
                <a:lnTo>
                  <a:pt x="2608" y="90"/>
                </a:lnTo>
                <a:lnTo>
                  <a:pt x="2608" y="90"/>
                </a:lnTo>
                <a:close/>
                <a:moveTo>
                  <a:pt x="2428" y="90"/>
                </a:moveTo>
                <a:lnTo>
                  <a:pt x="2404" y="90"/>
                </a:lnTo>
                <a:lnTo>
                  <a:pt x="2404" y="90"/>
                </a:lnTo>
                <a:lnTo>
                  <a:pt x="2396" y="90"/>
                </a:lnTo>
                <a:lnTo>
                  <a:pt x="2386" y="86"/>
                </a:lnTo>
                <a:lnTo>
                  <a:pt x="2380" y="82"/>
                </a:lnTo>
                <a:lnTo>
                  <a:pt x="2372" y="78"/>
                </a:lnTo>
                <a:lnTo>
                  <a:pt x="2366" y="70"/>
                </a:lnTo>
                <a:lnTo>
                  <a:pt x="2362" y="62"/>
                </a:lnTo>
                <a:lnTo>
                  <a:pt x="2360" y="54"/>
                </a:lnTo>
                <a:lnTo>
                  <a:pt x="2360" y="46"/>
                </a:lnTo>
                <a:lnTo>
                  <a:pt x="2360" y="46"/>
                </a:lnTo>
                <a:lnTo>
                  <a:pt x="2360" y="36"/>
                </a:lnTo>
                <a:lnTo>
                  <a:pt x="2362" y="28"/>
                </a:lnTo>
                <a:lnTo>
                  <a:pt x="2366" y="20"/>
                </a:lnTo>
                <a:lnTo>
                  <a:pt x="2372" y="12"/>
                </a:lnTo>
                <a:lnTo>
                  <a:pt x="2380" y="8"/>
                </a:lnTo>
                <a:lnTo>
                  <a:pt x="2386" y="4"/>
                </a:lnTo>
                <a:lnTo>
                  <a:pt x="2396" y="0"/>
                </a:lnTo>
                <a:lnTo>
                  <a:pt x="2404" y="0"/>
                </a:lnTo>
                <a:lnTo>
                  <a:pt x="2428" y="0"/>
                </a:lnTo>
                <a:lnTo>
                  <a:pt x="2428" y="0"/>
                </a:lnTo>
                <a:lnTo>
                  <a:pt x="2436" y="0"/>
                </a:lnTo>
                <a:lnTo>
                  <a:pt x="2444" y="4"/>
                </a:lnTo>
                <a:lnTo>
                  <a:pt x="2452" y="8"/>
                </a:lnTo>
                <a:lnTo>
                  <a:pt x="2460" y="12"/>
                </a:lnTo>
                <a:lnTo>
                  <a:pt x="2464" y="20"/>
                </a:lnTo>
                <a:lnTo>
                  <a:pt x="2468" y="28"/>
                </a:lnTo>
                <a:lnTo>
                  <a:pt x="2472" y="36"/>
                </a:lnTo>
                <a:lnTo>
                  <a:pt x="2472" y="46"/>
                </a:lnTo>
                <a:lnTo>
                  <a:pt x="2472" y="46"/>
                </a:lnTo>
                <a:lnTo>
                  <a:pt x="2472" y="54"/>
                </a:lnTo>
                <a:lnTo>
                  <a:pt x="2468" y="62"/>
                </a:lnTo>
                <a:lnTo>
                  <a:pt x="2464" y="70"/>
                </a:lnTo>
                <a:lnTo>
                  <a:pt x="2460" y="78"/>
                </a:lnTo>
                <a:lnTo>
                  <a:pt x="2452" y="82"/>
                </a:lnTo>
                <a:lnTo>
                  <a:pt x="2444" y="86"/>
                </a:lnTo>
                <a:lnTo>
                  <a:pt x="2436" y="90"/>
                </a:lnTo>
                <a:lnTo>
                  <a:pt x="2428" y="90"/>
                </a:lnTo>
                <a:lnTo>
                  <a:pt x="2428" y="90"/>
                </a:lnTo>
                <a:close/>
                <a:moveTo>
                  <a:pt x="2246" y="90"/>
                </a:moveTo>
                <a:lnTo>
                  <a:pt x="2222" y="90"/>
                </a:lnTo>
                <a:lnTo>
                  <a:pt x="2222" y="90"/>
                </a:lnTo>
                <a:lnTo>
                  <a:pt x="2214" y="90"/>
                </a:lnTo>
                <a:lnTo>
                  <a:pt x="2206" y="86"/>
                </a:lnTo>
                <a:lnTo>
                  <a:pt x="2198" y="82"/>
                </a:lnTo>
                <a:lnTo>
                  <a:pt x="2190" y="78"/>
                </a:lnTo>
                <a:lnTo>
                  <a:pt x="2186" y="70"/>
                </a:lnTo>
                <a:lnTo>
                  <a:pt x="2182" y="62"/>
                </a:lnTo>
                <a:lnTo>
                  <a:pt x="2178" y="54"/>
                </a:lnTo>
                <a:lnTo>
                  <a:pt x="2178" y="46"/>
                </a:lnTo>
                <a:lnTo>
                  <a:pt x="2178" y="46"/>
                </a:lnTo>
                <a:lnTo>
                  <a:pt x="2178" y="36"/>
                </a:lnTo>
                <a:lnTo>
                  <a:pt x="2182" y="28"/>
                </a:lnTo>
                <a:lnTo>
                  <a:pt x="2186" y="20"/>
                </a:lnTo>
                <a:lnTo>
                  <a:pt x="2190" y="12"/>
                </a:lnTo>
                <a:lnTo>
                  <a:pt x="2198" y="8"/>
                </a:lnTo>
                <a:lnTo>
                  <a:pt x="2206" y="4"/>
                </a:lnTo>
                <a:lnTo>
                  <a:pt x="2214" y="0"/>
                </a:lnTo>
                <a:lnTo>
                  <a:pt x="2222" y="0"/>
                </a:lnTo>
                <a:lnTo>
                  <a:pt x="2246" y="0"/>
                </a:lnTo>
                <a:lnTo>
                  <a:pt x="2246" y="0"/>
                </a:lnTo>
                <a:lnTo>
                  <a:pt x="2254" y="0"/>
                </a:lnTo>
                <a:lnTo>
                  <a:pt x="2264" y="4"/>
                </a:lnTo>
                <a:lnTo>
                  <a:pt x="2270" y="8"/>
                </a:lnTo>
                <a:lnTo>
                  <a:pt x="2278" y="12"/>
                </a:lnTo>
                <a:lnTo>
                  <a:pt x="2284" y="20"/>
                </a:lnTo>
                <a:lnTo>
                  <a:pt x="2288" y="28"/>
                </a:lnTo>
                <a:lnTo>
                  <a:pt x="2290" y="36"/>
                </a:lnTo>
                <a:lnTo>
                  <a:pt x="2290" y="46"/>
                </a:lnTo>
                <a:lnTo>
                  <a:pt x="2290" y="46"/>
                </a:lnTo>
                <a:lnTo>
                  <a:pt x="2290" y="54"/>
                </a:lnTo>
                <a:lnTo>
                  <a:pt x="2288" y="62"/>
                </a:lnTo>
                <a:lnTo>
                  <a:pt x="2284" y="70"/>
                </a:lnTo>
                <a:lnTo>
                  <a:pt x="2278" y="78"/>
                </a:lnTo>
                <a:lnTo>
                  <a:pt x="2270" y="82"/>
                </a:lnTo>
                <a:lnTo>
                  <a:pt x="2264" y="86"/>
                </a:lnTo>
                <a:lnTo>
                  <a:pt x="2254" y="90"/>
                </a:lnTo>
                <a:lnTo>
                  <a:pt x="2246" y="90"/>
                </a:lnTo>
                <a:lnTo>
                  <a:pt x="2246" y="90"/>
                </a:lnTo>
                <a:close/>
                <a:moveTo>
                  <a:pt x="2064" y="90"/>
                </a:moveTo>
                <a:lnTo>
                  <a:pt x="2042" y="90"/>
                </a:lnTo>
                <a:lnTo>
                  <a:pt x="2042" y="90"/>
                </a:lnTo>
                <a:lnTo>
                  <a:pt x="2032" y="90"/>
                </a:lnTo>
                <a:lnTo>
                  <a:pt x="2024" y="86"/>
                </a:lnTo>
                <a:lnTo>
                  <a:pt x="2016" y="82"/>
                </a:lnTo>
                <a:lnTo>
                  <a:pt x="2010" y="78"/>
                </a:lnTo>
                <a:lnTo>
                  <a:pt x="2004" y="70"/>
                </a:lnTo>
                <a:lnTo>
                  <a:pt x="2000" y="62"/>
                </a:lnTo>
                <a:lnTo>
                  <a:pt x="1998" y="54"/>
                </a:lnTo>
                <a:lnTo>
                  <a:pt x="1996" y="46"/>
                </a:lnTo>
                <a:lnTo>
                  <a:pt x="1996" y="46"/>
                </a:lnTo>
                <a:lnTo>
                  <a:pt x="1998" y="36"/>
                </a:lnTo>
                <a:lnTo>
                  <a:pt x="2000" y="28"/>
                </a:lnTo>
                <a:lnTo>
                  <a:pt x="2004" y="20"/>
                </a:lnTo>
                <a:lnTo>
                  <a:pt x="2010" y="12"/>
                </a:lnTo>
                <a:lnTo>
                  <a:pt x="2016" y="8"/>
                </a:lnTo>
                <a:lnTo>
                  <a:pt x="2024" y="4"/>
                </a:lnTo>
                <a:lnTo>
                  <a:pt x="2032" y="0"/>
                </a:lnTo>
                <a:lnTo>
                  <a:pt x="2042" y="0"/>
                </a:lnTo>
                <a:lnTo>
                  <a:pt x="2064" y="0"/>
                </a:lnTo>
                <a:lnTo>
                  <a:pt x="2064" y="0"/>
                </a:lnTo>
                <a:lnTo>
                  <a:pt x="2074" y="0"/>
                </a:lnTo>
                <a:lnTo>
                  <a:pt x="2082" y="4"/>
                </a:lnTo>
                <a:lnTo>
                  <a:pt x="2090" y="8"/>
                </a:lnTo>
                <a:lnTo>
                  <a:pt x="2096" y="12"/>
                </a:lnTo>
                <a:lnTo>
                  <a:pt x="2102" y="20"/>
                </a:lnTo>
                <a:lnTo>
                  <a:pt x="2106" y="28"/>
                </a:lnTo>
                <a:lnTo>
                  <a:pt x="2108" y="36"/>
                </a:lnTo>
                <a:lnTo>
                  <a:pt x="2110" y="46"/>
                </a:lnTo>
                <a:lnTo>
                  <a:pt x="2110" y="46"/>
                </a:lnTo>
                <a:lnTo>
                  <a:pt x="2108" y="54"/>
                </a:lnTo>
                <a:lnTo>
                  <a:pt x="2106" y="62"/>
                </a:lnTo>
                <a:lnTo>
                  <a:pt x="2102" y="70"/>
                </a:lnTo>
                <a:lnTo>
                  <a:pt x="2096" y="78"/>
                </a:lnTo>
                <a:lnTo>
                  <a:pt x="2090" y="82"/>
                </a:lnTo>
                <a:lnTo>
                  <a:pt x="2082" y="86"/>
                </a:lnTo>
                <a:lnTo>
                  <a:pt x="2074" y="90"/>
                </a:lnTo>
                <a:lnTo>
                  <a:pt x="2064" y="90"/>
                </a:lnTo>
                <a:lnTo>
                  <a:pt x="2064" y="90"/>
                </a:lnTo>
                <a:close/>
                <a:moveTo>
                  <a:pt x="1882" y="90"/>
                </a:moveTo>
                <a:lnTo>
                  <a:pt x="1860" y="90"/>
                </a:lnTo>
                <a:lnTo>
                  <a:pt x="1860" y="90"/>
                </a:lnTo>
                <a:lnTo>
                  <a:pt x="1850" y="90"/>
                </a:lnTo>
                <a:lnTo>
                  <a:pt x="1842" y="86"/>
                </a:lnTo>
                <a:lnTo>
                  <a:pt x="1834" y="82"/>
                </a:lnTo>
                <a:lnTo>
                  <a:pt x="1828" y="78"/>
                </a:lnTo>
                <a:lnTo>
                  <a:pt x="1822" y="70"/>
                </a:lnTo>
                <a:lnTo>
                  <a:pt x="1818" y="62"/>
                </a:lnTo>
                <a:lnTo>
                  <a:pt x="1816" y="54"/>
                </a:lnTo>
                <a:lnTo>
                  <a:pt x="1814" y="46"/>
                </a:lnTo>
                <a:lnTo>
                  <a:pt x="1814" y="46"/>
                </a:lnTo>
                <a:lnTo>
                  <a:pt x="1816" y="36"/>
                </a:lnTo>
                <a:lnTo>
                  <a:pt x="1818" y="28"/>
                </a:lnTo>
                <a:lnTo>
                  <a:pt x="1822" y="20"/>
                </a:lnTo>
                <a:lnTo>
                  <a:pt x="1828" y="12"/>
                </a:lnTo>
                <a:lnTo>
                  <a:pt x="1834" y="8"/>
                </a:lnTo>
                <a:lnTo>
                  <a:pt x="1842" y="4"/>
                </a:lnTo>
                <a:lnTo>
                  <a:pt x="1850" y="0"/>
                </a:lnTo>
                <a:lnTo>
                  <a:pt x="1860" y="0"/>
                </a:lnTo>
                <a:lnTo>
                  <a:pt x="1882" y="0"/>
                </a:lnTo>
                <a:lnTo>
                  <a:pt x="1882" y="0"/>
                </a:lnTo>
                <a:lnTo>
                  <a:pt x="1892" y="0"/>
                </a:lnTo>
                <a:lnTo>
                  <a:pt x="1900" y="4"/>
                </a:lnTo>
                <a:lnTo>
                  <a:pt x="1908" y="8"/>
                </a:lnTo>
                <a:lnTo>
                  <a:pt x="1914" y="12"/>
                </a:lnTo>
                <a:lnTo>
                  <a:pt x="1920" y="20"/>
                </a:lnTo>
                <a:lnTo>
                  <a:pt x="1924" y="28"/>
                </a:lnTo>
                <a:lnTo>
                  <a:pt x="1928" y="36"/>
                </a:lnTo>
                <a:lnTo>
                  <a:pt x="1928" y="46"/>
                </a:lnTo>
                <a:lnTo>
                  <a:pt x="1928" y="46"/>
                </a:lnTo>
                <a:lnTo>
                  <a:pt x="1928" y="54"/>
                </a:lnTo>
                <a:lnTo>
                  <a:pt x="1924" y="62"/>
                </a:lnTo>
                <a:lnTo>
                  <a:pt x="1920" y="70"/>
                </a:lnTo>
                <a:lnTo>
                  <a:pt x="1914" y="78"/>
                </a:lnTo>
                <a:lnTo>
                  <a:pt x="1908" y="82"/>
                </a:lnTo>
                <a:lnTo>
                  <a:pt x="1900" y="86"/>
                </a:lnTo>
                <a:lnTo>
                  <a:pt x="1892" y="90"/>
                </a:lnTo>
                <a:lnTo>
                  <a:pt x="1882" y="90"/>
                </a:lnTo>
                <a:lnTo>
                  <a:pt x="1882" y="90"/>
                </a:lnTo>
                <a:close/>
                <a:moveTo>
                  <a:pt x="1702" y="90"/>
                </a:moveTo>
                <a:lnTo>
                  <a:pt x="1678" y="90"/>
                </a:lnTo>
                <a:lnTo>
                  <a:pt x="1678" y="90"/>
                </a:lnTo>
                <a:lnTo>
                  <a:pt x="1670" y="90"/>
                </a:lnTo>
                <a:lnTo>
                  <a:pt x="1662" y="86"/>
                </a:lnTo>
                <a:lnTo>
                  <a:pt x="1654" y="82"/>
                </a:lnTo>
                <a:lnTo>
                  <a:pt x="1646" y="78"/>
                </a:lnTo>
                <a:lnTo>
                  <a:pt x="1642" y="70"/>
                </a:lnTo>
                <a:lnTo>
                  <a:pt x="1636" y="62"/>
                </a:lnTo>
                <a:lnTo>
                  <a:pt x="1634" y="54"/>
                </a:lnTo>
                <a:lnTo>
                  <a:pt x="1634" y="46"/>
                </a:lnTo>
                <a:lnTo>
                  <a:pt x="1634" y="46"/>
                </a:lnTo>
                <a:lnTo>
                  <a:pt x="1634" y="36"/>
                </a:lnTo>
                <a:lnTo>
                  <a:pt x="1636" y="28"/>
                </a:lnTo>
                <a:lnTo>
                  <a:pt x="1642" y="20"/>
                </a:lnTo>
                <a:lnTo>
                  <a:pt x="1646" y="12"/>
                </a:lnTo>
                <a:lnTo>
                  <a:pt x="1654" y="8"/>
                </a:lnTo>
                <a:lnTo>
                  <a:pt x="1662" y="4"/>
                </a:lnTo>
                <a:lnTo>
                  <a:pt x="1670" y="0"/>
                </a:lnTo>
                <a:lnTo>
                  <a:pt x="1678" y="0"/>
                </a:lnTo>
                <a:lnTo>
                  <a:pt x="1702" y="0"/>
                </a:lnTo>
                <a:lnTo>
                  <a:pt x="1702" y="0"/>
                </a:lnTo>
                <a:lnTo>
                  <a:pt x="1710" y="0"/>
                </a:lnTo>
                <a:lnTo>
                  <a:pt x="1720" y="4"/>
                </a:lnTo>
                <a:lnTo>
                  <a:pt x="1726" y="8"/>
                </a:lnTo>
                <a:lnTo>
                  <a:pt x="1734" y="12"/>
                </a:lnTo>
                <a:lnTo>
                  <a:pt x="1738" y="20"/>
                </a:lnTo>
                <a:lnTo>
                  <a:pt x="1744" y="28"/>
                </a:lnTo>
                <a:lnTo>
                  <a:pt x="1746" y="36"/>
                </a:lnTo>
                <a:lnTo>
                  <a:pt x="1746" y="46"/>
                </a:lnTo>
                <a:lnTo>
                  <a:pt x="1746" y="46"/>
                </a:lnTo>
                <a:lnTo>
                  <a:pt x="1746" y="54"/>
                </a:lnTo>
                <a:lnTo>
                  <a:pt x="1744" y="62"/>
                </a:lnTo>
                <a:lnTo>
                  <a:pt x="1738" y="70"/>
                </a:lnTo>
                <a:lnTo>
                  <a:pt x="1734" y="78"/>
                </a:lnTo>
                <a:lnTo>
                  <a:pt x="1726" y="82"/>
                </a:lnTo>
                <a:lnTo>
                  <a:pt x="1720" y="86"/>
                </a:lnTo>
                <a:lnTo>
                  <a:pt x="1710" y="90"/>
                </a:lnTo>
                <a:lnTo>
                  <a:pt x="1702" y="90"/>
                </a:lnTo>
                <a:lnTo>
                  <a:pt x="1702" y="90"/>
                </a:lnTo>
                <a:close/>
                <a:moveTo>
                  <a:pt x="1520" y="90"/>
                </a:moveTo>
                <a:lnTo>
                  <a:pt x="1498" y="90"/>
                </a:lnTo>
                <a:lnTo>
                  <a:pt x="1498" y="90"/>
                </a:lnTo>
                <a:lnTo>
                  <a:pt x="1488" y="90"/>
                </a:lnTo>
                <a:lnTo>
                  <a:pt x="1480" y="86"/>
                </a:lnTo>
                <a:lnTo>
                  <a:pt x="1472" y="82"/>
                </a:lnTo>
                <a:lnTo>
                  <a:pt x="1466" y="78"/>
                </a:lnTo>
                <a:lnTo>
                  <a:pt x="1460" y="70"/>
                </a:lnTo>
                <a:lnTo>
                  <a:pt x="1456" y="62"/>
                </a:lnTo>
                <a:lnTo>
                  <a:pt x="1452" y="54"/>
                </a:lnTo>
                <a:lnTo>
                  <a:pt x="1452" y="46"/>
                </a:lnTo>
                <a:lnTo>
                  <a:pt x="1452" y="46"/>
                </a:lnTo>
                <a:lnTo>
                  <a:pt x="1452" y="36"/>
                </a:lnTo>
                <a:lnTo>
                  <a:pt x="1456" y="28"/>
                </a:lnTo>
                <a:lnTo>
                  <a:pt x="1460" y="20"/>
                </a:lnTo>
                <a:lnTo>
                  <a:pt x="1466" y="12"/>
                </a:lnTo>
                <a:lnTo>
                  <a:pt x="1472" y="8"/>
                </a:lnTo>
                <a:lnTo>
                  <a:pt x="1480" y="4"/>
                </a:lnTo>
                <a:lnTo>
                  <a:pt x="1488" y="0"/>
                </a:lnTo>
                <a:lnTo>
                  <a:pt x="1498" y="0"/>
                </a:lnTo>
                <a:lnTo>
                  <a:pt x="1520" y="0"/>
                </a:lnTo>
                <a:lnTo>
                  <a:pt x="1520" y="0"/>
                </a:lnTo>
                <a:lnTo>
                  <a:pt x="1530" y="0"/>
                </a:lnTo>
                <a:lnTo>
                  <a:pt x="1538" y="4"/>
                </a:lnTo>
                <a:lnTo>
                  <a:pt x="1546" y="8"/>
                </a:lnTo>
                <a:lnTo>
                  <a:pt x="1552" y="12"/>
                </a:lnTo>
                <a:lnTo>
                  <a:pt x="1558" y="20"/>
                </a:lnTo>
                <a:lnTo>
                  <a:pt x="1562" y="28"/>
                </a:lnTo>
                <a:lnTo>
                  <a:pt x="1564" y="36"/>
                </a:lnTo>
                <a:lnTo>
                  <a:pt x="1566" y="46"/>
                </a:lnTo>
                <a:lnTo>
                  <a:pt x="1566" y="46"/>
                </a:lnTo>
                <a:lnTo>
                  <a:pt x="1564" y="54"/>
                </a:lnTo>
                <a:lnTo>
                  <a:pt x="1562" y="62"/>
                </a:lnTo>
                <a:lnTo>
                  <a:pt x="1558" y="70"/>
                </a:lnTo>
                <a:lnTo>
                  <a:pt x="1552" y="78"/>
                </a:lnTo>
                <a:lnTo>
                  <a:pt x="1546" y="82"/>
                </a:lnTo>
                <a:lnTo>
                  <a:pt x="1538" y="86"/>
                </a:lnTo>
                <a:lnTo>
                  <a:pt x="1530" y="90"/>
                </a:lnTo>
                <a:lnTo>
                  <a:pt x="1520" y="90"/>
                </a:lnTo>
                <a:lnTo>
                  <a:pt x="1520" y="90"/>
                </a:lnTo>
                <a:close/>
                <a:moveTo>
                  <a:pt x="1338" y="90"/>
                </a:moveTo>
                <a:lnTo>
                  <a:pt x="1316" y="90"/>
                </a:lnTo>
                <a:lnTo>
                  <a:pt x="1316" y="90"/>
                </a:lnTo>
                <a:lnTo>
                  <a:pt x="1306" y="90"/>
                </a:lnTo>
                <a:lnTo>
                  <a:pt x="1298" y="86"/>
                </a:lnTo>
                <a:lnTo>
                  <a:pt x="1290" y="82"/>
                </a:lnTo>
                <a:lnTo>
                  <a:pt x="1284" y="78"/>
                </a:lnTo>
                <a:lnTo>
                  <a:pt x="1278" y="70"/>
                </a:lnTo>
                <a:lnTo>
                  <a:pt x="1274" y="62"/>
                </a:lnTo>
                <a:lnTo>
                  <a:pt x="1272" y="54"/>
                </a:lnTo>
                <a:lnTo>
                  <a:pt x="1270" y="46"/>
                </a:lnTo>
                <a:lnTo>
                  <a:pt x="1270" y="46"/>
                </a:lnTo>
                <a:lnTo>
                  <a:pt x="1272" y="36"/>
                </a:lnTo>
                <a:lnTo>
                  <a:pt x="1274" y="28"/>
                </a:lnTo>
                <a:lnTo>
                  <a:pt x="1278" y="20"/>
                </a:lnTo>
                <a:lnTo>
                  <a:pt x="1284" y="12"/>
                </a:lnTo>
                <a:lnTo>
                  <a:pt x="1290" y="8"/>
                </a:lnTo>
                <a:lnTo>
                  <a:pt x="1298" y="4"/>
                </a:lnTo>
                <a:lnTo>
                  <a:pt x="1306" y="0"/>
                </a:lnTo>
                <a:lnTo>
                  <a:pt x="1316" y="0"/>
                </a:lnTo>
                <a:lnTo>
                  <a:pt x="1338" y="0"/>
                </a:lnTo>
                <a:lnTo>
                  <a:pt x="1338" y="0"/>
                </a:lnTo>
                <a:lnTo>
                  <a:pt x="1348" y="0"/>
                </a:lnTo>
                <a:lnTo>
                  <a:pt x="1356" y="4"/>
                </a:lnTo>
                <a:lnTo>
                  <a:pt x="1364" y="8"/>
                </a:lnTo>
                <a:lnTo>
                  <a:pt x="1370" y="12"/>
                </a:lnTo>
                <a:lnTo>
                  <a:pt x="1376" y="20"/>
                </a:lnTo>
                <a:lnTo>
                  <a:pt x="1380" y="28"/>
                </a:lnTo>
                <a:lnTo>
                  <a:pt x="1382" y="36"/>
                </a:lnTo>
                <a:lnTo>
                  <a:pt x="1384" y="46"/>
                </a:lnTo>
                <a:lnTo>
                  <a:pt x="1384" y="46"/>
                </a:lnTo>
                <a:lnTo>
                  <a:pt x="1382" y="54"/>
                </a:lnTo>
                <a:lnTo>
                  <a:pt x="1380" y="62"/>
                </a:lnTo>
                <a:lnTo>
                  <a:pt x="1376" y="70"/>
                </a:lnTo>
                <a:lnTo>
                  <a:pt x="1370" y="78"/>
                </a:lnTo>
                <a:lnTo>
                  <a:pt x="1364" y="82"/>
                </a:lnTo>
                <a:lnTo>
                  <a:pt x="1356" y="86"/>
                </a:lnTo>
                <a:lnTo>
                  <a:pt x="1348" y="90"/>
                </a:lnTo>
                <a:lnTo>
                  <a:pt x="1338" y="90"/>
                </a:lnTo>
                <a:lnTo>
                  <a:pt x="1338" y="90"/>
                </a:lnTo>
                <a:close/>
                <a:moveTo>
                  <a:pt x="1158" y="90"/>
                </a:moveTo>
                <a:lnTo>
                  <a:pt x="1134" y="90"/>
                </a:lnTo>
                <a:lnTo>
                  <a:pt x="1134" y="90"/>
                </a:lnTo>
                <a:lnTo>
                  <a:pt x="1126" y="90"/>
                </a:lnTo>
                <a:lnTo>
                  <a:pt x="1116" y="86"/>
                </a:lnTo>
                <a:lnTo>
                  <a:pt x="1110" y="82"/>
                </a:lnTo>
                <a:lnTo>
                  <a:pt x="1102" y="78"/>
                </a:lnTo>
                <a:lnTo>
                  <a:pt x="1096" y="70"/>
                </a:lnTo>
                <a:lnTo>
                  <a:pt x="1092" y="62"/>
                </a:lnTo>
                <a:lnTo>
                  <a:pt x="1090" y="54"/>
                </a:lnTo>
                <a:lnTo>
                  <a:pt x="1090" y="46"/>
                </a:lnTo>
                <a:lnTo>
                  <a:pt x="1090" y="46"/>
                </a:lnTo>
                <a:lnTo>
                  <a:pt x="1090" y="36"/>
                </a:lnTo>
                <a:lnTo>
                  <a:pt x="1092" y="28"/>
                </a:lnTo>
                <a:lnTo>
                  <a:pt x="1096" y="20"/>
                </a:lnTo>
                <a:lnTo>
                  <a:pt x="1102" y="12"/>
                </a:lnTo>
                <a:lnTo>
                  <a:pt x="1110" y="8"/>
                </a:lnTo>
                <a:lnTo>
                  <a:pt x="1116" y="4"/>
                </a:lnTo>
                <a:lnTo>
                  <a:pt x="1126" y="0"/>
                </a:lnTo>
                <a:lnTo>
                  <a:pt x="1134" y="0"/>
                </a:lnTo>
                <a:lnTo>
                  <a:pt x="1158" y="0"/>
                </a:lnTo>
                <a:lnTo>
                  <a:pt x="1158" y="0"/>
                </a:lnTo>
                <a:lnTo>
                  <a:pt x="1166" y="0"/>
                </a:lnTo>
                <a:lnTo>
                  <a:pt x="1174" y="4"/>
                </a:lnTo>
                <a:lnTo>
                  <a:pt x="1182" y="8"/>
                </a:lnTo>
                <a:lnTo>
                  <a:pt x="1190" y="12"/>
                </a:lnTo>
                <a:lnTo>
                  <a:pt x="1194" y="20"/>
                </a:lnTo>
                <a:lnTo>
                  <a:pt x="1198" y="28"/>
                </a:lnTo>
                <a:lnTo>
                  <a:pt x="1202" y="36"/>
                </a:lnTo>
                <a:lnTo>
                  <a:pt x="1202" y="46"/>
                </a:lnTo>
                <a:lnTo>
                  <a:pt x="1202" y="46"/>
                </a:lnTo>
                <a:lnTo>
                  <a:pt x="1202" y="54"/>
                </a:lnTo>
                <a:lnTo>
                  <a:pt x="1198" y="62"/>
                </a:lnTo>
                <a:lnTo>
                  <a:pt x="1194" y="70"/>
                </a:lnTo>
                <a:lnTo>
                  <a:pt x="1190" y="78"/>
                </a:lnTo>
                <a:lnTo>
                  <a:pt x="1182" y="82"/>
                </a:lnTo>
                <a:lnTo>
                  <a:pt x="1174" y="86"/>
                </a:lnTo>
                <a:lnTo>
                  <a:pt x="1166" y="90"/>
                </a:lnTo>
                <a:lnTo>
                  <a:pt x="1158" y="90"/>
                </a:lnTo>
                <a:lnTo>
                  <a:pt x="1158" y="90"/>
                </a:lnTo>
                <a:close/>
                <a:moveTo>
                  <a:pt x="976" y="90"/>
                </a:moveTo>
                <a:lnTo>
                  <a:pt x="954" y="90"/>
                </a:lnTo>
                <a:lnTo>
                  <a:pt x="954" y="90"/>
                </a:lnTo>
                <a:lnTo>
                  <a:pt x="944" y="90"/>
                </a:lnTo>
                <a:lnTo>
                  <a:pt x="936" y="86"/>
                </a:lnTo>
                <a:lnTo>
                  <a:pt x="928" y="82"/>
                </a:lnTo>
                <a:lnTo>
                  <a:pt x="920" y="78"/>
                </a:lnTo>
                <a:lnTo>
                  <a:pt x="916" y="70"/>
                </a:lnTo>
                <a:lnTo>
                  <a:pt x="912" y="62"/>
                </a:lnTo>
                <a:lnTo>
                  <a:pt x="908" y="54"/>
                </a:lnTo>
                <a:lnTo>
                  <a:pt x="908" y="46"/>
                </a:lnTo>
                <a:lnTo>
                  <a:pt x="908" y="46"/>
                </a:lnTo>
                <a:lnTo>
                  <a:pt x="908" y="36"/>
                </a:lnTo>
                <a:lnTo>
                  <a:pt x="912" y="28"/>
                </a:lnTo>
                <a:lnTo>
                  <a:pt x="916" y="20"/>
                </a:lnTo>
                <a:lnTo>
                  <a:pt x="920" y="12"/>
                </a:lnTo>
                <a:lnTo>
                  <a:pt x="928" y="8"/>
                </a:lnTo>
                <a:lnTo>
                  <a:pt x="936" y="4"/>
                </a:lnTo>
                <a:lnTo>
                  <a:pt x="944" y="0"/>
                </a:lnTo>
                <a:lnTo>
                  <a:pt x="954" y="0"/>
                </a:lnTo>
                <a:lnTo>
                  <a:pt x="976" y="0"/>
                </a:lnTo>
                <a:lnTo>
                  <a:pt x="976" y="0"/>
                </a:lnTo>
                <a:lnTo>
                  <a:pt x="984" y="0"/>
                </a:lnTo>
                <a:lnTo>
                  <a:pt x="994" y="4"/>
                </a:lnTo>
                <a:lnTo>
                  <a:pt x="1002" y="8"/>
                </a:lnTo>
                <a:lnTo>
                  <a:pt x="1008" y="12"/>
                </a:lnTo>
                <a:lnTo>
                  <a:pt x="1014" y="20"/>
                </a:lnTo>
                <a:lnTo>
                  <a:pt x="1018" y="28"/>
                </a:lnTo>
                <a:lnTo>
                  <a:pt x="1020" y="36"/>
                </a:lnTo>
                <a:lnTo>
                  <a:pt x="1022" y="46"/>
                </a:lnTo>
                <a:lnTo>
                  <a:pt x="1022" y="46"/>
                </a:lnTo>
                <a:lnTo>
                  <a:pt x="1020" y="54"/>
                </a:lnTo>
                <a:lnTo>
                  <a:pt x="1018" y="62"/>
                </a:lnTo>
                <a:lnTo>
                  <a:pt x="1014" y="70"/>
                </a:lnTo>
                <a:lnTo>
                  <a:pt x="1008" y="78"/>
                </a:lnTo>
                <a:lnTo>
                  <a:pt x="1002" y="82"/>
                </a:lnTo>
                <a:lnTo>
                  <a:pt x="994" y="86"/>
                </a:lnTo>
                <a:lnTo>
                  <a:pt x="984" y="90"/>
                </a:lnTo>
                <a:lnTo>
                  <a:pt x="976" y="90"/>
                </a:lnTo>
                <a:lnTo>
                  <a:pt x="976" y="90"/>
                </a:lnTo>
                <a:close/>
                <a:moveTo>
                  <a:pt x="794" y="90"/>
                </a:moveTo>
                <a:lnTo>
                  <a:pt x="772" y="90"/>
                </a:lnTo>
                <a:lnTo>
                  <a:pt x="772" y="90"/>
                </a:lnTo>
                <a:lnTo>
                  <a:pt x="762" y="90"/>
                </a:lnTo>
                <a:lnTo>
                  <a:pt x="754" y="86"/>
                </a:lnTo>
                <a:lnTo>
                  <a:pt x="746" y="82"/>
                </a:lnTo>
                <a:lnTo>
                  <a:pt x="740" y="78"/>
                </a:lnTo>
                <a:lnTo>
                  <a:pt x="734" y="70"/>
                </a:lnTo>
                <a:lnTo>
                  <a:pt x="730" y="62"/>
                </a:lnTo>
                <a:lnTo>
                  <a:pt x="728" y="54"/>
                </a:lnTo>
                <a:lnTo>
                  <a:pt x="726" y="46"/>
                </a:lnTo>
                <a:lnTo>
                  <a:pt x="726" y="46"/>
                </a:lnTo>
                <a:lnTo>
                  <a:pt x="728" y="36"/>
                </a:lnTo>
                <a:lnTo>
                  <a:pt x="730" y="28"/>
                </a:lnTo>
                <a:lnTo>
                  <a:pt x="734" y="20"/>
                </a:lnTo>
                <a:lnTo>
                  <a:pt x="740" y="12"/>
                </a:lnTo>
                <a:lnTo>
                  <a:pt x="746" y="8"/>
                </a:lnTo>
                <a:lnTo>
                  <a:pt x="754" y="4"/>
                </a:lnTo>
                <a:lnTo>
                  <a:pt x="762" y="0"/>
                </a:lnTo>
                <a:lnTo>
                  <a:pt x="772" y="0"/>
                </a:lnTo>
                <a:lnTo>
                  <a:pt x="794" y="0"/>
                </a:lnTo>
                <a:lnTo>
                  <a:pt x="794" y="0"/>
                </a:lnTo>
                <a:lnTo>
                  <a:pt x="804" y="0"/>
                </a:lnTo>
                <a:lnTo>
                  <a:pt x="812" y="4"/>
                </a:lnTo>
                <a:lnTo>
                  <a:pt x="820" y="8"/>
                </a:lnTo>
                <a:lnTo>
                  <a:pt x="826" y="12"/>
                </a:lnTo>
                <a:lnTo>
                  <a:pt x="832" y="20"/>
                </a:lnTo>
                <a:lnTo>
                  <a:pt x="836" y="28"/>
                </a:lnTo>
                <a:lnTo>
                  <a:pt x="838" y="36"/>
                </a:lnTo>
                <a:lnTo>
                  <a:pt x="840" y="46"/>
                </a:lnTo>
                <a:lnTo>
                  <a:pt x="840" y="46"/>
                </a:lnTo>
                <a:lnTo>
                  <a:pt x="838" y="54"/>
                </a:lnTo>
                <a:lnTo>
                  <a:pt x="836" y="62"/>
                </a:lnTo>
                <a:lnTo>
                  <a:pt x="832" y="70"/>
                </a:lnTo>
                <a:lnTo>
                  <a:pt x="826" y="78"/>
                </a:lnTo>
                <a:lnTo>
                  <a:pt x="820" y="82"/>
                </a:lnTo>
                <a:lnTo>
                  <a:pt x="812" y="86"/>
                </a:lnTo>
                <a:lnTo>
                  <a:pt x="804" y="90"/>
                </a:lnTo>
                <a:lnTo>
                  <a:pt x="794" y="90"/>
                </a:lnTo>
                <a:lnTo>
                  <a:pt x="794" y="90"/>
                </a:lnTo>
                <a:close/>
                <a:moveTo>
                  <a:pt x="612" y="90"/>
                </a:moveTo>
                <a:lnTo>
                  <a:pt x="590" y="90"/>
                </a:lnTo>
                <a:lnTo>
                  <a:pt x="590" y="90"/>
                </a:lnTo>
                <a:lnTo>
                  <a:pt x="582" y="90"/>
                </a:lnTo>
                <a:lnTo>
                  <a:pt x="572" y="86"/>
                </a:lnTo>
                <a:lnTo>
                  <a:pt x="564" y="82"/>
                </a:lnTo>
                <a:lnTo>
                  <a:pt x="558" y="78"/>
                </a:lnTo>
                <a:lnTo>
                  <a:pt x="552" y="70"/>
                </a:lnTo>
                <a:lnTo>
                  <a:pt x="548" y="62"/>
                </a:lnTo>
                <a:lnTo>
                  <a:pt x="546" y="54"/>
                </a:lnTo>
                <a:lnTo>
                  <a:pt x="544" y="46"/>
                </a:lnTo>
                <a:lnTo>
                  <a:pt x="544" y="46"/>
                </a:lnTo>
                <a:lnTo>
                  <a:pt x="546" y="36"/>
                </a:lnTo>
                <a:lnTo>
                  <a:pt x="548" y="28"/>
                </a:lnTo>
                <a:lnTo>
                  <a:pt x="552" y="20"/>
                </a:lnTo>
                <a:lnTo>
                  <a:pt x="558" y="12"/>
                </a:lnTo>
                <a:lnTo>
                  <a:pt x="564" y="8"/>
                </a:lnTo>
                <a:lnTo>
                  <a:pt x="572" y="4"/>
                </a:lnTo>
                <a:lnTo>
                  <a:pt x="582" y="0"/>
                </a:lnTo>
                <a:lnTo>
                  <a:pt x="590" y="0"/>
                </a:lnTo>
                <a:lnTo>
                  <a:pt x="612" y="0"/>
                </a:lnTo>
                <a:lnTo>
                  <a:pt x="612" y="0"/>
                </a:lnTo>
                <a:lnTo>
                  <a:pt x="622" y="0"/>
                </a:lnTo>
                <a:lnTo>
                  <a:pt x="630" y="4"/>
                </a:lnTo>
                <a:lnTo>
                  <a:pt x="638" y="8"/>
                </a:lnTo>
                <a:lnTo>
                  <a:pt x="644" y="12"/>
                </a:lnTo>
                <a:lnTo>
                  <a:pt x="650" y="20"/>
                </a:lnTo>
                <a:lnTo>
                  <a:pt x="654" y="28"/>
                </a:lnTo>
                <a:lnTo>
                  <a:pt x="658" y="36"/>
                </a:lnTo>
                <a:lnTo>
                  <a:pt x="658" y="46"/>
                </a:lnTo>
                <a:lnTo>
                  <a:pt x="658" y="46"/>
                </a:lnTo>
                <a:lnTo>
                  <a:pt x="658" y="54"/>
                </a:lnTo>
                <a:lnTo>
                  <a:pt x="654" y="62"/>
                </a:lnTo>
                <a:lnTo>
                  <a:pt x="650" y="70"/>
                </a:lnTo>
                <a:lnTo>
                  <a:pt x="644" y="78"/>
                </a:lnTo>
                <a:lnTo>
                  <a:pt x="638" y="82"/>
                </a:lnTo>
                <a:lnTo>
                  <a:pt x="630" y="86"/>
                </a:lnTo>
                <a:lnTo>
                  <a:pt x="622" y="90"/>
                </a:lnTo>
                <a:lnTo>
                  <a:pt x="612" y="90"/>
                </a:lnTo>
                <a:lnTo>
                  <a:pt x="612" y="90"/>
                </a:lnTo>
                <a:close/>
                <a:moveTo>
                  <a:pt x="432" y="90"/>
                </a:moveTo>
                <a:lnTo>
                  <a:pt x="408" y="90"/>
                </a:lnTo>
                <a:lnTo>
                  <a:pt x="408" y="90"/>
                </a:lnTo>
                <a:lnTo>
                  <a:pt x="400" y="90"/>
                </a:lnTo>
                <a:lnTo>
                  <a:pt x="392" y="86"/>
                </a:lnTo>
                <a:lnTo>
                  <a:pt x="384" y="82"/>
                </a:lnTo>
                <a:lnTo>
                  <a:pt x="376" y="78"/>
                </a:lnTo>
                <a:lnTo>
                  <a:pt x="372" y="70"/>
                </a:lnTo>
                <a:lnTo>
                  <a:pt x="368" y="62"/>
                </a:lnTo>
                <a:lnTo>
                  <a:pt x="364" y="54"/>
                </a:lnTo>
                <a:lnTo>
                  <a:pt x="364" y="46"/>
                </a:lnTo>
                <a:lnTo>
                  <a:pt x="364" y="46"/>
                </a:lnTo>
                <a:lnTo>
                  <a:pt x="364" y="36"/>
                </a:lnTo>
                <a:lnTo>
                  <a:pt x="368" y="28"/>
                </a:lnTo>
                <a:lnTo>
                  <a:pt x="372" y="20"/>
                </a:lnTo>
                <a:lnTo>
                  <a:pt x="376" y="12"/>
                </a:lnTo>
                <a:lnTo>
                  <a:pt x="384" y="8"/>
                </a:lnTo>
                <a:lnTo>
                  <a:pt x="392" y="4"/>
                </a:lnTo>
                <a:lnTo>
                  <a:pt x="400" y="0"/>
                </a:lnTo>
                <a:lnTo>
                  <a:pt x="408" y="0"/>
                </a:lnTo>
                <a:lnTo>
                  <a:pt x="432" y="0"/>
                </a:lnTo>
                <a:lnTo>
                  <a:pt x="432" y="0"/>
                </a:lnTo>
                <a:lnTo>
                  <a:pt x="440" y="0"/>
                </a:lnTo>
                <a:lnTo>
                  <a:pt x="450" y="4"/>
                </a:lnTo>
                <a:lnTo>
                  <a:pt x="456" y="8"/>
                </a:lnTo>
                <a:lnTo>
                  <a:pt x="464" y="12"/>
                </a:lnTo>
                <a:lnTo>
                  <a:pt x="470" y="20"/>
                </a:lnTo>
                <a:lnTo>
                  <a:pt x="474" y="28"/>
                </a:lnTo>
                <a:lnTo>
                  <a:pt x="476" y="36"/>
                </a:lnTo>
                <a:lnTo>
                  <a:pt x="476" y="46"/>
                </a:lnTo>
                <a:lnTo>
                  <a:pt x="476" y="46"/>
                </a:lnTo>
                <a:lnTo>
                  <a:pt x="476" y="54"/>
                </a:lnTo>
                <a:lnTo>
                  <a:pt x="474" y="62"/>
                </a:lnTo>
                <a:lnTo>
                  <a:pt x="470" y="70"/>
                </a:lnTo>
                <a:lnTo>
                  <a:pt x="464" y="78"/>
                </a:lnTo>
                <a:lnTo>
                  <a:pt x="456" y="82"/>
                </a:lnTo>
                <a:lnTo>
                  <a:pt x="450" y="86"/>
                </a:lnTo>
                <a:lnTo>
                  <a:pt x="440" y="90"/>
                </a:lnTo>
                <a:lnTo>
                  <a:pt x="432" y="90"/>
                </a:lnTo>
                <a:lnTo>
                  <a:pt x="432" y="90"/>
                </a:lnTo>
                <a:close/>
                <a:moveTo>
                  <a:pt x="250" y="90"/>
                </a:moveTo>
                <a:lnTo>
                  <a:pt x="228" y="90"/>
                </a:lnTo>
                <a:lnTo>
                  <a:pt x="228" y="90"/>
                </a:lnTo>
                <a:lnTo>
                  <a:pt x="218" y="90"/>
                </a:lnTo>
                <a:lnTo>
                  <a:pt x="210" y="86"/>
                </a:lnTo>
                <a:lnTo>
                  <a:pt x="202" y="82"/>
                </a:lnTo>
                <a:lnTo>
                  <a:pt x="196" y="78"/>
                </a:lnTo>
                <a:lnTo>
                  <a:pt x="190" y="70"/>
                </a:lnTo>
                <a:lnTo>
                  <a:pt x="186" y="62"/>
                </a:lnTo>
                <a:lnTo>
                  <a:pt x="182" y="54"/>
                </a:lnTo>
                <a:lnTo>
                  <a:pt x="182" y="46"/>
                </a:lnTo>
                <a:lnTo>
                  <a:pt x="182" y="46"/>
                </a:lnTo>
                <a:lnTo>
                  <a:pt x="182" y="36"/>
                </a:lnTo>
                <a:lnTo>
                  <a:pt x="186" y="28"/>
                </a:lnTo>
                <a:lnTo>
                  <a:pt x="190" y="20"/>
                </a:lnTo>
                <a:lnTo>
                  <a:pt x="196" y="12"/>
                </a:lnTo>
                <a:lnTo>
                  <a:pt x="202" y="8"/>
                </a:lnTo>
                <a:lnTo>
                  <a:pt x="210" y="4"/>
                </a:lnTo>
                <a:lnTo>
                  <a:pt x="218" y="0"/>
                </a:lnTo>
                <a:lnTo>
                  <a:pt x="228" y="0"/>
                </a:lnTo>
                <a:lnTo>
                  <a:pt x="250" y="0"/>
                </a:lnTo>
                <a:lnTo>
                  <a:pt x="250" y="0"/>
                </a:lnTo>
                <a:lnTo>
                  <a:pt x="260" y="0"/>
                </a:lnTo>
                <a:lnTo>
                  <a:pt x="268" y="4"/>
                </a:lnTo>
                <a:lnTo>
                  <a:pt x="276" y="8"/>
                </a:lnTo>
                <a:lnTo>
                  <a:pt x="282" y="12"/>
                </a:lnTo>
                <a:lnTo>
                  <a:pt x="288" y="20"/>
                </a:lnTo>
                <a:lnTo>
                  <a:pt x="292" y="28"/>
                </a:lnTo>
                <a:lnTo>
                  <a:pt x="294" y="36"/>
                </a:lnTo>
                <a:lnTo>
                  <a:pt x="296" y="46"/>
                </a:lnTo>
                <a:lnTo>
                  <a:pt x="296" y="46"/>
                </a:lnTo>
                <a:lnTo>
                  <a:pt x="294" y="54"/>
                </a:lnTo>
                <a:lnTo>
                  <a:pt x="292" y="62"/>
                </a:lnTo>
                <a:lnTo>
                  <a:pt x="288" y="70"/>
                </a:lnTo>
                <a:lnTo>
                  <a:pt x="282" y="78"/>
                </a:lnTo>
                <a:lnTo>
                  <a:pt x="276" y="82"/>
                </a:lnTo>
                <a:lnTo>
                  <a:pt x="268" y="86"/>
                </a:lnTo>
                <a:lnTo>
                  <a:pt x="260" y="90"/>
                </a:lnTo>
                <a:lnTo>
                  <a:pt x="250" y="90"/>
                </a:lnTo>
                <a:lnTo>
                  <a:pt x="250" y="90"/>
                </a:lnTo>
                <a:close/>
                <a:moveTo>
                  <a:pt x="68" y="90"/>
                </a:moveTo>
                <a:lnTo>
                  <a:pt x="46" y="90"/>
                </a:lnTo>
                <a:lnTo>
                  <a:pt x="46" y="90"/>
                </a:lnTo>
                <a:lnTo>
                  <a:pt x="36" y="90"/>
                </a:lnTo>
                <a:lnTo>
                  <a:pt x="28" y="86"/>
                </a:lnTo>
                <a:lnTo>
                  <a:pt x="20" y="82"/>
                </a:lnTo>
                <a:lnTo>
                  <a:pt x="14" y="78"/>
                </a:lnTo>
                <a:lnTo>
                  <a:pt x="8" y="70"/>
                </a:lnTo>
                <a:lnTo>
                  <a:pt x="4" y="62"/>
                </a:lnTo>
                <a:lnTo>
                  <a:pt x="2" y="54"/>
                </a:lnTo>
                <a:lnTo>
                  <a:pt x="0" y="46"/>
                </a:lnTo>
                <a:lnTo>
                  <a:pt x="0" y="46"/>
                </a:lnTo>
                <a:lnTo>
                  <a:pt x="2" y="36"/>
                </a:lnTo>
                <a:lnTo>
                  <a:pt x="4" y="28"/>
                </a:lnTo>
                <a:lnTo>
                  <a:pt x="8" y="20"/>
                </a:lnTo>
                <a:lnTo>
                  <a:pt x="14" y="12"/>
                </a:lnTo>
                <a:lnTo>
                  <a:pt x="20" y="8"/>
                </a:lnTo>
                <a:lnTo>
                  <a:pt x="28" y="4"/>
                </a:lnTo>
                <a:lnTo>
                  <a:pt x="36" y="0"/>
                </a:lnTo>
                <a:lnTo>
                  <a:pt x="46" y="0"/>
                </a:lnTo>
                <a:lnTo>
                  <a:pt x="68" y="0"/>
                </a:lnTo>
                <a:lnTo>
                  <a:pt x="68" y="0"/>
                </a:lnTo>
                <a:lnTo>
                  <a:pt x="78" y="0"/>
                </a:lnTo>
                <a:lnTo>
                  <a:pt x="86" y="4"/>
                </a:lnTo>
                <a:lnTo>
                  <a:pt x="94" y="8"/>
                </a:lnTo>
                <a:lnTo>
                  <a:pt x="100" y="12"/>
                </a:lnTo>
                <a:lnTo>
                  <a:pt x="106" y="20"/>
                </a:lnTo>
                <a:lnTo>
                  <a:pt x="110" y="28"/>
                </a:lnTo>
                <a:lnTo>
                  <a:pt x="114" y="36"/>
                </a:lnTo>
                <a:lnTo>
                  <a:pt x="114" y="46"/>
                </a:lnTo>
                <a:lnTo>
                  <a:pt x="114" y="46"/>
                </a:lnTo>
                <a:lnTo>
                  <a:pt x="114" y="54"/>
                </a:lnTo>
                <a:lnTo>
                  <a:pt x="110" y="62"/>
                </a:lnTo>
                <a:lnTo>
                  <a:pt x="106" y="70"/>
                </a:lnTo>
                <a:lnTo>
                  <a:pt x="100" y="78"/>
                </a:lnTo>
                <a:lnTo>
                  <a:pt x="94" y="82"/>
                </a:lnTo>
                <a:lnTo>
                  <a:pt x="86" y="86"/>
                </a:lnTo>
                <a:lnTo>
                  <a:pt x="78" y="90"/>
                </a:lnTo>
                <a:lnTo>
                  <a:pt x="68" y="90"/>
                </a:lnTo>
                <a:lnTo>
                  <a:pt x="68" y="90"/>
                </a:lnTo>
                <a:close/>
              </a:path>
            </a:pathLst>
          </a:cu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グループ化 14"/>
          <p:cNvGrpSpPr/>
          <p:nvPr/>
        </p:nvGrpSpPr>
        <p:grpSpPr>
          <a:xfrm>
            <a:off x="12130200" y="1216080"/>
            <a:ext cx="22269240" cy="2320920"/>
            <a:chOff x="12130200" y="1216080"/>
            <a:chExt cx="22269240" cy="2320920"/>
          </a:xfrm>
        </p:grpSpPr>
        <p:sp>
          <p:nvSpPr>
            <p:cNvPr id="48" name="Freeform 5"/>
            <p:cNvSpPr/>
            <p:nvPr/>
          </p:nvSpPr>
          <p:spPr>
            <a:xfrm>
              <a:off x="12130200" y="1355760"/>
              <a:ext cx="1600200" cy="2117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117880"/>
                <a:gd name="textAreaBottom" fmla="*/ 2118240 h 2117880"/>
              </a:gdLst>
              <a:ahLst/>
              <a:rect l="textAreaLeft" t="textAreaTop" r="textAreaRight" b="textAreaBottom"/>
              <a:pathLst>
                <a:path w="1008" h="1334">
                  <a:moveTo>
                    <a:pt x="188" y="106"/>
                  </a:moveTo>
                  <a:lnTo>
                    <a:pt x="188" y="106"/>
                  </a:lnTo>
                  <a:lnTo>
                    <a:pt x="192" y="88"/>
                  </a:lnTo>
                  <a:lnTo>
                    <a:pt x="196" y="70"/>
                  </a:lnTo>
                  <a:lnTo>
                    <a:pt x="204" y="52"/>
                  </a:lnTo>
                  <a:lnTo>
                    <a:pt x="214" y="36"/>
                  </a:lnTo>
                  <a:lnTo>
                    <a:pt x="226" y="22"/>
                  </a:lnTo>
                  <a:lnTo>
                    <a:pt x="234" y="16"/>
                  </a:lnTo>
                  <a:lnTo>
                    <a:pt x="242" y="10"/>
                  </a:lnTo>
                  <a:lnTo>
                    <a:pt x="252" y="6"/>
                  </a:lnTo>
                  <a:lnTo>
                    <a:pt x="262" y="4"/>
                  </a:lnTo>
                  <a:lnTo>
                    <a:pt x="274" y="2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306" y="2"/>
                  </a:lnTo>
                  <a:lnTo>
                    <a:pt x="322" y="6"/>
                  </a:lnTo>
                  <a:lnTo>
                    <a:pt x="336" y="14"/>
                  </a:lnTo>
                  <a:lnTo>
                    <a:pt x="346" y="26"/>
                  </a:lnTo>
                  <a:lnTo>
                    <a:pt x="352" y="40"/>
                  </a:lnTo>
                  <a:lnTo>
                    <a:pt x="356" y="58"/>
                  </a:lnTo>
                  <a:lnTo>
                    <a:pt x="356" y="80"/>
                  </a:lnTo>
                  <a:lnTo>
                    <a:pt x="354" y="106"/>
                  </a:lnTo>
                  <a:lnTo>
                    <a:pt x="192" y="1060"/>
                  </a:lnTo>
                  <a:lnTo>
                    <a:pt x="192" y="1060"/>
                  </a:lnTo>
                  <a:lnTo>
                    <a:pt x="190" y="1078"/>
                  </a:lnTo>
                  <a:lnTo>
                    <a:pt x="190" y="1086"/>
                  </a:lnTo>
                  <a:lnTo>
                    <a:pt x="190" y="1094"/>
                  </a:lnTo>
                  <a:lnTo>
                    <a:pt x="192" y="1102"/>
                  </a:lnTo>
                  <a:lnTo>
                    <a:pt x="198" y="1106"/>
                  </a:lnTo>
                  <a:lnTo>
                    <a:pt x="204" y="1110"/>
                  </a:lnTo>
                  <a:lnTo>
                    <a:pt x="214" y="1112"/>
                  </a:lnTo>
                  <a:lnTo>
                    <a:pt x="214" y="1112"/>
                  </a:lnTo>
                  <a:lnTo>
                    <a:pt x="236" y="1108"/>
                  </a:lnTo>
                  <a:lnTo>
                    <a:pt x="272" y="1100"/>
                  </a:lnTo>
                  <a:lnTo>
                    <a:pt x="320" y="1086"/>
                  </a:lnTo>
                  <a:lnTo>
                    <a:pt x="346" y="1076"/>
                  </a:lnTo>
                  <a:lnTo>
                    <a:pt x="374" y="1064"/>
                  </a:lnTo>
                  <a:lnTo>
                    <a:pt x="404" y="1050"/>
                  </a:lnTo>
                  <a:lnTo>
                    <a:pt x="436" y="1034"/>
                  </a:lnTo>
                  <a:lnTo>
                    <a:pt x="468" y="1014"/>
                  </a:lnTo>
                  <a:lnTo>
                    <a:pt x="502" y="994"/>
                  </a:lnTo>
                  <a:lnTo>
                    <a:pt x="534" y="970"/>
                  </a:lnTo>
                  <a:lnTo>
                    <a:pt x="568" y="942"/>
                  </a:lnTo>
                  <a:lnTo>
                    <a:pt x="600" y="912"/>
                  </a:lnTo>
                  <a:lnTo>
                    <a:pt x="632" y="880"/>
                  </a:lnTo>
                  <a:lnTo>
                    <a:pt x="632" y="880"/>
                  </a:lnTo>
                  <a:lnTo>
                    <a:pt x="670" y="838"/>
                  </a:lnTo>
                  <a:lnTo>
                    <a:pt x="704" y="794"/>
                  </a:lnTo>
                  <a:lnTo>
                    <a:pt x="734" y="754"/>
                  </a:lnTo>
                  <a:lnTo>
                    <a:pt x="762" y="712"/>
                  </a:lnTo>
                  <a:lnTo>
                    <a:pt x="786" y="670"/>
                  </a:lnTo>
                  <a:lnTo>
                    <a:pt x="810" y="628"/>
                  </a:lnTo>
                  <a:lnTo>
                    <a:pt x="856" y="540"/>
                  </a:lnTo>
                  <a:lnTo>
                    <a:pt x="856" y="540"/>
                  </a:lnTo>
                  <a:lnTo>
                    <a:pt x="872" y="514"/>
                  </a:lnTo>
                  <a:lnTo>
                    <a:pt x="880" y="502"/>
                  </a:lnTo>
                  <a:lnTo>
                    <a:pt x="888" y="494"/>
                  </a:lnTo>
                  <a:lnTo>
                    <a:pt x="896" y="486"/>
                  </a:lnTo>
                  <a:lnTo>
                    <a:pt x="906" y="482"/>
                  </a:lnTo>
                  <a:lnTo>
                    <a:pt x="916" y="478"/>
                  </a:lnTo>
                  <a:lnTo>
                    <a:pt x="928" y="478"/>
                  </a:lnTo>
                  <a:lnTo>
                    <a:pt x="928" y="478"/>
                  </a:lnTo>
                  <a:lnTo>
                    <a:pt x="942" y="480"/>
                  </a:lnTo>
                  <a:lnTo>
                    <a:pt x="956" y="484"/>
                  </a:lnTo>
                  <a:lnTo>
                    <a:pt x="970" y="490"/>
                  </a:lnTo>
                  <a:lnTo>
                    <a:pt x="984" y="502"/>
                  </a:lnTo>
                  <a:lnTo>
                    <a:pt x="996" y="514"/>
                  </a:lnTo>
                  <a:lnTo>
                    <a:pt x="1000" y="524"/>
                  </a:lnTo>
                  <a:lnTo>
                    <a:pt x="1004" y="532"/>
                  </a:lnTo>
                  <a:lnTo>
                    <a:pt x="1006" y="542"/>
                  </a:lnTo>
                  <a:lnTo>
                    <a:pt x="1008" y="552"/>
                  </a:lnTo>
                  <a:lnTo>
                    <a:pt x="1008" y="564"/>
                  </a:lnTo>
                  <a:lnTo>
                    <a:pt x="1006" y="576"/>
                  </a:lnTo>
                  <a:lnTo>
                    <a:pt x="1006" y="576"/>
                  </a:lnTo>
                  <a:lnTo>
                    <a:pt x="998" y="602"/>
                  </a:lnTo>
                  <a:lnTo>
                    <a:pt x="984" y="638"/>
                  </a:lnTo>
                  <a:lnTo>
                    <a:pt x="964" y="680"/>
                  </a:lnTo>
                  <a:lnTo>
                    <a:pt x="940" y="726"/>
                  </a:lnTo>
                  <a:lnTo>
                    <a:pt x="910" y="778"/>
                  </a:lnTo>
                  <a:lnTo>
                    <a:pt x="878" y="830"/>
                  </a:lnTo>
                  <a:lnTo>
                    <a:pt x="842" y="882"/>
                  </a:lnTo>
                  <a:lnTo>
                    <a:pt x="804" y="930"/>
                  </a:lnTo>
                  <a:lnTo>
                    <a:pt x="804" y="930"/>
                  </a:lnTo>
                  <a:lnTo>
                    <a:pt x="776" y="966"/>
                  </a:lnTo>
                  <a:lnTo>
                    <a:pt x="746" y="998"/>
                  </a:lnTo>
                  <a:lnTo>
                    <a:pt x="716" y="1030"/>
                  </a:lnTo>
                  <a:lnTo>
                    <a:pt x="686" y="1058"/>
                  </a:lnTo>
                  <a:lnTo>
                    <a:pt x="656" y="1086"/>
                  </a:lnTo>
                  <a:lnTo>
                    <a:pt x="626" y="1112"/>
                  </a:lnTo>
                  <a:lnTo>
                    <a:pt x="594" y="1136"/>
                  </a:lnTo>
                  <a:lnTo>
                    <a:pt x="562" y="1158"/>
                  </a:lnTo>
                  <a:lnTo>
                    <a:pt x="530" y="1180"/>
                  </a:lnTo>
                  <a:lnTo>
                    <a:pt x="496" y="1198"/>
                  </a:lnTo>
                  <a:lnTo>
                    <a:pt x="462" y="1218"/>
                  </a:lnTo>
                  <a:lnTo>
                    <a:pt x="426" y="1236"/>
                  </a:lnTo>
                  <a:lnTo>
                    <a:pt x="390" y="1252"/>
                  </a:lnTo>
                  <a:lnTo>
                    <a:pt x="352" y="1268"/>
                  </a:lnTo>
                  <a:lnTo>
                    <a:pt x="272" y="1296"/>
                  </a:lnTo>
                  <a:lnTo>
                    <a:pt x="272" y="1296"/>
                  </a:lnTo>
                  <a:lnTo>
                    <a:pt x="232" y="1310"/>
                  </a:lnTo>
                  <a:lnTo>
                    <a:pt x="190" y="1322"/>
                  </a:lnTo>
                  <a:lnTo>
                    <a:pt x="148" y="1330"/>
                  </a:lnTo>
                  <a:lnTo>
                    <a:pt x="128" y="1334"/>
                  </a:lnTo>
                  <a:lnTo>
                    <a:pt x="106" y="1334"/>
                  </a:lnTo>
                  <a:lnTo>
                    <a:pt x="106" y="1334"/>
                  </a:lnTo>
                  <a:lnTo>
                    <a:pt x="78" y="1332"/>
                  </a:lnTo>
                  <a:lnTo>
                    <a:pt x="66" y="1330"/>
                  </a:lnTo>
                  <a:lnTo>
                    <a:pt x="54" y="1326"/>
                  </a:lnTo>
                  <a:lnTo>
                    <a:pt x="42" y="1322"/>
                  </a:lnTo>
                  <a:lnTo>
                    <a:pt x="34" y="1316"/>
                  </a:lnTo>
                  <a:lnTo>
                    <a:pt x="26" y="1310"/>
                  </a:lnTo>
                  <a:lnTo>
                    <a:pt x="18" y="1302"/>
                  </a:lnTo>
                  <a:lnTo>
                    <a:pt x="12" y="1292"/>
                  </a:lnTo>
                  <a:lnTo>
                    <a:pt x="8" y="1280"/>
                  </a:lnTo>
                  <a:lnTo>
                    <a:pt x="4" y="1268"/>
                  </a:lnTo>
                  <a:lnTo>
                    <a:pt x="2" y="1256"/>
                  </a:lnTo>
                  <a:lnTo>
                    <a:pt x="0" y="1240"/>
                  </a:lnTo>
                  <a:lnTo>
                    <a:pt x="2" y="1224"/>
                  </a:lnTo>
                  <a:lnTo>
                    <a:pt x="6" y="1186"/>
                  </a:lnTo>
                  <a:lnTo>
                    <a:pt x="18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13933440" y="1218960"/>
              <a:ext cx="1914480" cy="230508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206" h="1452">
                  <a:moveTo>
                    <a:pt x="90" y="754"/>
                  </a:moveTo>
                  <a:lnTo>
                    <a:pt x="90" y="754"/>
                  </a:lnTo>
                  <a:lnTo>
                    <a:pt x="82" y="754"/>
                  </a:lnTo>
                  <a:lnTo>
                    <a:pt x="72" y="752"/>
                  </a:lnTo>
                  <a:lnTo>
                    <a:pt x="60" y="750"/>
                  </a:lnTo>
                  <a:lnTo>
                    <a:pt x="48" y="742"/>
                  </a:lnTo>
                  <a:lnTo>
                    <a:pt x="44" y="738"/>
                  </a:lnTo>
                  <a:lnTo>
                    <a:pt x="38" y="730"/>
                  </a:lnTo>
                  <a:lnTo>
                    <a:pt x="34" y="724"/>
                  </a:lnTo>
                  <a:lnTo>
                    <a:pt x="32" y="714"/>
                  </a:lnTo>
                  <a:lnTo>
                    <a:pt x="30" y="704"/>
                  </a:lnTo>
                  <a:lnTo>
                    <a:pt x="28" y="690"/>
                  </a:lnTo>
                  <a:lnTo>
                    <a:pt x="30" y="676"/>
                  </a:lnTo>
                  <a:lnTo>
                    <a:pt x="32" y="660"/>
                  </a:lnTo>
                  <a:lnTo>
                    <a:pt x="32" y="660"/>
                  </a:lnTo>
                  <a:lnTo>
                    <a:pt x="34" y="642"/>
                  </a:lnTo>
                  <a:lnTo>
                    <a:pt x="40" y="628"/>
                  </a:lnTo>
                  <a:lnTo>
                    <a:pt x="44" y="614"/>
                  </a:lnTo>
                  <a:lnTo>
                    <a:pt x="50" y="604"/>
                  </a:lnTo>
                  <a:lnTo>
                    <a:pt x="56" y="594"/>
                  </a:lnTo>
                  <a:lnTo>
                    <a:pt x="62" y="586"/>
                  </a:lnTo>
                  <a:lnTo>
                    <a:pt x="76" y="574"/>
                  </a:lnTo>
                  <a:lnTo>
                    <a:pt x="90" y="568"/>
                  </a:lnTo>
                  <a:lnTo>
                    <a:pt x="104" y="564"/>
                  </a:lnTo>
                  <a:lnTo>
                    <a:pt x="114" y="562"/>
                  </a:lnTo>
                  <a:lnTo>
                    <a:pt x="124" y="562"/>
                  </a:lnTo>
                  <a:lnTo>
                    <a:pt x="1008" y="562"/>
                  </a:lnTo>
                  <a:lnTo>
                    <a:pt x="1008" y="562"/>
                  </a:lnTo>
                  <a:lnTo>
                    <a:pt x="1016" y="562"/>
                  </a:lnTo>
                  <a:lnTo>
                    <a:pt x="1026" y="564"/>
                  </a:lnTo>
                  <a:lnTo>
                    <a:pt x="1038" y="568"/>
                  </a:lnTo>
                  <a:lnTo>
                    <a:pt x="1050" y="574"/>
                  </a:lnTo>
                  <a:lnTo>
                    <a:pt x="1054" y="580"/>
                  </a:lnTo>
                  <a:lnTo>
                    <a:pt x="1060" y="586"/>
                  </a:lnTo>
                  <a:lnTo>
                    <a:pt x="1064" y="594"/>
                  </a:lnTo>
                  <a:lnTo>
                    <a:pt x="1068" y="602"/>
                  </a:lnTo>
                  <a:lnTo>
                    <a:pt x="1070" y="614"/>
                  </a:lnTo>
                  <a:lnTo>
                    <a:pt x="1070" y="626"/>
                  </a:lnTo>
                  <a:lnTo>
                    <a:pt x="1070" y="640"/>
                  </a:lnTo>
                  <a:lnTo>
                    <a:pt x="1068" y="658"/>
                  </a:lnTo>
                  <a:lnTo>
                    <a:pt x="1068" y="658"/>
                  </a:lnTo>
                  <a:lnTo>
                    <a:pt x="1064" y="674"/>
                  </a:lnTo>
                  <a:lnTo>
                    <a:pt x="1060" y="690"/>
                  </a:lnTo>
                  <a:lnTo>
                    <a:pt x="1054" y="702"/>
                  </a:lnTo>
                  <a:lnTo>
                    <a:pt x="1048" y="714"/>
                  </a:lnTo>
                  <a:lnTo>
                    <a:pt x="1042" y="722"/>
                  </a:lnTo>
                  <a:lnTo>
                    <a:pt x="1036" y="730"/>
                  </a:lnTo>
                  <a:lnTo>
                    <a:pt x="1022" y="742"/>
                  </a:lnTo>
                  <a:lnTo>
                    <a:pt x="1008" y="750"/>
                  </a:lnTo>
                  <a:lnTo>
                    <a:pt x="994" y="752"/>
                  </a:lnTo>
                  <a:lnTo>
                    <a:pt x="984" y="754"/>
                  </a:lnTo>
                  <a:lnTo>
                    <a:pt x="976" y="754"/>
                  </a:lnTo>
                  <a:lnTo>
                    <a:pt x="642" y="754"/>
                  </a:lnTo>
                  <a:lnTo>
                    <a:pt x="642" y="754"/>
                  </a:lnTo>
                  <a:lnTo>
                    <a:pt x="630" y="812"/>
                  </a:lnTo>
                  <a:lnTo>
                    <a:pt x="612" y="882"/>
                  </a:lnTo>
                  <a:lnTo>
                    <a:pt x="602" y="918"/>
                  </a:lnTo>
                  <a:lnTo>
                    <a:pt x="588" y="958"/>
                  </a:lnTo>
                  <a:lnTo>
                    <a:pt x="574" y="998"/>
                  </a:lnTo>
                  <a:lnTo>
                    <a:pt x="558" y="1038"/>
                  </a:lnTo>
                  <a:lnTo>
                    <a:pt x="538" y="1078"/>
                  </a:lnTo>
                  <a:lnTo>
                    <a:pt x="516" y="1120"/>
                  </a:lnTo>
                  <a:lnTo>
                    <a:pt x="492" y="1160"/>
                  </a:lnTo>
                  <a:lnTo>
                    <a:pt x="464" y="1198"/>
                  </a:lnTo>
                  <a:lnTo>
                    <a:pt x="434" y="1236"/>
                  </a:lnTo>
                  <a:lnTo>
                    <a:pt x="400" y="1274"/>
                  </a:lnTo>
                  <a:lnTo>
                    <a:pt x="362" y="1308"/>
                  </a:lnTo>
                  <a:lnTo>
                    <a:pt x="320" y="1340"/>
                  </a:lnTo>
                  <a:lnTo>
                    <a:pt x="320" y="1340"/>
                  </a:lnTo>
                  <a:lnTo>
                    <a:pt x="280" y="1366"/>
                  </a:lnTo>
                  <a:lnTo>
                    <a:pt x="238" y="1390"/>
                  </a:lnTo>
                  <a:lnTo>
                    <a:pt x="198" y="1410"/>
                  </a:lnTo>
                  <a:lnTo>
                    <a:pt x="160" y="1426"/>
                  </a:lnTo>
                  <a:lnTo>
                    <a:pt x="128" y="1438"/>
                  </a:lnTo>
                  <a:lnTo>
                    <a:pt x="98" y="1446"/>
                  </a:lnTo>
                  <a:lnTo>
                    <a:pt x="74" y="1452"/>
                  </a:lnTo>
                  <a:lnTo>
                    <a:pt x="58" y="1452"/>
                  </a:lnTo>
                  <a:lnTo>
                    <a:pt x="58" y="1452"/>
                  </a:lnTo>
                  <a:lnTo>
                    <a:pt x="48" y="1452"/>
                  </a:lnTo>
                  <a:lnTo>
                    <a:pt x="38" y="1450"/>
                  </a:lnTo>
                  <a:lnTo>
                    <a:pt x="30" y="1446"/>
                  </a:lnTo>
                  <a:lnTo>
                    <a:pt x="24" y="1440"/>
                  </a:lnTo>
                  <a:lnTo>
                    <a:pt x="18" y="1434"/>
                  </a:lnTo>
                  <a:lnTo>
                    <a:pt x="14" y="1426"/>
                  </a:lnTo>
                  <a:lnTo>
                    <a:pt x="6" y="1410"/>
                  </a:lnTo>
                  <a:lnTo>
                    <a:pt x="2" y="1392"/>
                  </a:lnTo>
                  <a:lnTo>
                    <a:pt x="0" y="1372"/>
                  </a:lnTo>
                  <a:lnTo>
                    <a:pt x="0" y="1356"/>
                  </a:lnTo>
                  <a:lnTo>
                    <a:pt x="2" y="1340"/>
                  </a:lnTo>
                  <a:lnTo>
                    <a:pt x="2" y="1340"/>
                  </a:lnTo>
                  <a:lnTo>
                    <a:pt x="8" y="1320"/>
                  </a:lnTo>
                  <a:lnTo>
                    <a:pt x="14" y="1302"/>
                  </a:lnTo>
                  <a:lnTo>
                    <a:pt x="24" y="1290"/>
                  </a:lnTo>
                  <a:lnTo>
                    <a:pt x="36" y="1278"/>
                  </a:lnTo>
                  <a:lnTo>
                    <a:pt x="52" y="1268"/>
                  </a:lnTo>
                  <a:lnTo>
                    <a:pt x="70" y="1260"/>
                  </a:lnTo>
                  <a:lnTo>
                    <a:pt x="120" y="1242"/>
                  </a:lnTo>
                  <a:lnTo>
                    <a:pt x="120" y="1242"/>
                  </a:lnTo>
                  <a:lnTo>
                    <a:pt x="150" y="1230"/>
                  </a:lnTo>
                  <a:lnTo>
                    <a:pt x="180" y="1218"/>
                  </a:lnTo>
                  <a:lnTo>
                    <a:pt x="210" y="1204"/>
                  </a:lnTo>
                  <a:lnTo>
                    <a:pt x="238" y="1188"/>
                  </a:lnTo>
                  <a:lnTo>
                    <a:pt x="264" y="1172"/>
                  </a:lnTo>
                  <a:lnTo>
                    <a:pt x="290" y="1152"/>
                  </a:lnTo>
                  <a:lnTo>
                    <a:pt x="314" y="1128"/>
                  </a:lnTo>
                  <a:lnTo>
                    <a:pt x="338" y="1102"/>
                  </a:lnTo>
                  <a:lnTo>
                    <a:pt x="360" y="1074"/>
                  </a:lnTo>
                  <a:lnTo>
                    <a:pt x="382" y="1042"/>
                  </a:lnTo>
                  <a:lnTo>
                    <a:pt x="402" y="1006"/>
                  </a:lnTo>
                  <a:lnTo>
                    <a:pt x="420" y="964"/>
                  </a:lnTo>
                  <a:lnTo>
                    <a:pt x="438" y="920"/>
                  </a:lnTo>
                  <a:lnTo>
                    <a:pt x="454" y="870"/>
                  </a:lnTo>
                  <a:lnTo>
                    <a:pt x="468" y="814"/>
                  </a:lnTo>
                  <a:lnTo>
                    <a:pt x="482" y="754"/>
                  </a:lnTo>
                  <a:lnTo>
                    <a:pt x="90" y="754"/>
                  </a:lnTo>
                  <a:close/>
                  <a:moveTo>
                    <a:pt x="888" y="144"/>
                  </a:moveTo>
                  <a:lnTo>
                    <a:pt x="888" y="144"/>
                  </a:lnTo>
                  <a:lnTo>
                    <a:pt x="896" y="144"/>
                  </a:lnTo>
                  <a:lnTo>
                    <a:pt x="906" y="146"/>
                  </a:lnTo>
                  <a:lnTo>
                    <a:pt x="918" y="150"/>
                  </a:lnTo>
                  <a:lnTo>
                    <a:pt x="930" y="156"/>
                  </a:lnTo>
                  <a:lnTo>
                    <a:pt x="934" y="162"/>
                  </a:lnTo>
                  <a:lnTo>
                    <a:pt x="938" y="168"/>
                  </a:lnTo>
                  <a:lnTo>
                    <a:pt x="942" y="176"/>
                  </a:lnTo>
                  <a:lnTo>
                    <a:pt x="946" y="184"/>
                  </a:lnTo>
                  <a:lnTo>
                    <a:pt x="948" y="196"/>
                  </a:lnTo>
                  <a:lnTo>
                    <a:pt x="948" y="208"/>
                  </a:lnTo>
                  <a:lnTo>
                    <a:pt x="948" y="222"/>
                  </a:lnTo>
                  <a:lnTo>
                    <a:pt x="946" y="240"/>
                  </a:lnTo>
                  <a:lnTo>
                    <a:pt x="946" y="240"/>
                  </a:lnTo>
                  <a:lnTo>
                    <a:pt x="942" y="256"/>
                  </a:lnTo>
                  <a:lnTo>
                    <a:pt x="938" y="272"/>
                  </a:lnTo>
                  <a:lnTo>
                    <a:pt x="932" y="284"/>
                  </a:lnTo>
                  <a:lnTo>
                    <a:pt x="928" y="296"/>
                  </a:lnTo>
                  <a:lnTo>
                    <a:pt x="922" y="304"/>
                  </a:lnTo>
                  <a:lnTo>
                    <a:pt x="914" y="312"/>
                  </a:lnTo>
                  <a:lnTo>
                    <a:pt x="902" y="324"/>
                  </a:lnTo>
                  <a:lnTo>
                    <a:pt x="888" y="332"/>
                  </a:lnTo>
                  <a:lnTo>
                    <a:pt x="876" y="334"/>
                  </a:lnTo>
                  <a:lnTo>
                    <a:pt x="864" y="336"/>
                  </a:lnTo>
                  <a:lnTo>
                    <a:pt x="856" y="336"/>
                  </a:lnTo>
                  <a:lnTo>
                    <a:pt x="252" y="336"/>
                  </a:lnTo>
                  <a:lnTo>
                    <a:pt x="252" y="336"/>
                  </a:lnTo>
                  <a:lnTo>
                    <a:pt x="242" y="336"/>
                  </a:lnTo>
                  <a:lnTo>
                    <a:pt x="232" y="334"/>
                  </a:lnTo>
                  <a:lnTo>
                    <a:pt x="220" y="332"/>
                  </a:lnTo>
                  <a:lnTo>
                    <a:pt x="210" y="324"/>
                  </a:lnTo>
                  <a:lnTo>
                    <a:pt x="204" y="320"/>
                  </a:lnTo>
                  <a:lnTo>
                    <a:pt x="200" y="314"/>
                  </a:lnTo>
                  <a:lnTo>
                    <a:pt x="196" y="306"/>
                  </a:lnTo>
                  <a:lnTo>
                    <a:pt x="192" y="296"/>
                  </a:lnTo>
                  <a:lnTo>
                    <a:pt x="190" y="286"/>
                  </a:lnTo>
                  <a:lnTo>
                    <a:pt x="190" y="272"/>
                  </a:lnTo>
                  <a:lnTo>
                    <a:pt x="190" y="258"/>
                  </a:lnTo>
                  <a:lnTo>
                    <a:pt x="192" y="242"/>
                  </a:lnTo>
                  <a:lnTo>
                    <a:pt x="192" y="242"/>
                  </a:lnTo>
                  <a:lnTo>
                    <a:pt x="196" y="224"/>
                  </a:lnTo>
                  <a:lnTo>
                    <a:pt x="200" y="210"/>
                  </a:lnTo>
                  <a:lnTo>
                    <a:pt x="206" y="196"/>
                  </a:lnTo>
                  <a:lnTo>
                    <a:pt x="212" y="186"/>
                  </a:lnTo>
                  <a:lnTo>
                    <a:pt x="218" y="176"/>
                  </a:lnTo>
                  <a:lnTo>
                    <a:pt x="224" y="168"/>
                  </a:lnTo>
                  <a:lnTo>
                    <a:pt x="238" y="156"/>
                  </a:lnTo>
                  <a:lnTo>
                    <a:pt x="250" y="150"/>
                  </a:lnTo>
                  <a:lnTo>
                    <a:pt x="264" y="146"/>
                  </a:lnTo>
                  <a:lnTo>
                    <a:pt x="274" y="144"/>
                  </a:lnTo>
                  <a:lnTo>
                    <a:pt x="284" y="144"/>
                  </a:lnTo>
                  <a:lnTo>
                    <a:pt x="888" y="144"/>
                  </a:lnTo>
                  <a:close/>
                  <a:moveTo>
                    <a:pt x="970" y="88"/>
                  </a:moveTo>
                  <a:lnTo>
                    <a:pt x="970" y="88"/>
                  </a:lnTo>
                  <a:lnTo>
                    <a:pt x="970" y="74"/>
                  </a:lnTo>
                  <a:lnTo>
                    <a:pt x="970" y="58"/>
                  </a:lnTo>
                  <a:lnTo>
                    <a:pt x="970" y="58"/>
                  </a:lnTo>
                  <a:lnTo>
                    <a:pt x="974" y="44"/>
                  </a:lnTo>
                  <a:lnTo>
                    <a:pt x="980" y="34"/>
                  </a:lnTo>
                  <a:lnTo>
                    <a:pt x="986" y="26"/>
                  </a:lnTo>
                  <a:lnTo>
                    <a:pt x="994" y="20"/>
                  </a:lnTo>
                  <a:lnTo>
                    <a:pt x="1002" y="16"/>
                  </a:lnTo>
                  <a:lnTo>
                    <a:pt x="1010" y="14"/>
                  </a:lnTo>
                  <a:lnTo>
                    <a:pt x="1022" y="12"/>
                  </a:lnTo>
                  <a:lnTo>
                    <a:pt x="1022" y="12"/>
                  </a:lnTo>
                  <a:lnTo>
                    <a:pt x="1030" y="14"/>
                  </a:lnTo>
                  <a:lnTo>
                    <a:pt x="1036" y="16"/>
                  </a:lnTo>
                  <a:lnTo>
                    <a:pt x="1042" y="24"/>
                  </a:lnTo>
                  <a:lnTo>
                    <a:pt x="1046" y="32"/>
                  </a:lnTo>
                  <a:lnTo>
                    <a:pt x="1050" y="44"/>
                  </a:lnTo>
                  <a:lnTo>
                    <a:pt x="1052" y="58"/>
                  </a:lnTo>
                  <a:lnTo>
                    <a:pt x="1058" y="96"/>
                  </a:lnTo>
                  <a:lnTo>
                    <a:pt x="1058" y="96"/>
                  </a:lnTo>
                  <a:lnTo>
                    <a:pt x="1062" y="134"/>
                  </a:lnTo>
                  <a:lnTo>
                    <a:pt x="1066" y="168"/>
                  </a:lnTo>
                  <a:lnTo>
                    <a:pt x="1066" y="198"/>
                  </a:lnTo>
                  <a:lnTo>
                    <a:pt x="1066" y="216"/>
                  </a:lnTo>
                  <a:lnTo>
                    <a:pt x="1066" y="216"/>
                  </a:lnTo>
                  <a:lnTo>
                    <a:pt x="1060" y="232"/>
                  </a:lnTo>
                  <a:lnTo>
                    <a:pt x="1054" y="246"/>
                  </a:lnTo>
                  <a:lnTo>
                    <a:pt x="1046" y="254"/>
                  </a:lnTo>
                  <a:lnTo>
                    <a:pt x="1038" y="260"/>
                  </a:lnTo>
                  <a:lnTo>
                    <a:pt x="1030" y="264"/>
                  </a:lnTo>
                  <a:lnTo>
                    <a:pt x="1022" y="266"/>
                  </a:lnTo>
                  <a:lnTo>
                    <a:pt x="1014" y="266"/>
                  </a:lnTo>
                  <a:lnTo>
                    <a:pt x="1014" y="266"/>
                  </a:lnTo>
                  <a:lnTo>
                    <a:pt x="1004" y="264"/>
                  </a:lnTo>
                  <a:lnTo>
                    <a:pt x="994" y="258"/>
                  </a:lnTo>
                  <a:lnTo>
                    <a:pt x="988" y="248"/>
                  </a:lnTo>
                  <a:lnTo>
                    <a:pt x="984" y="234"/>
                  </a:lnTo>
                  <a:lnTo>
                    <a:pt x="984" y="234"/>
                  </a:lnTo>
                  <a:lnTo>
                    <a:pt x="978" y="156"/>
                  </a:lnTo>
                  <a:lnTo>
                    <a:pt x="978" y="156"/>
                  </a:lnTo>
                  <a:lnTo>
                    <a:pt x="970" y="88"/>
                  </a:lnTo>
                  <a:lnTo>
                    <a:pt x="970" y="88"/>
                  </a:lnTo>
                  <a:close/>
                  <a:moveTo>
                    <a:pt x="1108" y="72"/>
                  </a:moveTo>
                  <a:lnTo>
                    <a:pt x="1108" y="72"/>
                  </a:lnTo>
                  <a:lnTo>
                    <a:pt x="1108" y="58"/>
                  </a:lnTo>
                  <a:lnTo>
                    <a:pt x="1110" y="46"/>
                  </a:lnTo>
                  <a:lnTo>
                    <a:pt x="1110" y="46"/>
                  </a:lnTo>
                  <a:lnTo>
                    <a:pt x="1112" y="34"/>
                  </a:lnTo>
                  <a:lnTo>
                    <a:pt x="1118" y="24"/>
                  </a:lnTo>
                  <a:lnTo>
                    <a:pt x="1124" y="16"/>
                  </a:lnTo>
                  <a:lnTo>
                    <a:pt x="1132" y="10"/>
                  </a:lnTo>
                  <a:lnTo>
                    <a:pt x="1140" y="4"/>
                  </a:lnTo>
                  <a:lnTo>
                    <a:pt x="1148" y="2"/>
                  </a:lnTo>
                  <a:lnTo>
                    <a:pt x="1160" y="0"/>
                  </a:lnTo>
                  <a:lnTo>
                    <a:pt x="1160" y="0"/>
                  </a:lnTo>
                  <a:lnTo>
                    <a:pt x="1168" y="0"/>
                  </a:lnTo>
                  <a:lnTo>
                    <a:pt x="1176" y="4"/>
                  </a:lnTo>
                  <a:lnTo>
                    <a:pt x="1180" y="8"/>
                  </a:lnTo>
                  <a:lnTo>
                    <a:pt x="1184" y="16"/>
                  </a:lnTo>
                  <a:lnTo>
                    <a:pt x="1188" y="26"/>
                  </a:lnTo>
                  <a:lnTo>
                    <a:pt x="1192" y="38"/>
                  </a:lnTo>
                  <a:lnTo>
                    <a:pt x="1198" y="72"/>
                  </a:lnTo>
                  <a:lnTo>
                    <a:pt x="1198" y="72"/>
                  </a:lnTo>
                  <a:lnTo>
                    <a:pt x="1204" y="138"/>
                  </a:lnTo>
                  <a:lnTo>
                    <a:pt x="1206" y="174"/>
                  </a:lnTo>
                  <a:lnTo>
                    <a:pt x="1206" y="190"/>
                  </a:lnTo>
                  <a:lnTo>
                    <a:pt x="1204" y="202"/>
                  </a:lnTo>
                  <a:lnTo>
                    <a:pt x="1204" y="202"/>
                  </a:lnTo>
                  <a:lnTo>
                    <a:pt x="1200" y="218"/>
                  </a:lnTo>
                  <a:lnTo>
                    <a:pt x="1194" y="230"/>
                  </a:lnTo>
                  <a:lnTo>
                    <a:pt x="1188" y="238"/>
                  </a:lnTo>
                  <a:lnTo>
                    <a:pt x="1178" y="244"/>
                  </a:lnTo>
                  <a:lnTo>
                    <a:pt x="1170" y="250"/>
                  </a:lnTo>
                  <a:lnTo>
                    <a:pt x="1164" y="252"/>
                  </a:lnTo>
                  <a:lnTo>
                    <a:pt x="1154" y="254"/>
                  </a:lnTo>
                  <a:lnTo>
                    <a:pt x="1154" y="254"/>
                  </a:lnTo>
                  <a:lnTo>
                    <a:pt x="1144" y="252"/>
                  </a:lnTo>
                  <a:lnTo>
                    <a:pt x="1138" y="250"/>
                  </a:lnTo>
                  <a:lnTo>
                    <a:pt x="1132" y="244"/>
                  </a:lnTo>
                  <a:lnTo>
                    <a:pt x="1128" y="236"/>
                  </a:lnTo>
                  <a:lnTo>
                    <a:pt x="1126" y="222"/>
                  </a:lnTo>
                  <a:lnTo>
                    <a:pt x="1124" y="202"/>
                  </a:lnTo>
                  <a:lnTo>
                    <a:pt x="1118" y="142"/>
                  </a:lnTo>
                  <a:lnTo>
                    <a:pt x="1118" y="142"/>
                  </a:lnTo>
                  <a:lnTo>
                    <a:pt x="1108" y="72"/>
                  </a:lnTo>
                  <a:lnTo>
                    <a:pt x="110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15921000" y="1717560"/>
              <a:ext cx="1457280" cy="18194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918" h="1146">
                  <a:moveTo>
                    <a:pt x="476" y="1052"/>
                  </a:moveTo>
                  <a:lnTo>
                    <a:pt x="476" y="1052"/>
                  </a:lnTo>
                  <a:lnTo>
                    <a:pt x="472" y="1070"/>
                  </a:lnTo>
                  <a:lnTo>
                    <a:pt x="466" y="1088"/>
                  </a:lnTo>
                  <a:lnTo>
                    <a:pt x="458" y="1104"/>
                  </a:lnTo>
                  <a:lnTo>
                    <a:pt x="448" y="1118"/>
                  </a:lnTo>
                  <a:lnTo>
                    <a:pt x="436" y="1130"/>
                  </a:lnTo>
                  <a:lnTo>
                    <a:pt x="422" y="1138"/>
                  </a:lnTo>
                  <a:lnTo>
                    <a:pt x="404" y="1144"/>
                  </a:lnTo>
                  <a:lnTo>
                    <a:pt x="384" y="1146"/>
                  </a:lnTo>
                  <a:lnTo>
                    <a:pt x="384" y="1146"/>
                  </a:lnTo>
                  <a:lnTo>
                    <a:pt x="368" y="1144"/>
                  </a:lnTo>
                  <a:lnTo>
                    <a:pt x="352" y="1140"/>
                  </a:lnTo>
                  <a:lnTo>
                    <a:pt x="340" y="1134"/>
                  </a:lnTo>
                  <a:lnTo>
                    <a:pt x="332" y="1124"/>
                  </a:lnTo>
                  <a:lnTo>
                    <a:pt x="324" y="1110"/>
                  </a:lnTo>
                  <a:lnTo>
                    <a:pt x="322" y="1094"/>
                  </a:lnTo>
                  <a:lnTo>
                    <a:pt x="320" y="1074"/>
                  </a:lnTo>
                  <a:lnTo>
                    <a:pt x="324" y="1052"/>
                  </a:lnTo>
                  <a:lnTo>
                    <a:pt x="412" y="530"/>
                  </a:lnTo>
                  <a:lnTo>
                    <a:pt x="412" y="530"/>
                  </a:lnTo>
                  <a:lnTo>
                    <a:pt x="354" y="562"/>
                  </a:lnTo>
                  <a:lnTo>
                    <a:pt x="298" y="592"/>
                  </a:lnTo>
                  <a:lnTo>
                    <a:pt x="238" y="620"/>
                  </a:lnTo>
                  <a:lnTo>
                    <a:pt x="170" y="650"/>
                  </a:lnTo>
                  <a:lnTo>
                    <a:pt x="170" y="650"/>
                  </a:lnTo>
                  <a:lnTo>
                    <a:pt x="142" y="660"/>
                  </a:lnTo>
                  <a:lnTo>
                    <a:pt x="110" y="672"/>
                  </a:lnTo>
                  <a:lnTo>
                    <a:pt x="80" y="680"/>
                  </a:lnTo>
                  <a:lnTo>
                    <a:pt x="66" y="682"/>
                  </a:lnTo>
                  <a:lnTo>
                    <a:pt x="54" y="684"/>
                  </a:lnTo>
                  <a:lnTo>
                    <a:pt x="54" y="684"/>
                  </a:lnTo>
                  <a:lnTo>
                    <a:pt x="44" y="682"/>
                  </a:lnTo>
                  <a:lnTo>
                    <a:pt x="36" y="680"/>
                  </a:lnTo>
                  <a:lnTo>
                    <a:pt x="28" y="676"/>
                  </a:lnTo>
                  <a:lnTo>
                    <a:pt x="22" y="672"/>
                  </a:lnTo>
                  <a:lnTo>
                    <a:pt x="16" y="666"/>
                  </a:lnTo>
                  <a:lnTo>
                    <a:pt x="12" y="660"/>
                  </a:lnTo>
                  <a:lnTo>
                    <a:pt x="6" y="644"/>
                  </a:lnTo>
                  <a:lnTo>
                    <a:pt x="2" y="626"/>
                  </a:lnTo>
                  <a:lnTo>
                    <a:pt x="0" y="610"/>
                  </a:lnTo>
                  <a:lnTo>
                    <a:pt x="0" y="592"/>
                  </a:lnTo>
                  <a:lnTo>
                    <a:pt x="2" y="578"/>
                  </a:lnTo>
                  <a:lnTo>
                    <a:pt x="2" y="578"/>
                  </a:lnTo>
                  <a:lnTo>
                    <a:pt x="6" y="556"/>
                  </a:lnTo>
                  <a:lnTo>
                    <a:pt x="12" y="540"/>
                  </a:lnTo>
                  <a:lnTo>
                    <a:pt x="20" y="526"/>
                  </a:lnTo>
                  <a:lnTo>
                    <a:pt x="32" y="516"/>
                  </a:lnTo>
                  <a:lnTo>
                    <a:pt x="46" y="508"/>
                  </a:lnTo>
                  <a:lnTo>
                    <a:pt x="64" y="498"/>
                  </a:lnTo>
                  <a:lnTo>
                    <a:pt x="112" y="480"/>
                  </a:lnTo>
                  <a:lnTo>
                    <a:pt x="112" y="480"/>
                  </a:lnTo>
                  <a:lnTo>
                    <a:pt x="154" y="466"/>
                  </a:lnTo>
                  <a:lnTo>
                    <a:pt x="194" y="450"/>
                  </a:lnTo>
                  <a:lnTo>
                    <a:pt x="234" y="432"/>
                  </a:lnTo>
                  <a:lnTo>
                    <a:pt x="276" y="412"/>
                  </a:lnTo>
                  <a:lnTo>
                    <a:pt x="356" y="370"/>
                  </a:lnTo>
                  <a:lnTo>
                    <a:pt x="432" y="326"/>
                  </a:lnTo>
                  <a:lnTo>
                    <a:pt x="504" y="280"/>
                  </a:lnTo>
                  <a:lnTo>
                    <a:pt x="570" y="234"/>
                  </a:lnTo>
                  <a:lnTo>
                    <a:pt x="628" y="190"/>
                  </a:lnTo>
                  <a:lnTo>
                    <a:pt x="676" y="148"/>
                  </a:lnTo>
                  <a:lnTo>
                    <a:pt x="792" y="36"/>
                  </a:lnTo>
                  <a:lnTo>
                    <a:pt x="792" y="36"/>
                  </a:lnTo>
                  <a:lnTo>
                    <a:pt x="812" y="18"/>
                  </a:lnTo>
                  <a:lnTo>
                    <a:pt x="830" y="8"/>
                  </a:lnTo>
                  <a:lnTo>
                    <a:pt x="842" y="2"/>
                  </a:lnTo>
                  <a:lnTo>
                    <a:pt x="854" y="0"/>
                  </a:lnTo>
                  <a:lnTo>
                    <a:pt x="854" y="0"/>
                  </a:lnTo>
                  <a:lnTo>
                    <a:pt x="868" y="2"/>
                  </a:lnTo>
                  <a:lnTo>
                    <a:pt x="882" y="8"/>
                  </a:lnTo>
                  <a:lnTo>
                    <a:pt x="894" y="18"/>
                  </a:lnTo>
                  <a:lnTo>
                    <a:pt x="904" y="30"/>
                  </a:lnTo>
                  <a:lnTo>
                    <a:pt x="912" y="46"/>
                  </a:lnTo>
                  <a:lnTo>
                    <a:pt x="916" y="64"/>
                  </a:lnTo>
                  <a:lnTo>
                    <a:pt x="918" y="82"/>
                  </a:lnTo>
                  <a:lnTo>
                    <a:pt x="916" y="104"/>
                  </a:lnTo>
                  <a:lnTo>
                    <a:pt x="916" y="104"/>
                  </a:lnTo>
                  <a:lnTo>
                    <a:pt x="912" y="126"/>
                  </a:lnTo>
                  <a:lnTo>
                    <a:pt x="902" y="144"/>
                  </a:lnTo>
                  <a:lnTo>
                    <a:pt x="888" y="164"/>
                  </a:lnTo>
                  <a:lnTo>
                    <a:pt x="870" y="184"/>
                  </a:lnTo>
                  <a:lnTo>
                    <a:pt x="870" y="184"/>
                  </a:lnTo>
                  <a:lnTo>
                    <a:pt x="808" y="244"/>
                  </a:lnTo>
                  <a:lnTo>
                    <a:pt x="742" y="302"/>
                  </a:lnTo>
                  <a:lnTo>
                    <a:pt x="666" y="362"/>
                  </a:lnTo>
                  <a:lnTo>
                    <a:pt x="582" y="424"/>
                  </a:lnTo>
                  <a:lnTo>
                    <a:pt x="476" y="10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17686440" y="2260800"/>
              <a:ext cx="1682640" cy="33948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060" h="214">
                  <a:moveTo>
                    <a:pt x="72" y="214"/>
                  </a:moveTo>
                  <a:lnTo>
                    <a:pt x="72" y="214"/>
                  </a:lnTo>
                  <a:lnTo>
                    <a:pt x="62" y="214"/>
                  </a:lnTo>
                  <a:lnTo>
                    <a:pt x="48" y="212"/>
                  </a:lnTo>
                  <a:lnTo>
                    <a:pt x="34" y="208"/>
                  </a:lnTo>
                  <a:lnTo>
                    <a:pt x="22" y="200"/>
                  </a:lnTo>
                  <a:lnTo>
                    <a:pt x="16" y="194"/>
                  </a:lnTo>
                  <a:lnTo>
                    <a:pt x="10" y="188"/>
                  </a:lnTo>
                  <a:lnTo>
                    <a:pt x="6" y="180"/>
                  </a:lnTo>
                  <a:lnTo>
                    <a:pt x="2" y="168"/>
                  </a:lnTo>
                  <a:lnTo>
                    <a:pt x="0" y="156"/>
                  </a:lnTo>
                  <a:lnTo>
                    <a:pt x="0" y="142"/>
                  </a:lnTo>
                  <a:lnTo>
                    <a:pt x="0" y="12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6" y="90"/>
                  </a:lnTo>
                  <a:lnTo>
                    <a:pt x="10" y="74"/>
                  </a:lnTo>
                  <a:lnTo>
                    <a:pt x="16" y="60"/>
                  </a:lnTo>
                  <a:lnTo>
                    <a:pt x="22" y="48"/>
                  </a:lnTo>
                  <a:lnTo>
                    <a:pt x="28" y="38"/>
                  </a:lnTo>
                  <a:lnTo>
                    <a:pt x="34" y="28"/>
                  </a:lnTo>
                  <a:lnTo>
                    <a:pt x="42" y="22"/>
                  </a:lnTo>
                  <a:lnTo>
                    <a:pt x="50" y="16"/>
                  </a:lnTo>
                  <a:lnTo>
                    <a:pt x="64" y="8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988" y="0"/>
                  </a:lnTo>
                  <a:lnTo>
                    <a:pt x="988" y="0"/>
                  </a:lnTo>
                  <a:lnTo>
                    <a:pt x="998" y="0"/>
                  </a:lnTo>
                  <a:lnTo>
                    <a:pt x="1012" y="2"/>
                  </a:lnTo>
                  <a:lnTo>
                    <a:pt x="1024" y="6"/>
                  </a:lnTo>
                  <a:lnTo>
                    <a:pt x="1038" y="14"/>
                  </a:lnTo>
                  <a:lnTo>
                    <a:pt x="1044" y="18"/>
                  </a:lnTo>
                  <a:lnTo>
                    <a:pt x="1050" y="26"/>
                  </a:lnTo>
                  <a:lnTo>
                    <a:pt x="1054" y="34"/>
                  </a:lnTo>
                  <a:lnTo>
                    <a:pt x="1058" y="44"/>
                  </a:lnTo>
                  <a:lnTo>
                    <a:pt x="1060" y="56"/>
                  </a:lnTo>
                  <a:lnTo>
                    <a:pt x="1060" y="72"/>
                  </a:lnTo>
                  <a:lnTo>
                    <a:pt x="1060" y="88"/>
                  </a:lnTo>
                  <a:lnTo>
                    <a:pt x="1056" y="106"/>
                  </a:lnTo>
                  <a:lnTo>
                    <a:pt x="1056" y="106"/>
                  </a:lnTo>
                  <a:lnTo>
                    <a:pt x="1054" y="124"/>
                  </a:lnTo>
                  <a:lnTo>
                    <a:pt x="1048" y="140"/>
                  </a:lnTo>
                  <a:lnTo>
                    <a:pt x="1044" y="154"/>
                  </a:lnTo>
                  <a:lnTo>
                    <a:pt x="1038" y="166"/>
                  </a:lnTo>
                  <a:lnTo>
                    <a:pt x="1032" y="178"/>
                  </a:lnTo>
                  <a:lnTo>
                    <a:pt x="1024" y="186"/>
                  </a:lnTo>
                  <a:lnTo>
                    <a:pt x="1016" y="194"/>
                  </a:lnTo>
                  <a:lnTo>
                    <a:pt x="1010" y="200"/>
                  </a:lnTo>
                  <a:lnTo>
                    <a:pt x="994" y="208"/>
                  </a:lnTo>
                  <a:lnTo>
                    <a:pt x="978" y="212"/>
                  </a:lnTo>
                  <a:lnTo>
                    <a:pt x="964" y="214"/>
                  </a:lnTo>
                  <a:lnTo>
                    <a:pt x="952" y="214"/>
                  </a:lnTo>
                  <a:lnTo>
                    <a:pt x="72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19451520" y="1441440"/>
              <a:ext cx="1612800" cy="20289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028960"/>
                <a:gd name="textAreaBottom" fmla="*/ 2029320 h 2028960"/>
              </a:gdLst>
              <a:ahLst/>
              <a:rect l="textAreaLeft" t="textAreaTop" r="textAreaRight" b="textAreaBottom"/>
              <a:pathLst>
                <a:path w="1016" h="1278">
                  <a:moveTo>
                    <a:pt x="280" y="198"/>
                  </a:moveTo>
                  <a:lnTo>
                    <a:pt x="280" y="198"/>
                  </a:lnTo>
                  <a:lnTo>
                    <a:pt x="270" y="198"/>
                  </a:lnTo>
                  <a:lnTo>
                    <a:pt x="258" y="196"/>
                  </a:lnTo>
                  <a:lnTo>
                    <a:pt x="246" y="190"/>
                  </a:lnTo>
                  <a:lnTo>
                    <a:pt x="234" y="182"/>
                  </a:lnTo>
                  <a:lnTo>
                    <a:pt x="230" y="178"/>
                  </a:lnTo>
                  <a:lnTo>
                    <a:pt x="224" y="170"/>
                  </a:lnTo>
                  <a:lnTo>
                    <a:pt x="222" y="162"/>
                  </a:lnTo>
                  <a:lnTo>
                    <a:pt x="218" y="154"/>
                  </a:lnTo>
                  <a:lnTo>
                    <a:pt x="216" y="142"/>
                  </a:lnTo>
                  <a:lnTo>
                    <a:pt x="216" y="130"/>
                  </a:lnTo>
                  <a:lnTo>
                    <a:pt x="216" y="116"/>
                  </a:lnTo>
                  <a:lnTo>
                    <a:pt x="218" y="100"/>
                  </a:lnTo>
                  <a:lnTo>
                    <a:pt x="218" y="100"/>
                  </a:lnTo>
                  <a:lnTo>
                    <a:pt x="224" y="74"/>
                  </a:lnTo>
                  <a:lnTo>
                    <a:pt x="232" y="54"/>
                  </a:lnTo>
                  <a:lnTo>
                    <a:pt x="242" y="36"/>
                  </a:lnTo>
                  <a:lnTo>
                    <a:pt x="254" y="22"/>
                  </a:lnTo>
                  <a:lnTo>
                    <a:pt x="266" y="12"/>
                  </a:lnTo>
                  <a:lnTo>
                    <a:pt x="282" y="6"/>
                  </a:lnTo>
                  <a:lnTo>
                    <a:pt x="296" y="2"/>
                  </a:lnTo>
                  <a:lnTo>
                    <a:pt x="314" y="0"/>
                  </a:lnTo>
                  <a:lnTo>
                    <a:pt x="900" y="0"/>
                  </a:lnTo>
                  <a:lnTo>
                    <a:pt x="900" y="0"/>
                  </a:lnTo>
                  <a:lnTo>
                    <a:pt x="922" y="0"/>
                  </a:lnTo>
                  <a:lnTo>
                    <a:pt x="942" y="4"/>
                  </a:lnTo>
                  <a:lnTo>
                    <a:pt x="964" y="10"/>
                  </a:lnTo>
                  <a:lnTo>
                    <a:pt x="972" y="14"/>
                  </a:lnTo>
                  <a:lnTo>
                    <a:pt x="982" y="22"/>
                  </a:lnTo>
                  <a:lnTo>
                    <a:pt x="990" y="28"/>
                  </a:lnTo>
                  <a:lnTo>
                    <a:pt x="996" y="38"/>
                  </a:lnTo>
                  <a:lnTo>
                    <a:pt x="1002" y="48"/>
                  </a:lnTo>
                  <a:lnTo>
                    <a:pt x="1006" y="62"/>
                  </a:lnTo>
                  <a:lnTo>
                    <a:pt x="1010" y="76"/>
                  </a:lnTo>
                  <a:lnTo>
                    <a:pt x="1010" y="94"/>
                  </a:lnTo>
                  <a:lnTo>
                    <a:pt x="1010" y="112"/>
                  </a:lnTo>
                  <a:lnTo>
                    <a:pt x="1006" y="134"/>
                  </a:lnTo>
                  <a:lnTo>
                    <a:pt x="1006" y="134"/>
                  </a:lnTo>
                  <a:lnTo>
                    <a:pt x="1002" y="156"/>
                  </a:lnTo>
                  <a:lnTo>
                    <a:pt x="994" y="180"/>
                  </a:lnTo>
                  <a:lnTo>
                    <a:pt x="986" y="208"/>
                  </a:lnTo>
                  <a:lnTo>
                    <a:pt x="974" y="238"/>
                  </a:lnTo>
                  <a:lnTo>
                    <a:pt x="944" y="306"/>
                  </a:lnTo>
                  <a:lnTo>
                    <a:pt x="908" y="378"/>
                  </a:lnTo>
                  <a:lnTo>
                    <a:pt x="866" y="454"/>
                  </a:lnTo>
                  <a:lnTo>
                    <a:pt x="820" y="530"/>
                  </a:lnTo>
                  <a:lnTo>
                    <a:pt x="772" y="606"/>
                  </a:lnTo>
                  <a:lnTo>
                    <a:pt x="722" y="678"/>
                  </a:lnTo>
                  <a:lnTo>
                    <a:pt x="722" y="678"/>
                  </a:lnTo>
                  <a:lnTo>
                    <a:pt x="768" y="732"/>
                  </a:lnTo>
                  <a:lnTo>
                    <a:pt x="822" y="802"/>
                  </a:lnTo>
                  <a:lnTo>
                    <a:pt x="886" y="890"/>
                  </a:lnTo>
                  <a:lnTo>
                    <a:pt x="922" y="944"/>
                  </a:lnTo>
                  <a:lnTo>
                    <a:pt x="962" y="1006"/>
                  </a:lnTo>
                  <a:lnTo>
                    <a:pt x="962" y="1006"/>
                  </a:lnTo>
                  <a:lnTo>
                    <a:pt x="992" y="1056"/>
                  </a:lnTo>
                  <a:lnTo>
                    <a:pt x="1002" y="1076"/>
                  </a:lnTo>
                  <a:lnTo>
                    <a:pt x="1010" y="1094"/>
                  </a:lnTo>
                  <a:lnTo>
                    <a:pt x="1014" y="1110"/>
                  </a:lnTo>
                  <a:lnTo>
                    <a:pt x="1016" y="1124"/>
                  </a:lnTo>
                  <a:lnTo>
                    <a:pt x="1014" y="1138"/>
                  </a:lnTo>
                  <a:lnTo>
                    <a:pt x="1014" y="1152"/>
                  </a:lnTo>
                  <a:lnTo>
                    <a:pt x="1014" y="1152"/>
                  </a:lnTo>
                  <a:lnTo>
                    <a:pt x="1008" y="1176"/>
                  </a:lnTo>
                  <a:lnTo>
                    <a:pt x="998" y="1198"/>
                  </a:lnTo>
                  <a:lnTo>
                    <a:pt x="986" y="1218"/>
                  </a:lnTo>
                  <a:lnTo>
                    <a:pt x="970" y="1236"/>
                  </a:lnTo>
                  <a:lnTo>
                    <a:pt x="954" y="1250"/>
                  </a:lnTo>
                  <a:lnTo>
                    <a:pt x="938" y="1260"/>
                  </a:lnTo>
                  <a:lnTo>
                    <a:pt x="920" y="1266"/>
                  </a:lnTo>
                  <a:lnTo>
                    <a:pt x="902" y="1270"/>
                  </a:lnTo>
                  <a:lnTo>
                    <a:pt x="902" y="1270"/>
                  </a:lnTo>
                  <a:lnTo>
                    <a:pt x="890" y="1268"/>
                  </a:lnTo>
                  <a:lnTo>
                    <a:pt x="878" y="1264"/>
                  </a:lnTo>
                  <a:lnTo>
                    <a:pt x="868" y="1258"/>
                  </a:lnTo>
                  <a:lnTo>
                    <a:pt x="860" y="1250"/>
                  </a:lnTo>
                  <a:lnTo>
                    <a:pt x="852" y="1238"/>
                  </a:lnTo>
                  <a:lnTo>
                    <a:pt x="842" y="1224"/>
                  </a:lnTo>
                  <a:lnTo>
                    <a:pt x="822" y="1184"/>
                  </a:lnTo>
                  <a:lnTo>
                    <a:pt x="822" y="1184"/>
                  </a:lnTo>
                  <a:lnTo>
                    <a:pt x="794" y="1130"/>
                  </a:lnTo>
                  <a:lnTo>
                    <a:pt x="764" y="1076"/>
                  </a:lnTo>
                  <a:lnTo>
                    <a:pt x="734" y="1024"/>
                  </a:lnTo>
                  <a:lnTo>
                    <a:pt x="704" y="974"/>
                  </a:lnTo>
                  <a:lnTo>
                    <a:pt x="646" y="888"/>
                  </a:lnTo>
                  <a:lnTo>
                    <a:pt x="604" y="830"/>
                  </a:lnTo>
                  <a:lnTo>
                    <a:pt x="604" y="830"/>
                  </a:lnTo>
                  <a:lnTo>
                    <a:pt x="564" y="876"/>
                  </a:lnTo>
                  <a:lnTo>
                    <a:pt x="524" y="920"/>
                  </a:lnTo>
                  <a:lnTo>
                    <a:pt x="482" y="962"/>
                  </a:lnTo>
                  <a:lnTo>
                    <a:pt x="440" y="1004"/>
                  </a:lnTo>
                  <a:lnTo>
                    <a:pt x="400" y="1044"/>
                  </a:lnTo>
                  <a:lnTo>
                    <a:pt x="358" y="1080"/>
                  </a:lnTo>
                  <a:lnTo>
                    <a:pt x="318" y="1116"/>
                  </a:lnTo>
                  <a:lnTo>
                    <a:pt x="278" y="1148"/>
                  </a:lnTo>
                  <a:lnTo>
                    <a:pt x="242" y="1176"/>
                  </a:lnTo>
                  <a:lnTo>
                    <a:pt x="206" y="1202"/>
                  </a:lnTo>
                  <a:lnTo>
                    <a:pt x="174" y="1224"/>
                  </a:lnTo>
                  <a:lnTo>
                    <a:pt x="142" y="1244"/>
                  </a:lnTo>
                  <a:lnTo>
                    <a:pt x="116" y="1258"/>
                  </a:lnTo>
                  <a:lnTo>
                    <a:pt x="92" y="1270"/>
                  </a:lnTo>
                  <a:lnTo>
                    <a:pt x="72" y="1276"/>
                  </a:lnTo>
                  <a:lnTo>
                    <a:pt x="58" y="1278"/>
                  </a:lnTo>
                  <a:lnTo>
                    <a:pt x="58" y="1278"/>
                  </a:lnTo>
                  <a:lnTo>
                    <a:pt x="50" y="1278"/>
                  </a:lnTo>
                  <a:lnTo>
                    <a:pt x="44" y="1276"/>
                  </a:lnTo>
                  <a:lnTo>
                    <a:pt x="30" y="1270"/>
                  </a:lnTo>
                  <a:lnTo>
                    <a:pt x="20" y="1258"/>
                  </a:lnTo>
                  <a:lnTo>
                    <a:pt x="10" y="1244"/>
                  </a:lnTo>
                  <a:lnTo>
                    <a:pt x="4" y="1226"/>
                  </a:lnTo>
                  <a:lnTo>
                    <a:pt x="0" y="1206"/>
                  </a:lnTo>
                  <a:lnTo>
                    <a:pt x="0" y="1186"/>
                  </a:lnTo>
                  <a:lnTo>
                    <a:pt x="2" y="1164"/>
                  </a:lnTo>
                  <a:lnTo>
                    <a:pt x="2" y="1164"/>
                  </a:lnTo>
                  <a:lnTo>
                    <a:pt x="4" y="1146"/>
                  </a:lnTo>
                  <a:lnTo>
                    <a:pt x="10" y="1134"/>
                  </a:lnTo>
                  <a:lnTo>
                    <a:pt x="16" y="1122"/>
                  </a:lnTo>
                  <a:lnTo>
                    <a:pt x="26" y="1110"/>
                  </a:lnTo>
                  <a:lnTo>
                    <a:pt x="40" y="1098"/>
                  </a:lnTo>
                  <a:lnTo>
                    <a:pt x="60" y="1084"/>
                  </a:lnTo>
                  <a:lnTo>
                    <a:pt x="116" y="1050"/>
                  </a:lnTo>
                  <a:lnTo>
                    <a:pt x="116" y="1050"/>
                  </a:lnTo>
                  <a:lnTo>
                    <a:pt x="154" y="1024"/>
                  </a:lnTo>
                  <a:lnTo>
                    <a:pt x="192" y="1000"/>
                  </a:lnTo>
                  <a:lnTo>
                    <a:pt x="228" y="972"/>
                  </a:lnTo>
                  <a:lnTo>
                    <a:pt x="262" y="944"/>
                  </a:lnTo>
                  <a:lnTo>
                    <a:pt x="296" y="914"/>
                  </a:lnTo>
                  <a:lnTo>
                    <a:pt x="330" y="884"/>
                  </a:lnTo>
                  <a:lnTo>
                    <a:pt x="394" y="824"/>
                  </a:lnTo>
                  <a:lnTo>
                    <a:pt x="454" y="760"/>
                  </a:lnTo>
                  <a:lnTo>
                    <a:pt x="510" y="694"/>
                  </a:lnTo>
                  <a:lnTo>
                    <a:pt x="562" y="630"/>
                  </a:lnTo>
                  <a:lnTo>
                    <a:pt x="608" y="566"/>
                  </a:lnTo>
                  <a:lnTo>
                    <a:pt x="650" y="506"/>
                  </a:lnTo>
                  <a:lnTo>
                    <a:pt x="688" y="448"/>
                  </a:lnTo>
                  <a:lnTo>
                    <a:pt x="720" y="394"/>
                  </a:lnTo>
                  <a:lnTo>
                    <a:pt x="748" y="344"/>
                  </a:lnTo>
                  <a:lnTo>
                    <a:pt x="770" y="302"/>
                  </a:lnTo>
                  <a:lnTo>
                    <a:pt x="786" y="268"/>
                  </a:lnTo>
                  <a:lnTo>
                    <a:pt x="798" y="240"/>
                  </a:lnTo>
                  <a:lnTo>
                    <a:pt x="802" y="222"/>
                  </a:lnTo>
                  <a:lnTo>
                    <a:pt x="802" y="222"/>
                  </a:lnTo>
                  <a:lnTo>
                    <a:pt x="804" y="214"/>
                  </a:lnTo>
                  <a:lnTo>
                    <a:pt x="802" y="208"/>
                  </a:lnTo>
                  <a:lnTo>
                    <a:pt x="800" y="204"/>
                  </a:lnTo>
                  <a:lnTo>
                    <a:pt x="798" y="202"/>
                  </a:lnTo>
                  <a:lnTo>
                    <a:pt x="792" y="200"/>
                  </a:lnTo>
                  <a:lnTo>
                    <a:pt x="788" y="198"/>
                  </a:lnTo>
                  <a:lnTo>
                    <a:pt x="774" y="198"/>
                  </a:lnTo>
                  <a:lnTo>
                    <a:pt x="28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1454920" y="1377720"/>
              <a:ext cx="1717560" cy="208296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2082960"/>
                <a:gd name="textAreaBottom" fmla="*/ 2083320 h 2082960"/>
              </a:gdLst>
              <a:ahLst/>
              <a:rect l="textAreaLeft" t="textAreaTop" r="textAreaRight" b="textAreaBottom"/>
              <a:pathLst>
                <a:path w="1082" h="1312">
                  <a:moveTo>
                    <a:pt x="1080" y="360"/>
                  </a:moveTo>
                  <a:lnTo>
                    <a:pt x="1080" y="360"/>
                  </a:lnTo>
                  <a:lnTo>
                    <a:pt x="1076" y="372"/>
                  </a:lnTo>
                  <a:lnTo>
                    <a:pt x="1070" y="394"/>
                  </a:lnTo>
                  <a:lnTo>
                    <a:pt x="1046" y="452"/>
                  </a:lnTo>
                  <a:lnTo>
                    <a:pt x="1008" y="532"/>
                  </a:lnTo>
                  <a:lnTo>
                    <a:pt x="986" y="578"/>
                  </a:lnTo>
                  <a:lnTo>
                    <a:pt x="958" y="626"/>
                  </a:lnTo>
                  <a:lnTo>
                    <a:pt x="930" y="676"/>
                  </a:lnTo>
                  <a:lnTo>
                    <a:pt x="898" y="728"/>
                  </a:lnTo>
                  <a:lnTo>
                    <a:pt x="862" y="782"/>
                  </a:lnTo>
                  <a:lnTo>
                    <a:pt x="824" y="834"/>
                  </a:lnTo>
                  <a:lnTo>
                    <a:pt x="784" y="886"/>
                  </a:lnTo>
                  <a:lnTo>
                    <a:pt x="740" y="936"/>
                  </a:lnTo>
                  <a:lnTo>
                    <a:pt x="694" y="986"/>
                  </a:lnTo>
                  <a:lnTo>
                    <a:pt x="646" y="1032"/>
                  </a:lnTo>
                  <a:lnTo>
                    <a:pt x="646" y="1032"/>
                  </a:lnTo>
                  <a:lnTo>
                    <a:pt x="596" y="1074"/>
                  </a:lnTo>
                  <a:lnTo>
                    <a:pt x="548" y="1112"/>
                  </a:lnTo>
                  <a:lnTo>
                    <a:pt x="498" y="1146"/>
                  </a:lnTo>
                  <a:lnTo>
                    <a:pt x="450" y="1176"/>
                  </a:lnTo>
                  <a:lnTo>
                    <a:pt x="402" y="1202"/>
                  </a:lnTo>
                  <a:lnTo>
                    <a:pt x="356" y="1226"/>
                  </a:lnTo>
                  <a:lnTo>
                    <a:pt x="312" y="1244"/>
                  </a:lnTo>
                  <a:lnTo>
                    <a:pt x="270" y="1262"/>
                  </a:lnTo>
                  <a:lnTo>
                    <a:pt x="232" y="1276"/>
                  </a:lnTo>
                  <a:lnTo>
                    <a:pt x="196" y="1286"/>
                  </a:lnTo>
                  <a:lnTo>
                    <a:pt x="162" y="1296"/>
                  </a:lnTo>
                  <a:lnTo>
                    <a:pt x="134" y="1302"/>
                  </a:lnTo>
                  <a:lnTo>
                    <a:pt x="90" y="1310"/>
                  </a:lnTo>
                  <a:lnTo>
                    <a:pt x="64" y="1312"/>
                  </a:lnTo>
                  <a:lnTo>
                    <a:pt x="64" y="1312"/>
                  </a:lnTo>
                  <a:lnTo>
                    <a:pt x="50" y="1312"/>
                  </a:lnTo>
                  <a:lnTo>
                    <a:pt x="38" y="1308"/>
                  </a:lnTo>
                  <a:lnTo>
                    <a:pt x="28" y="1302"/>
                  </a:lnTo>
                  <a:lnTo>
                    <a:pt x="20" y="1296"/>
                  </a:lnTo>
                  <a:lnTo>
                    <a:pt x="14" y="1288"/>
                  </a:lnTo>
                  <a:lnTo>
                    <a:pt x="8" y="1278"/>
                  </a:lnTo>
                  <a:lnTo>
                    <a:pt x="4" y="1268"/>
                  </a:lnTo>
                  <a:lnTo>
                    <a:pt x="2" y="1258"/>
                  </a:lnTo>
                  <a:lnTo>
                    <a:pt x="0" y="1238"/>
                  </a:lnTo>
                  <a:lnTo>
                    <a:pt x="0" y="1220"/>
                  </a:lnTo>
                  <a:lnTo>
                    <a:pt x="2" y="1198"/>
                  </a:lnTo>
                  <a:lnTo>
                    <a:pt x="2" y="1198"/>
                  </a:lnTo>
                  <a:lnTo>
                    <a:pt x="4" y="1184"/>
                  </a:lnTo>
                  <a:lnTo>
                    <a:pt x="8" y="1170"/>
                  </a:lnTo>
                  <a:lnTo>
                    <a:pt x="14" y="1160"/>
                  </a:lnTo>
                  <a:lnTo>
                    <a:pt x="20" y="1148"/>
                  </a:lnTo>
                  <a:lnTo>
                    <a:pt x="32" y="1132"/>
                  </a:lnTo>
                  <a:lnTo>
                    <a:pt x="46" y="1120"/>
                  </a:lnTo>
                  <a:lnTo>
                    <a:pt x="62" y="1110"/>
                  </a:lnTo>
                  <a:lnTo>
                    <a:pt x="78" y="1104"/>
                  </a:lnTo>
                  <a:lnTo>
                    <a:pt x="92" y="1100"/>
                  </a:lnTo>
                  <a:lnTo>
                    <a:pt x="106" y="1098"/>
                  </a:lnTo>
                  <a:lnTo>
                    <a:pt x="106" y="1098"/>
                  </a:lnTo>
                  <a:lnTo>
                    <a:pt x="148" y="1088"/>
                  </a:lnTo>
                  <a:lnTo>
                    <a:pt x="196" y="1076"/>
                  </a:lnTo>
                  <a:lnTo>
                    <a:pt x="252" y="1060"/>
                  </a:lnTo>
                  <a:lnTo>
                    <a:pt x="282" y="1050"/>
                  </a:lnTo>
                  <a:lnTo>
                    <a:pt x="314" y="1036"/>
                  </a:lnTo>
                  <a:lnTo>
                    <a:pt x="348" y="1022"/>
                  </a:lnTo>
                  <a:lnTo>
                    <a:pt x="382" y="1006"/>
                  </a:lnTo>
                  <a:lnTo>
                    <a:pt x="416" y="988"/>
                  </a:lnTo>
                  <a:lnTo>
                    <a:pt x="452" y="966"/>
                  </a:lnTo>
                  <a:lnTo>
                    <a:pt x="488" y="942"/>
                  </a:lnTo>
                  <a:lnTo>
                    <a:pt x="524" y="916"/>
                  </a:lnTo>
                  <a:lnTo>
                    <a:pt x="560" y="886"/>
                  </a:lnTo>
                  <a:lnTo>
                    <a:pt x="598" y="852"/>
                  </a:lnTo>
                  <a:lnTo>
                    <a:pt x="598" y="852"/>
                  </a:lnTo>
                  <a:lnTo>
                    <a:pt x="626" y="824"/>
                  </a:lnTo>
                  <a:lnTo>
                    <a:pt x="652" y="796"/>
                  </a:lnTo>
                  <a:lnTo>
                    <a:pt x="678" y="766"/>
                  </a:lnTo>
                  <a:lnTo>
                    <a:pt x="702" y="736"/>
                  </a:lnTo>
                  <a:lnTo>
                    <a:pt x="746" y="674"/>
                  </a:lnTo>
                  <a:lnTo>
                    <a:pt x="784" y="614"/>
                  </a:lnTo>
                  <a:lnTo>
                    <a:pt x="818" y="560"/>
                  </a:lnTo>
                  <a:lnTo>
                    <a:pt x="844" y="512"/>
                  </a:lnTo>
                  <a:lnTo>
                    <a:pt x="872" y="454"/>
                  </a:lnTo>
                  <a:lnTo>
                    <a:pt x="872" y="454"/>
                  </a:lnTo>
                  <a:lnTo>
                    <a:pt x="914" y="366"/>
                  </a:lnTo>
                  <a:lnTo>
                    <a:pt x="938" y="318"/>
                  </a:lnTo>
                  <a:lnTo>
                    <a:pt x="952" y="296"/>
                  </a:lnTo>
                  <a:lnTo>
                    <a:pt x="964" y="284"/>
                  </a:lnTo>
                  <a:lnTo>
                    <a:pt x="964" y="284"/>
                  </a:lnTo>
                  <a:lnTo>
                    <a:pt x="972" y="276"/>
                  </a:lnTo>
                  <a:lnTo>
                    <a:pt x="982" y="270"/>
                  </a:lnTo>
                  <a:lnTo>
                    <a:pt x="994" y="266"/>
                  </a:lnTo>
                  <a:lnTo>
                    <a:pt x="1008" y="264"/>
                  </a:lnTo>
                  <a:lnTo>
                    <a:pt x="1008" y="264"/>
                  </a:lnTo>
                  <a:lnTo>
                    <a:pt x="1016" y="266"/>
                  </a:lnTo>
                  <a:lnTo>
                    <a:pt x="1028" y="268"/>
                  </a:lnTo>
                  <a:lnTo>
                    <a:pt x="1042" y="274"/>
                  </a:lnTo>
                  <a:lnTo>
                    <a:pt x="1056" y="282"/>
                  </a:lnTo>
                  <a:lnTo>
                    <a:pt x="1068" y="294"/>
                  </a:lnTo>
                  <a:lnTo>
                    <a:pt x="1072" y="302"/>
                  </a:lnTo>
                  <a:lnTo>
                    <a:pt x="1076" y="310"/>
                  </a:lnTo>
                  <a:lnTo>
                    <a:pt x="1080" y="320"/>
                  </a:lnTo>
                  <a:lnTo>
                    <a:pt x="1082" y="332"/>
                  </a:lnTo>
                  <a:lnTo>
                    <a:pt x="1082" y="346"/>
                  </a:lnTo>
                  <a:lnTo>
                    <a:pt x="1080" y="360"/>
                  </a:lnTo>
                  <a:lnTo>
                    <a:pt x="1080" y="360"/>
                  </a:lnTo>
                  <a:close/>
                  <a:moveTo>
                    <a:pt x="318" y="730"/>
                  </a:moveTo>
                  <a:lnTo>
                    <a:pt x="318" y="730"/>
                  </a:lnTo>
                  <a:lnTo>
                    <a:pt x="286" y="704"/>
                  </a:lnTo>
                  <a:lnTo>
                    <a:pt x="250" y="682"/>
                  </a:lnTo>
                  <a:lnTo>
                    <a:pt x="110" y="602"/>
                  </a:lnTo>
                  <a:lnTo>
                    <a:pt x="110" y="602"/>
                  </a:lnTo>
                  <a:lnTo>
                    <a:pt x="88" y="588"/>
                  </a:lnTo>
                  <a:lnTo>
                    <a:pt x="78" y="580"/>
                  </a:lnTo>
                  <a:lnTo>
                    <a:pt x="70" y="570"/>
                  </a:lnTo>
                  <a:lnTo>
                    <a:pt x="62" y="558"/>
                  </a:lnTo>
                  <a:lnTo>
                    <a:pt x="58" y="544"/>
                  </a:lnTo>
                  <a:lnTo>
                    <a:pt x="58" y="528"/>
                  </a:lnTo>
                  <a:lnTo>
                    <a:pt x="60" y="508"/>
                  </a:lnTo>
                  <a:lnTo>
                    <a:pt x="60" y="508"/>
                  </a:lnTo>
                  <a:lnTo>
                    <a:pt x="62" y="494"/>
                  </a:lnTo>
                  <a:lnTo>
                    <a:pt x="68" y="478"/>
                  </a:lnTo>
                  <a:lnTo>
                    <a:pt x="74" y="462"/>
                  </a:lnTo>
                  <a:lnTo>
                    <a:pt x="84" y="444"/>
                  </a:lnTo>
                  <a:lnTo>
                    <a:pt x="94" y="430"/>
                  </a:lnTo>
                  <a:lnTo>
                    <a:pt x="110" y="416"/>
                  </a:lnTo>
                  <a:lnTo>
                    <a:pt x="118" y="412"/>
                  </a:lnTo>
                  <a:lnTo>
                    <a:pt x="126" y="408"/>
                  </a:lnTo>
                  <a:lnTo>
                    <a:pt x="136" y="406"/>
                  </a:lnTo>
                  <a:lnTo>
                    <a:pt x="146" y="404"/>
                  </a:lnTo>
                  <a:lnTo>
                    <a:pt x="146" y="404"/>
                  </a:lnTo>
                  <a:lnTo>
                    <a:pt x="164" y="408"/>
                  </a:lnTo>
                  <a:lnTo>
                    <a:pt x="188" y="416"/>
                  </a:lnTo>
                  <a:lnTo>
                    <a:pt x="218" y="426"/>
                  </a:lnTo>
                  <a:lnTo>
                    <a:pt x="248" y="440"/>
                  </a:lnTo>
                  <a:lnTo>
                    <a:pt x="310" y="474"/>
                  </a:lnTo>
                  <a:lnTo>
                    <a:pt x="364" y="504"/>
                  </a:lnTo>
                  <a:lnTo>
                    <a:pt x="364" y="504"/>
                  </a:lnTo>
                  <a:lnTo>
                    <a:pt x="392" y="522"/>
                  </a:lnTo>
                  <a:lnTo>
                    <a:pt x="416" y="538"/>
                  </a:lnTo>
                  <a:lnTo>
                    <a:pt x="436" y="554"/>
                  </a:lnTo>
                  <a:lnTo>
                    <a:pt x="450" y="570"/>
                  </a:lnTo>
                  <a:lnTo>
                    <a:pt x="462" y="584"/>
                  </a:lnTo>
                  <a:lnTo>
                    <a:pt x="464" y="594"/>
                  </a:lnTo>
                  <a:lnTo>
                    <a:pt x="468" y="602"/>
                  </a:lnTo>
                  <a:lnTo>
                    <a:pt x="470" y="622"/>
                  </a:lnTo>
                  <a:lnTo>
                    <a:pt x="468" y="646"/>
                  </a:lnTo>
                  <a:lnTo>
                    <a:pt x="468" y="646"/>
                  </a:lnTo>
                  <a:lnTo>
                    <a:pt x="462" y="664"/>
                  </a:lnTo>
                  <a:lnTo>
                    <a:pt x="456" y="684"/>
                  </a:lnTo>
                  <a:lnTo>
                    <a:pt x="448" y="702"/>
                  </a:lnTo>
                  <a:lnTo>
                    <a:pt x="436" y="720"/>
                  </a:lnTo>
                  <a:lnTo>
                    <a:pt x="424" y="734"/>
                  </a:lnTo>
                  <a:lnTo>
                    <a:pt x="410" y="746"/>
                  </a:lnTo>
                  <a:lnTo>
                    <a:pt x="402" y="750"/>
                  </a:lnTo>
                  <a:lnTo>
                    <a:pt x="394" y="754"/>
                  </a:lnTo>
                  <a:lnTo>
                    <a:pt x="386" y="756"/>
                  </a:lnTo>
                  <a:lnTo>
                    <a:pt x="378" y="758"/>
                  </a:lnTo>
                  <a:lnTo>
                    <a:pt x="378" y="758"/>
                  </a:lnTo>
                  <a:lnTo>
                    <a:pt x="366" y="756"/>
                  </a:lnTo>
                  <a:lnTo>
                    <a:pt x="352" y="750"/>
                  </a:lnTo>
                  <a:lnTo>
                    <a:pt x="336" y="742"/>
                  </a:lnTo>
                  <a:lnTo>
                    <a:pt x="318" y="730"/>
                  </a:lnTo>
                  <a:lnTo>
                    <a:pt x="318" y="730"/>
                  </a:lnTo>
                  <a:close/>
                  <a:moveTo>
                    <a:pt x="484" y="324"/>
                  </a:moveTo>
                  <a:lnTo>
                    <a:pt x="484" y="324"/>
                  </a:lnTo>
                  <a:lnTo>
                    <a:pt x="452" y="298"/>
                  </a:lnTo>
                  <a:lnTo>
                    <a:pt x="416" y="276"/>
                  </a:lnTo>
                  <a:lnTo>
                    <a:pt x="362" y="246"/>
                  </a:lnTo>
                  <a:lnTo>
                    <a:pt x="278" y="198"/>
                  </a:lnTo>
                  <a:lnTo>
                    <a:pt x="278" y="198"/>
                  </a:lnTo>
                  <a:lnTo>
                    <a:pt x="256" y="186"/>
                  </a:lnTo>
                  <a:lnTo>
                    <a:pt x="246" y="178"/>
                  </a:lnTo>
                  <a:lnTo>
                    <a:pt x="238" y="168"/>
                  </a:lnTo>
                  <a:lnTo>
                    <a:pt x="230" y="156"/>
                  </a:lnTo>
                  <a:lnTo>
                    <a:pt x="226" y="140"/>
                  </a:lnTo>
                  <a:lnTo>
                    <a:pt x="224" y="124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230" y="90"/>
                  </a:lnTo>
                  <a:lnTo>
                    <a:pt x="234" y="74"/>
                  </a:lnTo>
                  <a:lnTo>
                    <a:pt x="242" y="58"/>
                  </a:lnTo>
                  <a:lnTo>
                    <a:pt x="250" y="40"/>
                  </a:lnTo>
                  <a:lnTo>
                    <a:pt x="262" y="24"/>
                  </a:lnTo>
                  <a:lnTo>
                    <a:pt x="276" y="12"/>
                  </a:lnTo>
                  <a:lnTo>
                    <a:pt x="284" y="6"/>
                  </a:lnTo>
                  <a:lnTo>
                    <a:pt x="294" y="2"/>
                  </a:lnTo>
                  <a:lnTo>
                    <a:pt x="30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32" y="2"/>
                  </a:lnTo>
                  <a:lnTo>
                    <a:pt x="358" y="10"/>
                  </a:lnTo>
                  <a:lnTo>
                    <a:pt x="386" y="22"/>
                  </a:lnTo>
                  <a:lnTo>
                    <a:pt x="418" y="36"/>
                  </a:lnTo>
                  <a:lnTo>
                    <a:pt x="480" y="68"/>
                  </a:lnTo>
                  <a:lnTo>
                    <a:pt x="532" y="100"/>
                  </a:lnTo>
                  <a:lnTo>
                    <a:pt x="532" y="100"/>
                  </a:lnTo>
                  <a:lnTo>
                    <a:pt x="560" y="118"/>
                  </a:lnTo>
                  <a:lnTo>
                    <a:pt x="584" y="134"/>
                  </a:lnTo>
                  <a:lnTo>
                    <a:pt x="604" y="150"/>
                  </a:lnTo>
                  <a:lnTo>
                    <a:pt x="620" y="164"/>
                  </a:lnTo>
                  <a:lnTo>
                    <a:pt x="630" y="180"/>
                  </a:lnTo>
                  <a:lnTo>
                    <a:pt x="636" y="198"/>
                  </a:lnTo>
                  <a:lnTo>
                    <a:pt x="636" y="218"/>
                  </a:lnTo>
                  <a:lnTo>
                    <a:pt x="634" y="242"/>
                  </a:lnTo>
                  <a:lnTo>
                    <a:pt x="634" y="242"/>
                  </a:lnTo>
                  <a:lnTo>
                    <a:pt x="630" y="262"/>
                  </a:lnTo>
                  <a:lnTo>
                    <a:pt x="624" y="280"/>
                  </a:lnTo>
                  <a:lnTo>
                    <a:pt x="614" y="298"/>
                  </a:lnTo>
                  <a:lnTo>
                    <a:pt x="604" y="316"/>
                  </a:lnTo>
                  <a:lnTo>
                    <a:pt x="592" y="330"/>
                  </a:lnTo>
                  <a:lnTo>
                    <a:pt x="578" y="342"/>
                  </a:lnTo>
                  <a:lnTo>
                    <a:pt x="562" y="350"/>
                  </a:lnTo>
                  <a:lnTo>
                    <a:pt x="554" y="352"/>
                  </a:lnTo>
                  <a:lnTo>
                    <a:pt x="544" y="354"/>
                  </a:lnTo>
                  <a:lnTo>
                    <a:pt x="544" y="354"/>
                  </a:lnTo>
                  <a:lnTo>
                    <a:pt x="532" y="352"/>
                  </a:lnTo>
                  <a:lnTo>
                    <a:pt x="520" y="346"/>
                  </a:lnTo>
                  <a:lnTo>
                    <a:pt x="504" y="336"/>
                  </a:lnTo>
                  <a:lnTo>
                    <a:pt x="484" y="324"/>
                  </a:lnTo>
                  <a:lnTo>
                    <a:pt x="484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3325120" y="1892160"/>
              <a:ext cx="1384200" cy="1495440"/>
            </a:xfrm>
            <a:custGeom>
              <a:avLst/>
              <a:gdLst>
                <a:gd name="textAreaLeft" fmla="*/ 0 w 1384200"/>
                <a:gd name="textAreaRight" fmla="*/ 1384200 w 13842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872" h="942">
                  <a:moveTo>
                    <a:pt x="812" y="754"/>
                  </a:moveTo>
                  <a:lnTo>
                    <a:pt x="812" y="754"/>
                  </a:lnTo>
                  <a:lnTo>
                    <a:pt x="820" y="754"/>
                  </a:lnTo>
                  <a:lnTo>
                    <a:pt x="830" y="756"/>
                  </a:lnTo>
                  <a:lnTo>
                    <a:pt x="840" y="760"/>
                  </a:lnTo>
                  <a:lnTo>
                    <a:pt x="852" y="766"/>
                  </a:lnTo>
                  <a:lnTo>
                    <a:pt x="856" y="772"/>
                  </a:lnTo>
                  <a:lnTo>
                    <a:pt x="862" y="778"/>
                  </a:lnTo>
                  <a:lnTo>
                    <a:pt x="866" y="784"/>
                  </a:lnTo>
                  <a:lnTo>
                    <a:pt x="868" y="794"/>
                  </a:lnTo>
                  <a:lnTo>
                    <a:pt x="870" y="804"/>
                  </a:lnTo>
                  <a:lnTo>
                    <a:pt x="872" y="818"/>
                  </a:lnTo>
                  <a:lnTo>
                    <a:pt x="870" y="832"/>
                  </a:lnTo>
                  <a:lnTo>
                    <a:pt x="868" y="848"/>
                  </a:lnTo>
                  <a:lnTo>
                    <a:pt x="868" y="848"/>
                  </a:lnTo>
                  <a:lnTo>
                    <a:pt x="862" y="878"/>
                  </a:lnTo>
                  <a:lnTo>
                    <a:pt x="856" y="890"/>
                  </a:lnTo>
                  <a:lnTo>
                    <a:pt x="852" y="900"/>
                  </a:lnTo>
                  <a:lnTo>
                    <a:pt x="840" y="918"/>
                  </a:lnTo>
                  <a:lnTo>
                    <a:pt x="828" y="928"/>
                  </a:lnTo>
                  <a:lnTo>
                    <a:pt x="814" y="936"/>
                  </a:lnTo>
                  <a:lnTo>
                    <a:pt x="802" y="940"/>
                  </a:lnTo>
                  <a:lnTo>
                    <a:pt x="790" y="942"/>
                  </a:lnTo>
                  <a:lnTo>
                    <a:pt x="780" y="942"/>
                  </a:lnTo>
                  <a:lnTo>
                    <a:pt x="60" y="942"/>
                  </a:lnTo>
                  <a:lnTo>
                    <a:pt x="60" y="942"/>
                  </a:lnTo>
                  <a:lnTo>
                    <a:pt x="52" y="942"/>
                  </a:lnTo>
                  <a:lnTo>
                    <a:pt x="42" y="940"/>
                  </a:lnTo>
                  <a:lnTo>
                    <a:pt x="30" y="936"/>
                  </a:lnTo>
                  <a:lnTo>
                    <a:pt x="20" y="930"/>
                  </a:lnTo>
                  <a:lnTo>
                    <a:pt x="14" y="924"/>
                  </a:lnTo>
                  <a:lnTo>
                    <a:pt x="10" y="918"/>
                  </a:lnTo>
                  <a:lnTo>
                    <a:pt x="6" y="912"/>
                  </a:lnTo>
                  <a:lnTo>
                    <a:pt x="4" y="902"/>
                  </a:lnTo>
                  <a:lnTo>
                    <a:pt x="2" y="892"/>
                  </a:lnTo>
                  <a:lnTo>
                    <a:pt x="0" y="878"/>
                  </a:lnTo>
                  <a:lnTo>
                    <a:pt x="2" y="864"/>
                  </a:lnTo>
                  <a:lnTo>
                    <a:pt x="4" y="848"/>
                  </a:lnTo>
                  <a:lnTo>
                    <a:pt x="4" y="848"/>
                  </a:lnTo>
                  <a:lnTo>
                    <a:pt x="10" y="820"/>
                  </a:lnTo>
                  <a:lnTo>
                    <a:pt x="20" y="798"/>
                  </a:lnTo>
                  <a:lnTo>
                    <a:pt x="30" y="780"/>
                  </a:lnTo>
                  <a:lnTo>
                    <a:pt x="42" y="770"/>
                  </a:lnTo>
                  <a:lnTo>
                    <a:pt x="56" y="762"/>
                  </a:lnTo>
                  <a:lnTo>
                    <a:pt x="68" y="756"/>
                  </a:lnTo>
                  <a:lnTo>
                    <a:pt x="80" y="754"/>
                  </a:lnTo>
                  <a:lnTo>
                    <a:pt x="92" y="754"/>
                  </a:lnTo>
                  <a:lnTo>
                    <a:pt x="516" y="754"/>
                  </a:lnTo>
                  <a:lnTo>
                    <a:pt x="516" y="754"/>
                  </a:lnTo>
                  <a:lnTo>
                    <a:pt x="554" y="614"/>
                  </a:lnTo>
                  <a:lnTo>
                    <a:pt x="594" y="452"/>
                  </a:lnTo>
                  <a:lnTo>
                    <a:pt x="628" y="312"/>
                  </a:lnTo>
                  <a:lnTo>
                    <a:pt x="646" y="232"/>
                  </a:lnTo>
                  <a:lnTo>
                    <a:pt x="646" y="232"/>
                  </a:lnTo>
                  <a:lnTo>
                    <a:pt x="646" y="220"/>
                  </a:lnTo>
                  <a:lnTo>
                    <a:pt x="646" y="210"/>
                  </a:lnTo>
                  <a:lnTo>
                    <a:pt x="646" y="202"/>
                  </a:lnTo>
                  <a:lnTo>
                    <a:pt x="642" y="196"/>
                  </a:lnTo>
                  <a:lnTo>
                    <a:pt x="638" y="192"/>
                  </a:lnTo>
                  <a:lnTo>
                    <a:pt x="632" y="190"/>
                  </a:lnTo>
                  <a:lnTo>
                    <a:pt x="624" y="188"/>
                  </a:lnTo>
                  <a:lnTo>
                    <a:pt x="616" y="188"/>
                  </a:lnTo>
                  <a:lnTo>
                    <a:pt x="278" y="188"/>
                  </a:lnTo>
                  <a:lnTo>
                    <a:pt x="278" y="188"/>
                  </a:lnTo>
                  <a:lnTo>
                    <a:pt x="270" y="188"/>
                  </a:lnTo>
                  <a:lnTo>
                    <a:pt x="260" y="186"/>
                  </a:lnTo>
                  <a:lnTo>
                    <a:pt x="248" y="182"/>
                  </a:lnTo>
                  <a:lnTo>
                    <a:pt x="238" y="176"/>
                  </a:lnTo>
                  <a:lnTo>
                    <a:pt x="232" y="170"/>
                  </a:lnTo>
                  <a:lnTo>
                    <a:pt x="228" y="164"/>
                  </a:lnTo>
                  <a:lnTo>
                    <a:pt x="224" y="156"/>
                  </a:lnTo>
                  <a:lnTo>
                    <a:pt x="222" y="148"/>
                  </a:lnTo>
                  <a:lnTo>
                    <a:pt x="220" y="136"/>
                  </a:lnTo>
                  <a:lnTo>
                    <a:pt x="220" y="124"/>
                  </a:lnTo>
                  <a:lnTo>
                    <a:pt x="220" y="110"/>
                  </a:lnTo>
                  <a:lnTo>
                    <a:pt x="222" y="94"/>
                  </a:lnTo>
                  <a:lnTo>
                    <a:pt x="222" y="94"/>
                  </a:lnTo>
                  <a:lnTo>
                    <a:pt x="228" y="70"/>
                  </a:lnTo>
                  <a:lnTo>
                    <a:pt x="236" y="48"/>
                  </a:lnTo>
                  <a:lnTo>
                    <a:pt x="246" y="32"/>
                  </a:lnTo>
                  <a:lnTo>
                    <a:pt x="256" y="20"/>
                  </a:lnTo>
                  <a:lnTo>
                    <a:pt x="270" y="10"/>
                  </a:lnTo>
                  <a:lnTo>
                    <a:pt x="282" y="4"/>
                  </a:lnTo>
                  <a:lnTo>
                    <a:pt x="296" y="0"/>
                  </a:lnTo>
                  <a:lnTo>
                    <a:pt x="310" y="0"/>
                  </a:lnTo>
                  <a:lnTo>
                    <a:pt x="728" y="0"/>
                  </a:lnTo>
                  <a:lnTo>
                    <a:pt x="728" y="0"/>
                  </a:lnTo>
                  <a:lnTo>
                    <a:pt x="742" y="0"/>
                  </a:lnTo>
                  <a:lnTo>
                    <a:pt x="758" y="2"/>
                  </a:lnTo>
                  <a:lnTo>
                    <a:pt x="776" y="10"/>
                  </a:lnTo>
                  <a:lnTo>
                    <a:pt x="784" y="14"/>
                  </a:lnTo>
                  <a:lnTo>
                    <a:pt x="794" y="22"/>
                  </a:lnTo>
                  <a:lnTo>
                    <a:pt x="800" y="30"/>
                  </a:lnTo>
                  <a:lnTo>
                    <a:pt x="808" y="40"/>
                  </a:lnTo>
                  <a:lnTo>
                    <a:pt x="812" y="52"/>
                  </a:lnTo>
                  <a:lnTo>
                    <a:pt x="816" y="66"/>
                  </a:lnTo>
                  <a:lnTo>
                    <a:pt x="820" y="84"/>
                  </a:lnTo>
                  <a:lnTo>
                    <a:pt x="820" y="104"/>
                  </a:lnTo>
                  <a:lnTo>
                    <a:pt x="820" y="126"/>
                  </a:lnTo>
                  <a:lnTo>
                    <a:pt x="816" y="152"/>
                  </a:lnTo>
                  <a:lnTo>
                    <a:pt x="816" y="152"/>
                  </a:lnTo>
                  <a:lnTo>
                    <a:pt x="804" y="208"/>
                  </a:lnTo>
                  <a:lnTo>
                    <a:pt x="776" y="328"/>
                  </a:lnTo>
                  <a:lnTo>
                    <a:pt x="732" y="510"/>
                  </a:lnTo>
                  <a:lnTo>
                    <a:pt x="666" y="754"/>
                  </a:lnTo>
                  <a:lnTo>
                    <a:pt x="812" y="7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25188840" y="2260800"/>
              <a:ext cx="1682640" cy="33948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060" h="214">
                  <a:moveTo>
                    <a:pt x="72" y="214"/>
                  </a:moveTo>
                  <a:lnTo>
                    <a:pt x="72" y="214"/>
                  </a:lnTo>
                  <a:lnTo>
                    <a:pt x="60" y="214"/>
                  </a:lnTo>
                  <a:lnTo>
                    <a:pt x="48" y="212"/>
                  </a:lnTo>
                  <a:lnTo>
                    <a:pt x="34" y="208"/>
                  </a:lnTo>
                  <a:lnTo>
                    <a:pt x="20" y="200"/>
                  </a:lnTo>
                  <a:lnTo>
                    <a:pt x="14" y="194"/>
                  </a:lnTo>
                  <a:lnTo>
                    <a:pt x="10" y="188"/>
                  </a:lnTo>
                  <a:lnTo>
                    <a:pt x="6" y="180"/>
                  </a:lnTo>
                  <a:lnTo>
                    <a:pt x="2" y="168"/>
                  </a:lnTo>
                  <a:lnTo>
                    <a:pt x="0" y="156"/>
                  </a:lnTo>
                  <a:lnTo>
                    <a:pt x="0" y="142"/>
                  </a:lnTo>
                  <a:lnTo>
                    <a:pt x="0" y="12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6" y="90"/>
                  </a:lnTo>
                  <a:lnTo>
                    <a:pt x="10" y="74"/>
                  </a:lnTo>
                  <a:lnTo>
                    <a:pt x="16" y="60"/>
                  </a:lnTo>
                  <a:lnTo>
                    <a:pt x="22" y="48"/>
                  </a:lnTo>
                  <a:lnTo>
                    <a:pt x="28" y="38"/>
                  </a:lnTo>
                  <a:lnTo>
                    <a:pt x="34" y="28"/>
                  </a:lnTo>
                  <a:lnTo>
                    <a:pt x="42" y="22"/>
                  </a:lnTo>
                  <a:lnTo>
                    <a:pt x="48" y="16"/>
                  </a:lnTo>
                  <a:lnTo>
                    <a:pt x="64" y="8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986" y="0"/>
                  </a:lnTo>
                  <a:lnTo>
                    <a:pt x="986" y="0"/>
                  </a:lnTo>
                  <a:lnTo>
                    <a:pt x="998" y="0"/>
                  </a:lnTo>
                  <a:lnTo>
                    <a:pt x="1010" y="2"/>
                  </a:lnTo>
                  <a:lnTo>
                    <a:pt x="1024" y="6"/>
                  </a:lnTo>
                  <a:lnTo>
                    <a:pt x="1038" y="14"/>
                  </a:lnTo>
                  <a:lnTo>
                    <a:pt x="1044" y="18"/>
                  </a:lnTo>
                  <a:lnTo>
                    <a:pt x="1048" y="26"/>
                  </a:lnTo>
                  <a:lnTo>
                    <a:pt x="1054" y="34"/>
                  </a:lnTo>
                  <a:lnTo>
                    <a:pt x="1056" y="44"/>
                  </a:lnTo>
                  <a:lnTo>
                    <a:pt x="1058" y="56"/>
                  </a:lnTo>
                  <a:lnTo>
                    <a:pt x="1060" y="72"/>
                  </a:lnTo>
                  <a:lnTo>
                    <a:pt x="1058" y="88"/>
                  </a:lnTo>
                  <a:lnTo>
                    <a:pt x="1056" y="106"/>
                  </a:lnTo>
                  <a:lnTo>
                    <a:pt x="1056" y="106"/>
                  </a:lnTo>
                  <a:lnTo>
                    <a:pt x="1052" y="124"/>
                  </a:lnTo>
                  <a:lnTo>
                    <a:pt x="1048" y="140"/>
                  </a:lnTo>
                  <a:lnTo>
                    <a:pt x="1042" y="154"/>
                  </a:lnTo>
                  <a:lnTo>
                    <a:pt x="1036" y="166"/>
                  </a:lnTo>
                  <a:lnTo>
                    <a:pt x="1030" y="178"/>
                  </a:lnTo>
                  <a:lnTo>
                    <a:pt x="1024" y="186"/>
                  </a:lnTo>
                  <a:lnTo>
                    <a:pt x="1016" y="194"/>
                  </a:lnTo>
                  <a:lnTo>
                    <a:pt x="1008" y="200"/>
                  </a:lnTo>
                  <a:lnTo>
                    <a:pt x="994" y="208"/>
                  </a:lnTo>
                  <a:lnTo>
                    <a:pt x="978" y="212"/>
                  </a:lnTo>
                  <a:lnTo>
                    <a:pt x="964" y="214"/>
                  </a:lnTo>
                  <a:lnTo>
                    <a:pt x="950" y="214"/>
                  </a:lnTo>
                  <a:lnTo>
                    <a:pt x="72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26951040" y="1216080"/>
              <a:ext cx="2022480" cy="22543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274" h="1420">
                  <a:moveTo>
                    <a:pt x="282" y="340"/>
                  </a:moveTo>
                  <a:lnTo>
                    <a:pt x="282" y="340"/>
                  </a:lnTo>
                  <a:lnTo>
                    <a:pt x="270" y="340"/>
                  </a:lnTo>
                  <a:lnTo>
                    <a:pt x="260" y="338"/>
                  </a:lnTo>
                  <a:lnTo>
                    <a:pt x="246" y="332"/>
                  </a:lnTo>
                  <a:lnTo>
                    <a:pt x="236" y="324"/>
                  </a:lnTo>
                  <a:lnTo>
                    <a:pt x="230" y="320"/>
                  </a:lnTo>
                  <a:lnTo>
                    <a:pt x="226" y="312"/>
                  </a:lnTo>
                  <a:lnTo>
                    <a:pt x="222" y="304"/>
                  </a:lnTo>
                  <a:lnTo>
                    <a:pt x="220" y="296"/>
                  </a:lnTo>
                  <a:lnTo>
                    <a:pt x="218" y="284"/>
                  </a:lnTo>
                  <a:lnTo>
                    <a:pt x="218" y="272"/>
                  </a:lnTo>
                  <a:lnTo>
                    <a:pt x="218" y="258"/>
                  </a:lnTo>
                  <a:lnTo>
                    <a:pt x="220" y="242"/>
                  </a:lnTo>
                  <a:lnTo>
                    <a:pt x="220" y="242"/>
                  </a:lnTo>
                  <a:lnTo>
                    <a:pt x="226" y="216"/>
                  </a:lnTo>
                  <a:lnTo>
                    <a:pt x="234" y="196"/>
                  </a:lnTo>
                  <a:lnTo>
                    <a:pt x="244" y="178"/>
                  </a:lnTo>
                  <a:lnTo>
                    <a:pt x="256" y="164"/>
                  </a:lnTo>
                  <a:lnTo>
                    <a:pt x="268" y="154"/>
                  </a:lnTo>
                  <a:lnTo>
                    <a:pt x="282" y="148"/>
                  </a:lnTo>
                  <a:lnTo>
                    <a:pt x="298" y="144"/>
                  </a:lnTo>
                  <a:lnTo>
                    <a:pt x="314" y="142"/>
                  </a:lnTo>
                  <a:lnTo>
                    <a:pt x="902" y="142"/>
                  </a:lnTo>
                  <a:lnTo>
                    <a:pt x="902" y="142"/>
                  </a:lnTo>
                  <a:lnTo>
                    <a:pt x="922" y="142"/>
                  </a:lnTo>
                  <a:lnTo>
                    <a:pt x="944" y="146"/>
                  </a:lnTo>
                  <a:lnTo>
                    <a:pt x="964" y="152"/>
                  </a:lnTo>
                  <a:lnTo>
                    <a:pt x="974" y="156"/>
                  </a:lnTo>
                  <a:lnTo>
                    <a:pt x="982" y="164"/>
                  </a:lnTo>
                  <a:lnTo>
                    <a:pt x="990" y="170"/>
                  </a:lnTo>
                  <a:lnTo>
                    <a:pt x="998" y="180"/>
                  </a:lnTo>
                  <a:lnTo>
                    <a:pt x="1004" y="190"/>
                  </a:lnTo>
                  <a:lnTo>
                    <a:pt x="1008" y="204"/>
                  </a:lnTo>
                  <a:lnTo>
                    <a:pt x="1010" y="218"/>
                  </a:lnTo>
                  <a:lnTo>
                    <a:pt x="1012" y="236"/>
                  </a:lnTo>
                  <a:lnTo>
                    <a:pt x="1010" y="254"/>
                  </a:lnTo>
                  <a:lnTo>
                    <a:pt x="1008" y="276"/>
                  </a:lnTo>
                  <a:lnTo>
                    <a:pt x="1008" y="276"/>
                  </a:lnTo>
                  <a:lnTo>
                    <a:pt x="1004" y="298"/>
                  </a:lnTo>
                  <a:lnTo>
                    <a:pt x="996" y="322"/>
                  </a:lnTo>
                  <a:lnTo>
                    <a:pt x="986" y="350"/>
                  </a:lnTo>
                  <a:lnTo>
                    <a:pt x="974" y="380"/>
                  </a:lnTo>
                  <a:lnTo>
                    <a:pt x="946" y="448"/>
                  </a:lnTo>
                  <a:lnTo>
                    <a:pt x="910" y="520"/>
                  </a:lnTo>
                  <a:lnTo>
                    <a:pt x="868" y="596"/>
                  </a:lnTo>
                  <a:lnTo>
                    <a:pt x="822" y="672"/>
                  </a:lnTo>
                  <a:lnTo>
                    <a:pt x="774" y="748"/>
                  </a:lnTo>
                  <a:lnTo>
                    <a:pt x="724" y="820"/>
                  </a:lnTo>
                  <a:lnTo>
                    <a:pt x="724" y="820"/>
                  </a:lnTo>
                  <a:lnTo>
                    <a:pt x="768" y="874"/>
                  </a:lnTo>
                  <a:lnTo>
                    <a:pt x="822" y="944"/>
                  </a:lnTo>
                  <a:lnTo>
                    <a:pt x="886" y="1032"/>
                  </a:lnTo>
                  <a:lnTo>
                    <a:pt x="924" y="1086"/>
                  </a:lnTo>
                  <a:lnTo>
                    <a:pt x="964" y="1148"/>
                  </a:lnTo>
                  <a:lnTo>
                    <a:pt x="964" y="1148"/>
                  </a:lnTo>
                  <a:lnTo>
                    <a:pt x="994" y="1198"/>
                  </a:lnTo>
                  <a:lnTo>
                    <a:pt x="1004" y="1218"/>
                  </a:lnTo>
                  <a:lnTo>
                    <a:pt x="1010" y="1236"/>
                  </a:lnTo>
                  <a:lnTo>
                    <a:pt x="1014" y="1252"/>
                  </a:lnTo>
                  <a:lnTo>
                    <a:pt x="1016" y="1266"/>
                  </a:lnTo>
                  <a:lnTo>
                    <a:pt x="1016" y="1280"/>
                  </a:lnTo>
                  <a:lnTo>
                    <a:pt x="1014" y="1294"/>
                  </a:lnTo>
                  <a:lnTo>
                    <a:pt x="1014" y="1294"/>
                  </a:lnTo>
                  <a:lnTo>
                    <a:pt x="1008" y="1318"/>
                  </a:lnTo>
                  <a:lnTo>
                    <a:pt x="998" y="1340"/>
                  </a:lnTo>
                  <a:lnTo>
                    <a:pt x="986" y="1360"/>
                  </a:lnTo>
                  <a:lnTo>
                    <a:pt x="972" y="1378"/>
                  </a:lnTo>
                  <a:lnTo>
                    <a:pt x="956" y="1392"/>
                  </a:lnTo>
                  <a:lnTo>
                    <a:pt x="938" y="1402"/>
                  </a:lnTo>
                  <a:lnTo>
                    <a:pt x="922" y="1408"/>
                  </a:lnTo>
                  <a:lnTo>
                    <a:pt x="904" y="1412"/>
                  </a:lnTo>
                  <a:lnTo>
                    <a:pt x="904" y="1412"/>
                  </a:lnTo>
                  <a:lnTo>
                    <a:pt x="890" y="1410"/>
                  </a:lnTo>
                  <a:lnTo>
                    <a:pt x="880" y="1406"/>
                  </a:lnTo>
                  <a:lnTo>
                    <a:pt x="870" y="1400"/>
                  </a:lnTo>
                  <a:lnTo>
                    <a:pt x="862" y="1392"/>
                  </a:lnTo>
                  <a:lnTo>
                    <a:pt x="852" y="1380"/>
                  </a:lnTo>
                  <a:lnTo>
                    <a:pt x="844" y="1366"/>
                  </a:lnTo>
                  <a:lnTo>
                    <a:pt x="824" y="1326"/>
                  </a:lnTo>
                  <a:lnTo>
                    <a:pt x="824" y="1326"/>
                  </a:lnTo>
                  <a:lnTo>
                    <a:pt x="796" y="1272"/>
                  </a:lnTo>
                  <a:lnTo>
                    <a:pt x="766" y="1218"/>
                  </a:lnTo>
                  <a:lnTo>
                    <a:pt x="736" y="1166"/>
                  </a:lnTo>
                  <a:lnTo>
                    <a:pt x="704" y="1116"/>
                  </a:lnTo>
                  <a:lnTo>
                    <a:pt x="648" y="1030"/>
                  </a:lnTo>
                  <a:lnTo>
                    <a:pt x="606" y="972"/>
                  </a:lnTo>
                  <a:lnTo>
                    <a:pt x="606" y="972"/>
                  </a:lnTo>
                  <a:lnTo>
                    <a:pt x="566" y="1018"/>
                  </a:lnTo>
                  <a:lnTo>
                    <a:pt x="526" y="1062"/>
                  </a:lnTo>
                  <a:lnTo>
                    <a:pt x="484" y="1104"/>
                  </a:lnTo>
                  <a:lnTo>
                    <a:pt x="442" y="1146"/>
                  </a:lnTo>
                  <a:lnTo>
                    <a:pt x="400" y="1186"/>
                  </a:lnTo>
                  <a:lnTo>
                    <a:pt x="360" y="1222"/>
                  </a:lnTo>
                  <a:lnTo>
                    <a:pt x="320" y="1258"/>
                  </a:lnTo>
                  <a:lnTo>
                    <a:pt x="280" y="1290"/>
                  </a:lnTo>
                  <a:lnTo>
                    <a:pt x="242" y="1318"/>
                  </a:lnTo>
                  <a:lnTo>
                    <a:pt x="208" y="1344"/>
                  </a:lnTo>
                  <a:lnTo>
                    <a:pt x="174" y="1366"/>
                  </a:lnTo>
                  <a:lnTo>
                    <a:pt x="144" y="1386"/>
                  </a:lnTo>
                  <a:lnTo>
                    <a:pt x="118" y="1400"/>
                  </a:lnTo>
                  <a:lnTo>
                    <a:pt x="94" y="1412"/>
                  </a:lnTo>
                  <a:lnTo>
                    <a:pt x="74" y="1418"/>
                  </a:lnTo>
                  <a:lnTo>
                    <a:pt x="58" y="1420"/>
                  </a:lnTo>
                  <a:lnTo>
                    <a:pt x="58" y="1420"/>
                  </a:lnTo>
                  <a:lnTo>
                    <a:pt x="52" y="1420"/>
                  </a:lnTo>
                  <a:lnTo>
                    <a:pt x="44" y="1418"/>
                  </a:lnTo>
                  <a:lnTo>
                    <a:pt x="32" y="1412"/>
                  </a:lnTo>
                  <a:lnTo>
                    <a:pt x="20" y="1400"/>
                  </a:lnTo>
                  <a:lnTo>
                    <a:pt x="12" y="1386"/>
                  </a:lnTo>
                  <a:lnTo>
                    <a:pt x="6" y="1368"/>
                  </a:lnTo>
                  <a:lnTo>
                    <a:pt x="2" y="1348"/>
                  </a:lnTo>
                  <a:lnTo>
                    <a:pt x="0" y="1328"/>
                  </a:lnTo>
                  <a:lnTo>
                    <a:pt x="2" y="1306"/>
                  </a:lnTo>
                  <a:lnTo>
                    <a:pt x="2" y="1306"/>
                  </a:lnTo>
                  <a:lnTo>
                    <a:pt x="6" y="1288"/>
                  </a:lnTo>
                  <a:lnTo>
                    <a:pt x="10" y="1276"/>
                  </a:lnTo>
                  <a:lnTo>
                    <a:pt x="18" y="1264"/>
                  </a:lnTo>
                  <a:lnTo>
                    <a:pt x="28" y="1252"/>
                  </a:lnTo>
                  <a:lnTo>
                    <a:pt x="42" y="1240"/>
                  </a:lnTo>
                  <a:lnTo>
                    <a:pt x="62" y="1226"/>
                  </a:lnTo>
                  <a:lnTo>
                    <a:pt x="118" y="1192"/>
                  </a:lnTo>
                  <a:lnTo>
                    <a:pt x="118" y="1192"/>
                  </a:lnTo>
                  <a:lnTo>
                    <a:pt x="156" y="1166"/>
                  </a:lnTo>
                  <a:lnTo>
                    <a:pt x="192" y="1142"/>
                  </a:lnTo>
                  <a:lnTo>
                    <a:pt x="228" y="1114"/>
                  </a:lnTo>
                  <a:lnTo>
                    <a:pt x="264" y="1086"/>
                  </a:lnTo>
                  <a:lnTo>
                    <a:pt x="298" y="1056"/>
                  </a:lnTo>
                  <a:lnTo>
                    <a:pt x="332" y="1026"/>
                  </a:lnTo>
                  <a:lnTo>
                    <a:pt x="396" y="966"/>
                  </a:lnTo>
                  <a:lnTo>
                    <a:pt x="456" y="902"/>
                  </a:lnTo>
                  <a:lnTo>
                    <a:pt x="512" y="836"/>
                  </a:lnTo>
                  <a:lnTo>
                    <a:pt x="562" y="772"/>
                  </a:lnTo>
                  <a:lnTo>
                    <a:pt x="610" y="708"/>
                  </a:lnTo>
                  <a:lnTo>
                    <a:pt x="652" y="648"/>
                  </a:lnTo>
                  <a:lnTo>
                    <a:pt x="690" y="590"/>
                  </a:lnTo>
                  <a:lnTo>
                    <a:pt x="722" y="536"/>
                  </a:lnTo>
                  <a:lnTo>
                    <a:pt x="750" y="486"/>
                  </a:lnTo>
                  <a:lnTo>
                    <a:pt x="772" y="444"/>
                  </a:lnTo>
                  <a:lnTo>
                    <a:pt x="788" y="410"/>
                  </a:lnTo>
                  <a:lnTo>
                    <a:pt x="798" y="382"/>
                  </a:lnTo>
                  <a:lnTo>
                    <a:pt x="804" y="364"/>
                  </a:lnTo>
                  <a:lnTo>
                    <a:pt x="804" y="364"/>
                  </a:lnTo>
                  <a:lnTo>
                    <a:pt x="804" y="356"/>
                  </a:lnTo>
                  <a:lnTo>
                    <a:pt x="804" y="350"/>
                  </a:lnTo>
                  <a:lnTo>
                    <a:pt x="802" y="346"/>
                  </a:lnTo>
                  <a:lnTo>
                    <a:pt x="798" y="344"/>
                  </a:lnTo>
                  <a:lnTo>
                    <a:pt x="794" y="342"/>
                  </a:lnTo>
                  <a:lnTo>
                    <a:pt x="788" y="340"/>
                  </a:lnTo>
                  <a:lnTo>
                    <a:pt x="776" y="340"/>
                  </a:lnTo>
                  <a:lnTo>
                    <a:pt x="282" y="340"/>
                  </a:lnTo>
                  <a:close/>
                  <a:moveTo>
                    <a:pt x="1036" y="88"/>
                  </a:moveTo>
                  <a:lnTo>
                    <a:pt x="1036" y="88"/>
                  </a:lnTo>
                  <a:lnTo>
                    <a:pt x="1034" y="72"/>
                  </a:lnTo>
                  <a:lnTo>
                    <a:pt x="1036" y="56"/>
                  </a:lnTo>
                  <a:lnTo>
                    <a:pt x="1036" y="56"/>
                  </a:lnTo>
                  <a:lnTo>
                    <a:pt x="1038" y="44"/>
                  </a:lnTo>
                  <a:lnTo>
                    <a:pt x="1044" y="34"/>
                  </a:lnTo>
                  <a:lnTo>
                    <a:pt x="1050" y="28"/>
                  </a:lnTo>
                  <a:lnTo>
                    <a:pt x="1058" y="22"/>
                  </a:lnTo>
                  <a:lnTo>
                    <a:pt x="1066" y="18"/>
                  </a:lnTo>
                  <a:lnTo>
                    <a:pt x="1074" y="14"/>
                  </a:lnTo>
                  <a:lnTo>
                    <a:pt x="1086" y="12"/>
                  </a:lnTo>
                  <a:lnTo>
                    <a:pt x="1086" y="12"/>
                  </a:lnTo>
                  <a:lnTo>
                    <a:pt x="1094" y="14"/>
                  </a:lnTo>
                  <a:lnTo>
                    <a:pt x="1100" y="16"/>
                  </a:lnTo>
                  <a:lnTo>
                    <a:pt x="1106" y="22"/>
                  </a:lnTo>
                  <a:lnTo>
                    <a:pt x="1110" y="28"/>
                  </a:lnTo>
                  <a:lnTo>
                    <a:pt x="1114" y="38"/>
                  </a:lnTo>
                  <a:lnTo>
                    <a:pt x="1116" y="52"/>
                  </a:lnTo>
                  <a:lnTo>
                    <a:pt x="1122" y="88"/>
                  </a:lnTo>
                  <a:lnTo>
                    <a:pt x="1122" y="88"/>
                  </a:lnTo>
                  <a:lnTo>
                    <a:pt x="1128" y="124"/>
                  </a:lnTo>
                  <a:lnTo>
                    <a:pt x="1130" y="162"/>
                  </a:lnTo>
                  <a:lnTo>
                    <a:pt x="1132" y="194"/>
                  </a:lnTo>
                  <a:lnTo>
                    <a:pt x="1130" y="216"/>
                  </a:lnTo>
                  <a:lnTo>
                    <a:pt x="1130" y="216"/>
                  </a:lnTo>
                  <a:lnTo>
                    <a:pt x="1126" y="234"/>
                  </a:lnTo>
                  <a:lnTo>
                    <a:pt x="1120" y="246"/>
                  </a:lnTo>
                  <a:lnTo>
                    <a:pt x="1112" y="254"/>
                  </a:lnTo>
                  <a:lnTo>
                    <a:pt x="1102" y="260"/>
                  </a:lnTo>
                  <a:lnTo>
                    <a:pt x="1094" y="264"/>
                  </a:lnTo>
                  <a:lnTo>
                    <a:pt x="1088" y="266"/>
                  </a:lnTo>
                  <a:lnTo>
                    <a:pt x="1080" y="266"/>
                  </a:lnTo>
                  <a:lnTo>
                    <a:pt x="1080" y="266"/>
                  </a:lnTo>
                  <a:lnTo>
                    <a:pt x="1072" y="266"/>
                  </a:lnTo>
                  <a:lnTo>
                    <a:pt x="1064" y="262"/>
                  </a:lnTo>
                  <a:lnTo>
                    <a:pt x="1058" y="258"/>
                  </a:lnTo>
                  <a:lnTo>
                    <a:pt x="1054" y="252"/>
                  </a:lnTo>
                  <a:lnTo>
                    <a:pt x="1052" y="244"/>
                  </a:lnTo>
                  <a:lnTo>
                    <a:pt x="1050" y="234"/>
                  </a:lnTo>
                  <a:lnTo>
                    <a:pt x="1050" y="234"/>
                  </a:lnTo>
                  <a:lnTo>
                    <a:pt x="1048" y="216"/>
                  </a:lnTo>
                  <a:lnTo>
                    <a:pt x="1046" y="194"/>
                  </a:lnTo>
                  <a:lnTo>
                    <a:pt x="1044" y="154"/>
                  </a:lnTo>
                  <a:lnTo>
                    <a:pt x="1044" y="154"/>
                  </a:lnTo>
                  <a:lnTo>
                    <a:pt x="1036" y="88"/>
                  </a:lnTo>
                  <a:lnTo>
                    <a:pt x="1036" y="88"/>
                  </a:lnTo>
                  <a:close/>
                  <a:moveTo>
                    <a:pt x="1176" y="74"/>
                  </a:moveTo>
                  <a:lnTo>
                    <a:pt x="1176" y="74"/>
                  </a:lnTo>
                  <a:lnTo>
                    <a:pt x="1176" y="60"/>
                  </a:lnTo>
                  <a:lnTo>
                    <a:pt x="1176" y="46"/>
                  </a:lnTo>
                  <a:lnTo>
                    <a:pt x="1176" y="46"/>
                  </a:lnTo>
                  <a:lnTo>
                    <a:pt x="1180" y="36"/>
                  </a:lnTo>
                  <a:lnTo>
                    <a:pt x="1182" y="28"/>
                  </a:lnTo>
                  <a:lnTo>
                    <a:pt x="1188" y="20"/>
                  </a:lnTo>
                  <a:lnTo>
                    <a:pt x="1194" y="14"/>
                  </a:lnTo>
                  <a:lnTo>
                    <a:pt x="1200" y="8"/>
                  </a:lnTo>
                  <a:lnTo>
                    <a:pt x="1208" y="4"/>
                  </a:lnTo>
                  <a:lnTo>
                    <a:pt x="1218" y="0"/>
                  </a:lnTo>
                  <a:lnTo>
                    <a:pt x="1228" y="0"/>
                  </a:lnTo>
                  <a:lnTo>
                    <a:pt x="1228" y="0"/>
                  </a:lnTo>
                  <a:lnTo>
                    <a:pt x="1236" y="0"/>
                  </a:lnTo>
                  <a:lnTo>
                    <a:pt x="1242" y="4"/>
                  </a:lnTo>
                  <a:lnTo>
                    <a:pt x="1248" y="10"/>
                  </a:lnTo>
                  <a:lnTo>
                    <a:pt x="1252" y="18"/>
                  </a:lnTo>
                  <a:lnTo>
                    <a:pt x="1256" y="30"/>
                  </a:lnTo>
                  <a:lnTo>
                    <a:pt x="1258" y="42"/>
                  </a:lnTo>
                  <a:lnTo>
                    <a:pt x="1264" y="78"/>
                  </a:lnTo>
                  <a:lnTo>
                    <a:pt x="1264" y="78"/>
                  </a:lnTo>
                  <a:lnTo>
                    <a:pt x="1270" y="122"/>
                  </a:lnTo>
                  <a:lnTo>
                    <a:pt x="1274" y="158"/>
                  </a:lnTo>
                  <a:lnTo>
                    <a:pt x="1274" y="184"/>
                  </a:lnTo>
                  <a:lnTo>
                    <a:pt x="1272" y="202"/>
                  </a:lnTo>
                  <a:lnTo>
                    <a:pt x="1272" y="202"/>
                  </a:lnTo>
                  <a:lnTo>
                    <a:pt x="1268" y="218"/>
                  </a:lnTo>
                  <a:lnTo>
                    <a:pt x="1262" y="230"/>
                  </a:lnTo>
                  <a:lnTo>
                    <a:pt x="1254" y="238"/>
                  </a:lnTo>
                  <a:lnTo>
                    <a:pt x="1246" y="244"/>
                  </a:lnTo>
                  <a:lnTo>
                    <a:pt x="1238" y="248"/>
                  </a:lnTo>
                  <a:lnTo>
                    <a:pt x="1230" y="252"/>
                  </a:lnTo>
                  <a:lnTo>
                    <a:pt x="1222" y="252"/>
                  </a:lnTo>
                  <a:lnTo>
                    <a:pt x="1222" y="252"/>
                  </a:lnTo>
                  <a:lnTo>
                    <a:pt x="1212" y="252"/>
                  </a:lnTo>
                  <a:lnTo>
                    <a:pt x="1204" y="248"/>
                  </a:lnTo>
                  <a:lnTo>
                    <a:pt x="1200" y="242"/>
                  </a:lnTo>
                  <a:lnTo>
                    <a:pt x="1196" y="234"/>
                  </a:lnTo>
                  <a:lnTo>
                    <a:pt x="1192" y="220"/>
                  </a:lnTo>
                  <a:lnTo>
                    <a:pt x="1190" y="200"/>
                  </a:lnTo>
                  <a:lnTo>
                    <a:pt x="1184" y="142"/>
                  </a:lnTo>
                  <a:lnTo>
                    <a:pt x="1184" y="142"/>
                  </a:lnTo>
                  <a:lnTo>
                    <a:pt x="1180" y="108"/>
                  </a:lnTo>
                  <a:lnTo>
                    <a:pt x="1176" y="74"/>
                  </a:lnTo>
                  <a:lnTo>
                    <a:pt x="1176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9011680" y="1320840"/>
              <a:ext cx="1631880" cy="213696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2136960"/>
                <a:gd name="textAreaBottom" fmla="*/ 2137320 h 2136960"/>
              </a:gdLst>
              <a:ahLst/>
              <a:rect l="textAreaLeft" t="textAreaTop" r="textAreaRight" b="textAreaBottom"/>
              <a:pathLst>
                <a:path w="1028" h="1346">
                  <a:moveTo>
                    <a:pt x="324" y="1008"/>
                  </a:moveTo>
                  <a:lnTo>
                    <a:pt x="324" y="1008"/>
                  </a:lnTo>
                  <a:lnTo>
                    <a:pt x="320" y="1032"/>
                  </a:lnTo>
                  <a:lnTo>
                    <a:pt x="318" y="1054"/>
                  </a:lnTo>
                  <a:lnTo>
                    <a:pt x="318" y="1072"/>
                  </a:lnTo>
                  <a:lnTo>
                    <a:pt x="320" y="1088"/>
                  </a:lnTo>
                  <a:lnTo>
                    <a:pt x="324" y="1102"/>
                  </a:lnTo>
                  <a:lnTo>
                    <a:pt x="328" y="1112"/>
                  </a:lnTo>
                  <a:lnTo>
                    <a:pt x="336" y="1122"/>
                  </a:lnTo>
                  <a:lnTo>
                    <a:pt x="348" y="1130"/>
                  </a:lnTo>
                  <a:lnTo>
                    <a:pt x="360" y="1136"/>
                  </a:lnTo>
                  <a:lnTo>
                    <a:pt x="374" y="1140"/>
                  </a:lnTo>
                  <a:lnTo>
                    <a:pt x="392" y="1142"/>
                  </a:lnTo>
                  <a:lnTo>
                    <a:pt x="412" y="1144"/>
                  </a:lnTo>
                  <a:lnTo>
                    <a:pt x="462" y="1146"/>
                  </a:lnTo>
                  <a:lnTo>
                    <a:pt x="522" y="1148"/>
                  </a:lnTo>
                  <a:lnTo>
                    <a:pt x="522" y="1148"/>
                  </a:lnTo>
                  <a:lnTo>
                    <a:pt x="602" y="1146"/>
                  </a:lnTo>
                  <a:lnTo>
                    <a:pt x="658" y="1146"/>
                  </a:lnTo>
                  <a:lnTo>
                    <a:pt x="708" y="1144"/>
                  </a:lnTo>
                  <a:lnTo>
                    <a:pt x="708" y="1144"/>
                  </a:lnTo>
                  <a:lnTo>
                    <a:pt x="766" y="1138"/>
                  </a:lnTo>
                  <a:lnTo>
                    <a:pt x="822" y="1134"/>
                  </a:lnTo>
                  <a:lnTo>
                    <a:pt x="822" y="1134"/>
                  </a:lnTo>
                  <a:lnTo>
                    <a:pt x="832" y="1134"/>
                  </a:lnTo>
                  <a:lnTo>
                    <a:pt x="844" y="1136"/>
                  </a:lnTo>
                  <a:lnTo>
                    <a:pt x="856" y="1140"/>
                  </a:lnTo>
                  <a:lnTo>
                    <a:pt x="866" y="1146"/>
                  </a:lnTo>
                  <a:lnTo>
                    <a:pt x="872" y="1152"/>
                  </a:lnTo>
                  <a:lnTo>
                    <a:pt x="876" y="1158"/>
                  </a:lnTo>
                  <a:lnTo>
                    <a:pt x="880" y="1166"/>
                  </a:lnTo>
                  <a:lnTo>
                    <a:pt x="884" y="1174"/>
                  </a:lnTo>
                  <a:lnTo>
                    <a:pt x="886" y="1186"/>
                  </a:lnTo>
                  <a:lnTo>
                    <a:pt x="886" y="1198"/>
                  </a:lnTo>
                  <a:lnTo>
                    <a:pt x="886" y="1214"/>
                  </a:lnTo>
                  <a:lnTo>
                    <a:pt x="884" y="1230"/>
                  </a:lnTo>
                  <a:lnTo>
                    <a:pt x="884" y="1230"/>
                  </a:lnTo>
                  <a:lnTo>
                    <a:pt x="880" y="1248"/>
                  </a:lnTo>
                  <a:lnTo>
                    <a:pt x="876" y="1262"/>
                  </a:lnTo>
                  <a:lnTo>
                    <a:pt x="870" y="1276"/>
                  </a:lnTo>
                  <a:lnTo>
                    <a:pt x="864" y="1288"/>
                  </a:lnTo>
                  <a:lnTo>
                    <a:pt x="858" y="1298"/>
                  </a:lnTo>
                  <a:lnTo>
                    <a:pt x="850" y="1306"/>
                  </a:lnTo>
                  <a:lnTo>
                    <a:pt x="836" y="1320"/>
                  </a:lnTo>
                  <a:lnTo>
                    <a:pt x="820" y="1328"/>
                  </a:lnTo>
                  <a:lnTo>
                    <a:pt x="806" y="1334"/>
                  </a:lnTo>
                  <a:lnTo>
                    <a:pt x="792" y="1336"/>
                  </a:lnTo>
                  <a:lnTo>
                    <a:pt x="780" y="1338"/>
                  </a:lnTo>
                  <a:lnTo>
                    <a:pt x="780" y="1338"/>
                  </a:lnTo>
                  <a:lnTo>
                    <a:pt x="706" y="1342"/>
                  </a:lnTo>
                  <a:lnTo>
                    <a:pt x="622" y="1346"/>
                  </a:lnTo>
                  <a:lnTo>
                    <a:pt x="472" y="1346"/>
                  </a:lnTo>
                  <a:lnTo>
                    <a:pt x="472" y="1346"/>
                  </a:lnTo>
                  <a:lnTo>
                    <a:pt x="390" y="1346"/>
                  </a:lnTo>
                  <a:lnTo>
                    <a:pt x="354" y="1344"/>
                  </a:lnTo>
                  <a:lnTo>
                    <a:pt x="320" y="1340"/>
                  </a:lnTo>
                  <a:lnTo>
                    <a:pt x="288" y="1334"/>
                  </a:lnTo>
                  <a:lnTo>
                    <a:pt x="260" y="1328"/>
                  </a:lnTo>
                  <a:lnTo>
                    <a:pt x="234" y="1316"/>
                  </a:lnTo>
                  <a:lnTo>
                    <a:pt x="210" y="1304"/>
                  </a:lnTo>
                  <a:lnTo>
                    <a:pt x="200" y="1296"/>
                  </a:lnTo>
                  <a:lnTo>
                    <a:pt x="192" y="1286"/>
                  </a:lnTo>
                  <a:lnTo>
                    <a:pt x="184" y="1276"/>
                  </a:lnTo>
                  <a:lnTo>
                    <a:pt x="176" y="1266"/>
                  </a:lnTo>
                  <a:lnTo>
                    <a:pt x="168" y="1252"/>
                  </a:lnTo>
                  <a:lnTo>
                    <a:pt x="164" y="1240"/>
                  </a:lnTo>
                  <a:lnTo>
                    <a:pt x="158" y="1226"/>
                  </a:lnTo>
                  <a:lnTo>
                    <a:pt x="154" y="1210"/>
                  </a:lnTo>
                  <a:lnTo>
                    <a:pt x="150" y="1174"/>
                  </a:lnTo>
                  <a:lnTo>
                    <a:pt x="148" y="1132"/>
                  </a:lnTo>
                  <a:lnTo>
                    <a:pt x="152" y="1086"/>
                  </a:lnTo>
                  <a:lnTo>
                    <a:pt x="160" y="1032"/>
                  </a:lnTo>
                  <a:lnTo>
                    <a:pt x="240" y="554"/>
                  </a:lnTo>
                  <a:lnTo>
                    <a:pt x="72" y="574"/>
                  </a:lnTo>
                  <a:lnTo>
                    <a:pt x="72" y="574"/>
                  </a:lnTo>
                  <a:lnTo>
                    <a:pt x="62" y="574"/>
                  </a:lnTo>
                  <a:lnTo>
                    <a:pt x="50" y="574"/>
                  </a:lnTo>
                  <a:lnTo>
                    <a:pt x="36" y="570"/>
                  </a:lnTo>
                  <a:lnTo>
                    <a:pt x="28" y="568"/>
                  </a:lnTo>
                  <a:lnTo>
                    <a:pt x="22" y="564"/>
                  </a:lnTo>
                  <a:lnTo>
                    <a:pt x="16" y="558"/>
                  </a:lnTo>
                  <a:lnTo>
                    <a:pt x="10" y="552"/>
                  </a:lnTo>
                  <a:lnTo>
                    <a:pt x="6" y="544"/>
                  </a:lnTo>
                  <a:lnTo>
                    <a:pt x="2" y="534"/>
                  </a:lnTo>
                  <a:lnTo>
                    <a:pt x="0" y="522"/>
                  </a:lnTo>
                  <a:lnTo>
                    <a:pt x="0" y="508"/>
                  </a:lnTo>
                  <a:lnTo>
                    <a:pt x="0" y="490"/>
                  </a:lnTo>
                  <a:lnTo>
                    <a:pt x="2" y="472"/>
                  </a:lnTo>
                  <a:lnTo>
                    <a:pt x="2" y="472"/>
                  </a:lnTo>
                  <a:lnTo>
                    <a:pt x="10" y="442"/>
                  </a:lnTo>
                  <a:lnTo>
                    <a:pt x="18" y="420"/>
                  </a:lnTo>
                  <a:lnTo>
                    <a:pt x="28" y="402"/>
                  </a:lnTo>
                  <a:lnTo>
                    <a:pt x="42" y="390"/>
                  </a:lnTo>
                  <a:lnTo>
                    <a:pt x="54" y="382"/>
                  </a:lnTo>
                  <a:lnTo>
                    <a:pt x="68" y="376"/>
                  </a:lnTo>
                  <a:lnTo>
                    <a:pt x="80" y="374"/>
                  </a:lnTo>
                  <a:lnTo>
                    <a:pt x="94" y="372"/>
                  </a:lnTo>
                  <a:lnTo>
                    <a:pt x="274" y="354"/>
                  </a:lnTo>
                  <a:lnTo>
                    <a:pt x="318" y="98"/>
                  </a:lnTo>
                  <a:lnTo>
                    <a:pt x="318" y="98"/>
                  </a:lnTo>
                  <a:lnTo>
                    <a:pt x="320" y="84"/>
                  </a:lnTo>
                  <a:lnTo>
                    <a:pt x="324" y="68"/>
                  </a:lnTo>
                  <a:lnTo>
                    <a:pt x="330" y="52"/>
                  </a:lnTo>
                  <a:lnTo>
                    <a:pt x="340" y="36"/>
                  </a:lnTo>
                  <a:lnTo>
                    <a:pt x="352" y="22"/>
                  </a:lnTo>
                  <a:lnTo>
                    <a:pt x="358" y="16"/>
                  </a:lnTo>
                  <a:lnTo>
                    <a:pt x="368" y="10"/>
                  </a:lnTo>
                  <a:lnTo>
                    <a:pt x="376" y="6"/>
                  </a:lnTo>
                  <a:lnTo>
                    <a:pt x="388" y="4"/>
                  </a:lnTo>
                  <a:lnTo>
                    <a:pt x="400" y="2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432" y="2"/>
                  </a:lnTo>
                  <a:lnTo>
                    <a:pt x="450" y="8"/>
                  </a:lnTo>
                  <a:lnTo>
                    <a:pt x="462" y="16"/>
                  </a:lnTo>
                  <a:lnTo>
                    <a:pt x="470" y="26"/>
                  </a:lnTo>
                  <a:lnTo>
                    <a:pt x="476" y="40"/>
                  </a:lnTo>
                  <a:lnTo>
                    <a:pt x="480" y="56"/>
                  </a:lnTo>
                  <a:lnTo>
                    <a:pt x="480" y="76"/>
                  </a:lnTo>
                  <a:lnTo>
                    <a:pt x="476" y="98"/>
                  </a:lnTo>
                  <a:lnTo>
                    <a:pt x="436" y="338"/>
                  </a:lnTo>
                  <a:lnTo>
                    <a:pt x="918" y="292"/>
                  </a:lnTo>
                  <a:lnTo>
                    <a:pt x="918" y="292"/>
                  </a:lnTo>
                  <a:lnTo>
                    <a:pt x="944" y="292"/>
                  </a:lnTo>
                  <a:lnTo>
                    <a:pt x="968" y="296"/>
                  </a:lnTo>
                  <a:lnTo>
                    <a:pt x="978" y="300"/>
                  </a:lnTo>
                  <a:lnTo>
                    <a:pt x="988" y="304"/>
                  </a:lnTo>
                  <a:lnTo>
                    <a:pt x="998" y="310"/>
                  </a:lnTo>
                  <a:lnTo>
                    <a:pt x="1006" y="316"/>
                  </a:lnTo>
                  <a:lnTo>
                    <a:pt x="1012" y="324"/>
                  </a:lnTo>
                  <a:lnTo>
                    <a:pt x="1018" y="334"/>
                  </a:lnTo>
                  <a:lnTo>
                    <a:pt x="1022" y="346"/>
                  </a:lnTo>
                  <a:lnTo>
                    <a:pt x="1026" y="358"/>
                  </a:lnTo>
                  <a:lnTo>
                    <a:pt x="1028" y="372"/>
                  </a:lnTo>
                  <a:lnTo>
                    <a:pt x="1028" y="388"/>
                  </a:lnTo>
                  <a:lnTo>
                    <a:pt x="1026" y="404"/>
                  </a:lnTo>
                  <a:lnTo>
                    <a:pt x="1024" y="424"/>
                  </a:lnTo>
                  <a:lnTo>
                    <a:pt x="1024" y="424"/>
                  </a:lnTo>
                  <a:lnTo>
                    <a:pt x="1016" y="462"/>
                  </a:lnTo>
                  <a:lnTo>
                    <a:pt x="1002" y="504"/>
                  </a:lnTo>
                  <a:lnTo>
                    <a:pt x="984" y="550"/>
                  </a:lnTo>
                  <a:lnTo>
                    <a:pt x="960" y="598"/>
                  </a:lnTo>
                  <a:lnTo>
                    <a:pt x="934" y="646"/>
                  </a:lnTo>
                  <a:lnTo>
                    <a:pt x="902" y="694"/>
                  </a:lnTo>
                  <a:lnTo>
                    <a:pt x="866" y="742"/>
                  </a:lnTo>
                  <a:lnTo>
                    <a:pt x="828" y="786"/>
                  </a:lnTo>
                  <a:lnTo>
                    <a:pt x="828" y="786"/>
                  </a:lnTo>
                  <a:lnTo>
                    <a:pt x="804" y="812"/>
                  </a:lnTo>
                  <a:lnTo>
                    <a:pt x="776" y="840"/>
                  </a:lnTo>
                  <a:lnTo>
                    <a:pt x="744" y="868"/>
                  </a:lnTo>
                  <a:lnTo>
                    <a:pt x="712" y="894"/>
                  </a:lnTo>
                  <a:lnTo>
                    <a:pt x="680" y="918"/>
                  </a:lnTo>
                  <a:lnTo>
                    <a:pt x="648" y="936"/>
                  </a:lnTo>
                  <a:lnTo>
                    <a:pt x="634" y="944"/>
                  </a:lnTo>
                  <a:lnTo>
                    <a:pt x="620" y="950"/>
                  </a:lnTo>
                  <a:lnTo>
                    <a:pt x="606" y="952"/>
                  </a:lnTo>
                  <a:lnTo>
                    <a:pt x="594" y="954"/>
                  </a:lnTo>
                  <a:lnTo>
                    <a:pt x="594" y="954"/>
                  </a:lnTo>
                  <a:lnTo>
                    <a:pt x="584" y="952"/>
                  </a:lnTo>
                  <a:lnTo>
                    <a:pt x="576" y="950"/>
                  </a:lnTo>
                  <a:lnTo>
                    <a:pt x="568" y="948"/>
                  </a:lnTo>
                  <a:lnTo>
                    <a:pt x="562" y="942"/>
                  </a:lnTo>
                  <a:lnTo>
                    <a:pt x="556" y="936"/>
                  </a:lnTo>
                  <a:lnTo>
                    <a:pt x="550" y="930"/>
                  </a:lnTo>
                  <a:lnTo>
                    <a:pt x="542" y="914"/>
                  </a:lnTo>
                  <a:lnTo>
                    <a:pt x="538" y="898"/>
                  </a:lnTo>
                  <a:lnTo>
                    <a:pt x="534" y="882"/>
                  </a:lnTo>
                  <a:lnTo>
                    <a:pt x="534" y="866"/>
                  </a:lnTo>
                  <a:lnTo>
                    <a:pt x="534" y="852"/>
                  </a:lnTo>
                  <a:lnTo>
                    <a:pt x="534" y="852"/>
                  </a:lnTo>
                  <a:lnTo>
                    <a:pt x="538" y="838"/>
                  </a:lnTo>
                  <a:lnTo>
                    <a:pt x="542" y="826"/>
                  </a:lnTo>
                  <a:lnTo>
                    <a:pt x="550" y="816"/>
                  </a:lnTo>
                  <a:lnTo>
                    <a:pt x="558" y="804"/>
                  </a:lnTo>
                  <a:lnTo>
                    <a:pt x="570" y="794"/>
                  </a:lnTo>
                  <a:lnTo>
                    <a:pt x="584" y="782"/>
                  </a:lnTo>
                  <a:lnTo>
                    <a:pt x="626" y="752"/>
                  </a:lnTo>
                  <a:lnTo>
                    <a:pt x="626" y="752"/>
                  </a:lnTo>
                  <a:lnTo>
                    <a:pt x="660" y="722"/>
                  </a:lnTo>
                  <a:lnTo>
                    <a:pt x="710" y="674"/>
                  </a:lnTo>
                  <a:lnTo>
                    <a:pt x="736" y="648"/>
                  </a:lnTo>
                  <a:lnTo>
                    <a:pt x="760" y="620"/>
                  </a:lnTo>
                  <a:lnTo>
                    <a:pt x="782" y="594"/>
                  </a:lnTo>
                  <a:lnTo>
                    <a:pt x="798" y="572"/>
                  </a:lnTo>
                  <a:lnTo>
                    <a:pt x="798" y="572"/>
                  </a:lnTo>
                  <a:lnTo>
                    <a:pt x="814" y="542"/>
                  </a:lnTo>
                  <a:lnTo>
                    <a:pt x="820" y="526"/>
                  </a:lnTo>
                  <a:lnTo>
                    <a:pt x="824" y="512"/>
                  </a:lnTo>
                  <a:lnTo>
                    <a:pt x="824" y="512"/>
                  </a:lnTo>
                  <a:lnTo>
                    <a:pt x="824" y="504"/>
                  </a:lnTo>
                  <a:lnTo>
                    <a:pt x="822" y="498"/>
                  </a:lnTo>
                  <a:lnTo>
                    <a:pt x="820" y="494"/>
                  </a:lnTo>
                  <a:lnTo>
                    <a:pt x="816" y="492"/>
                  </a:lnTo>
                  <a:lnTo>
                    <a:pt x="810" y="490"/>
                  </a:lnTo>
                  <a:lnTo>
                    <a:pt x="802" y="490"/>
                  </a:lnTo>
                  <a:lnTo>
                    <a:pt x="786" y="492"/>
                  </a:lnTo>
                  <a:lnTo>
                    <a:pt x="402" y="536"/>
                  </a:lnTo>
                  <a:lnTo>
                    <a:pt x="324" y="10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30814920" y="2260800"/>
              <a:ext cx="1682640" cy="33948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060" h="214">
                  <a:moveTo>
                    <a:pt x="72" y="214"/>
                  </a:moveTo>
                  <a:lnTo>
                    <a:pt x="72" y="214"/>
                  </a:lnTo>
                  <a:lnTo>
                    <a:pt x="60" y="214"/>
                  </a:lnTo>
                  <a:lnTo>
                    <a:pt x="48" y="212"/>
                  </a:lnTo>
                  <a:lnTo>
                    <a:pt x="34" y="208"/>
                  </a:lnTo>
                  <a:lnTo>
                    <a:pt x="20" y="200"/>
                  </a:lnTo>
                  <a:lnTo>
                    <a:pt x="14" y="194"/>
                  </a:lnTo>
                  <a:lnTo>
                    <a:pt x="10" y="188"/>
                  </a:lnTo>
                  <a:lnTo>
                    <a:pt x="6" y="180"/>
                  </a:lnTo>
                  <a:lnTo>
                    <a:pt x="2" y="168"/>
                  </a:lnTo>
                  <a:lnTo>
                    <a:pt x="0" y="156"/>
                  </a:lnTo>
                  <a:lnTo>
                    <a:pt x="0" y="142"/>
                  </a:lnTo>
                  <a:lnTo>
                    <a:pt x="0" y="126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6" y="90"/>
                  </a:lnTo>
                  <a:lnTo>
                    <a:pt x="10" y="74"/>
                  </a:lnTo>
                  <a:lnTo>
                    <a:pt x="16" y="60"/>
                  </a:lnTo>
                  <a:lnTo>
                    <a:pt x="22" y="48"/>
                  </a:lnTo>
                  <a:lnTo>
                    <a:pt x="28" y="38"/>
                  </a:lnTo>
                  <a:lnTo>
                    <a:pt x="34" y="28"/>
                  </a:lnTo>
                  <a:lnTo>
                    <a:pt x="42" y="22"/>
                  </a:lnTo>
                  <a:lnTo>
                    <a:pt x="48" y="16"/>
                  </a:lnTo>
                  <a:lnTo>
                    <a:pt x="64" y="8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986" y="0"/>
                  </a:lnTo>
                  <a:lnTo>
                    <a:pt x="986" y="0"/>
                  </a:lnTo>
                  <a:lnTo>
                    <a:pt x="998" y="0"/>
                  </a:lnTo>
                  <a:lnTo>
                    <a:pt x="1010" y="2"/>
                  </a:lnTo>
                  <a:lnTo>
                    <a:pt x="1024" y="6"/>
                  </a:lnTo>
                  <a:lnTo>
                    <a:pt x="1038" y="14"/>
                  </a:lnTo>
                  <a:lnTo>
                    <a:pt x="1044" y="18"/>
                  </a:lnTo>
                  <a:lnTo>
                    <a:pt x="1048" y="26"/>
                  </a:lnTo>
                  <a:lnTo>
                    <a:pt x="1054" y="34"/>
                  </a:lnTo>
                  <a:lnTo>
                    <a:pt x="1056" y="44"/>
                  </a:lnTo>
                  <a:lnTo>
                    <a:pt x="1058" y="56"/>
                  </a:lnTo>
                  <a:lnTo>
                    <a:pt x="1060" y="72"/>
                  </a:lnTo>
                  <a:lnTo>
                    <a:pt x="1058" y="88"/>
                  </a:lnTo>
                  <a:lnTo>
                    <a:pt x="1056" y="106"/>
                  </a:lnTo>
                  <a:lnTo>
                    <a:pt x="1056" y="106"/>
                  </a:lnTo>
                  <a:lnTo>
                    <a:pt x="1052" y="124"/>
                  </a:lnTo>
                  <a:lnTo>
                    <a:pt x="1048" y="140"/>
                  </a:lnTo>
                  <a:lnTo>
                    <a:pt x="1042" y="154"/>
                  </a:lnTo>
                  <a:lnTo>
                    <a:pt x="1036" y="166"/>
                  </a:lnTo>
                  <a:lnTo>
                    <a:pt x="1030" y="178"/>
                  </a:lnTo>
                  <a:lnTo>
                    <a:pt x="1024" y="186"/>
                  </a:lnTo>
                  <a:lnTo>
                    <a:pt x="1016" y="194"/>
                  </a:lnTo>
                  <a:lnTo>
                    <a:pt x="1008" y="200"/>
                  </a:lnTo>
                  <a:lnTo>
                    <a:pt x="994" y="208"/>
                  </a:lnTo>
                  <a:lnTo>
                    <a:pt x="978" y="212"/>
                  </a:lnTo>
                  <a:lnTo>
                    <a:pt x="964" y="214"/>
                  </a:lnTo>
                  <a:lnTo>
                    <a:pt x="950" y="214"/>
                  </a:lnTo>
                  <a:lnTo>
                    <a:pt x="72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32513760" y="1361880"/>
              <a:ext cx="1885680" cy="2124360"/>
            </a:xfrm>
            <a:custGeom>
              <a:avLst/>
              <a:gdLst>
                <a:gd name="textAreaLeft" fmla="*/ 0 w 1885680"/>
                <a:gd name="textAreaRight" fmla="*/ 1886040 w 1885680"/>
                <a:gd name="textAreaTop" fmla="*/ 0 h 2124360"/>
                <a:gd name="textAreaBottom" fmla="*/ 2124720 h 2124360"/>
              </a:gdLst>
              <a:ahLst/>
              <a:rect l="textAreaLeft" t="textAreaTop" r="textAreaRight" b="textAreaBottom"/>
              <a:pathLst>
                <a:path w="1188" h="1338">
                  <a:moveTo>
                    <a:pt x="474" y="476"/>
                  </a:moveTo>
                  <a:lnTo>
                    <a:pt x="474" y="476"/>
                  </a:lnTo>
                  <a:lnTo>
                    <a:pt x="452" y="596"/>
                  </a:lnTo>
                  <a:lnTo>
                    <a:pt x="430" y="706"/>
                  </a:lnTo>
                  <a:lnTo>
                    <a:pt x="406" y="804"/>
                  </a:lnTo>
                  <a:lnTo>
                    <a:pt x="394" y="850"/>
                  </a:lnTo>
                  <a:lnTo>
                    <a:pt x="380" y="896"/>
                  </a:lnTo>
                  <a:lnTo>
                    <a:pt x="366" y="938"/>
                  </a:lnTo>
                  <a:lnTo>
                    <a:pt x="350" y="978"/>
                  </a:lnTo>
                  <a:lnTo>
                    <a:pt x="334" y="1018"/>
                  </a:lnTo>
                  <a:lnTo>
                    <a:pt x="316" y="1054"/>
                  </a:lnTo>
                  <a:lnTo>
                    <a:pt x="296" y="1092"/>
                  </a:lnTo>
                  <a:lnTo>
                    <a:pt x="276" y="1128"/>
                  </a:lnTo>
                  <a:lnTo>
                    <a:pt x="252" y="1162"/>
                  </a:lnTo>
                  <a:lnTo>
                    <a:pt x="228" y="1198"/>
                  </a:lnTo>
                  <a:lnTo>
                    <a:pt x="228" y="1198"/>
                  </a:lnTo>
                  <a:lnTo>
                    <a:pt x="194" y="1242"/>
                  </a:lnTo>
                  <a:lnTo>
                    <a:pt x="166" y="1276"/>
                  </a:lnTo>
                  <a:lnTo>
                    <a:pt x="142" y="1300"/>
                  </a:lnTo>
                  <a:lnTo>
                    <a:pt x="122" y="1318"/>
                  </a:lnTo>
                  <a:lnTo>
                    <a:pt x="106" y="1328"/>
                  </a:lnTo>
                  <a:lnTo>
                    <a:pt x="92" y="1334"/>
                  </a:lnTo>
                  <a:lnTo>
                    <a:pt x="82" y="1338"/>
                  </a:lnTo>
                  <a:lnTo>
                    <a:pt x="72" y="1338"/>
                  </a:lnTo>
                  <a:lnTo>
                    <a:pt x="72" y="1338"/>
                  </a:lnTo>
                  <a:lnTo>
                    <a:pt x="58" y="1336"/>
                  </a:lnTo>
                  <a:lnTo>
                    <a:pt x="42" y="1330"/>
                  </a:lnTo>
                  <a:lnTo>
                    <a:pt x="30" y="1320"/>
                  </a:lnTo>
                  <a:lnTo>
                    <a:pt x="18" y="1306"/>
                  </a:lnTo>
                  <a:lnTo>
                    <a:pt x="8" y="1290"/>
                  </a:lnTo>
                  <a:lnTo>
                    <a:pt x="2" y="1272"/>
                  </a:lnTo>
                  <a:lnTo>
                    <a:pt x="0" y="1252"/>
                  </a:lnTo>
                  <a:lnTo>
                    <a:pt x="2" y="1228"/>
                  </a:lnTo>
                  <a:lnTo>
                    <a:pt x="2" y="1228"/>
                  </a:lnTo>
                  <a:lnTo>
                    <a:pt x="6" y="1208"/>
                  </a:lnTo>
                  <a:lnTo>
                    <a:pt x="14" y="1190"/>
                  </a:lnTo>
                  <a:lnTo>
                    <a:pt x="30" y="1168"/>
                  </a:lnTo>
                  <a:lnTo>
                    <a:pt x="50" y="1144"/>
                  </a:lnTo>
                  <a:lnTo>
                    <a:pt x="50" y="1144"/>
                  </a:lnTo>
                  <a:lnTo>
                    <a:pt x="102" y="1086"/>
                  </a:lnTo>
                  <a:lnTo>
                    <a:pt x="124" y="1058"/>
                  </a:lnTo>
                  <a:lnTo>
                    <a:pt x="146" y="1030"/>
                  </a:lnTo>
                  <a:lnTo>
                    <a:pt x="164" y="1002"/>
                  </a:lnTo>
                  <a:lnTo>
                    <a:pt x="182" y="972"/>
                  </a:lnTo>
                  <a:lnTo>
                    <a:pt x="198" y="940"/>
                  </a:lnTo>
                  <a:lnTo>
                    <a:pt x="212" y="906"/>
                  </a:lnTo>
                  <a:lnTo>
                    <a:pt x="228" y="868"/>
                  </a:lnTo>
                  <a:lnTo>
                    <a:pt x="240" y="826"/>
                  </a:lnTo>
                  <a:lnTo>
                    <a:pt x="254" y="780"/>
                  </a:lnTo>
                  <a:lnTo>
                    <a:pt x="266" y="730"/>
                  </a:lnTo>
                  <a:lnTo>
                    <a:pt x="278" y="674"/>
                  </a:lnTo>
                  <a:lnTo>
                    <a:pt x="292" y="612"/>
                  </a:lnTo>
                  <a:lnTo>
                    <a:pt x="318" y="468"/>
                  </a:lnTo>
                  <a:lnTo>
                    <a:pt x="378" y="112"/>
                  </a:lnTo>
                  <a:lnTo>
                    <a:pt x="378" y="112"/>
                  </a:lnTo>
                  <a:lnTo>
                    <a:pt x="380" y="96"/>
                  </a:lnTo>
                  <a:lnTo>
                    <a:pt x="384" y="80"/>
                  </a:lnTo>
                  <a:lnTo>
                    <a:pt x="392" y="64"/>
                  </a:lnTo>
                  <a:lnTo>
                    <a:pt x="400" y="50"/>
                  </a:lnTo>
                  <a:lnTo>
                    <a:pt x="412" y="36"/>
                  </a:lnTo>
                  <a:lnTo>
                    <a:pt x="420" y="32"/>
                  </a:lnTo>
                  <a:lnTo>
                    <a:pt x="428" y="26"/>
                  </a:lnTo>
                  <a:lnTo>
                    <a:pt x="436" y="22"/>
                  </a:lnTo>
                  <a:lnTo>
                    <a:pt x="448" y="20"/>
                  </a:lnTo>
                  <a:lnTo>
                    <a:pt x="458" y="18"/>
                  </a:lnTo>
                  <a:lnTo>
                    <a:pt x="472" y="16"/>
                  </a:lnTo>
                  <a:lnTo>
                    <a:pt x="472" y="16"/>
                  </a:lnTo>
                  <a:lnTo>
                    <a:pt x="490" y="18"/>
                  </a:lnTo>
                  <a:lnTo>
                    <a:pt x="504" y="22"/>
                  </a:lnTo>
                  <a:lnTo>
                    <a:pt x="518" y="28"/>
                  </a:lnTo>
                  <a:lnTo>
                    <a:pt x="526" y="38"/>
                  </a:lnTo>
                  <a:lnTo>
                    <a:pt x="534" y="52"/>
                  </a:lnTo>
                  <a:lnTo>
                    <a:pt x="536" y="68"/>
                  </a:lnTo>
                  <a:lnTo>
                    <a:pt x="538" y="88"/>
                  </a:lnTo>
                  <a:lnTo>
                    <a:pt x="534" y="112"/>
                  </a:lnTo>
                  <a:lnTo>
                    <a:pt x="474" y="476"/>
                  </a:lnTo>
                  <a:close/>
                  <a:moveTo>
                    <a:pt x="688" y="94"/>
                  </a:moveTo>
                  <a:lnTo>
                    <a:pt x="688" y="94"/>
                  </a:lnTo>
                  <a:lnTo>
                    <a:pt x="692" y="76"/>
                  </a:lnTo>
                  <a:lnTo>
                    <a:pt x="696" y="60"/>
                  </a:lnTo>
                  <a:lnTo>
                    <a:pt x="704" y="44"/>
                  </a:lnTo>
                  <a:lnTo>
                    <a:pt x="712" y="30"/>
                  </a:lnTo>
                  <a:lnTo>
                    <a:pt x="724" y="18"/>
                  </a:lnTo>
                  <a:lnTo>
                    <a:pt x="740" y="8"/>
                  </a:lnTo>
                  <a:lnTo>
                    <a:pt x="758" y="2"/>
                  </a:lnTo>
                  <a:lnTo>
                    <a:pt x="782" y="0"/>
                  </a:lnTo>
                  <a:lnTo>
                    <a:pt x="782" y="0"/>
                  </a:lnTo>
                  <a:lnTo>
                    <a:pt x="798" y="2"/>
                  </a:lnTo>
                  <a:lnTo>
                    <a:pt x="814" y="4"/>
                  </a:lnTo>
                  <a:lnTo>
                    <a:pt x="826" y="12"/>
                  </a:lnTo>
                  <a:lnTo>
                    <a:pt x="836" y="22"/>
                  </a:lnTo>
                  <a:lnTo>
                    <a:pt x="842" y="34"/>
                  </a:lnTo>
                  <a:lnTo>
                    <a:pt x="846" y="50"/>
                  </a:lnTo>
                  <a:lnTo>
                    <a:pt x="848" y="70"/>
                  </a:lnTo>
                  <a:lnTo>
                    <a:pt x="844" y="94"/>
                  </a:lnTo>
                  <a:lnTo>
                    <a:pt x="686" y="1034"/>
                  </a:lnTo>
                  <a:lnTo>
                    <a:pt x="686" y="1034"/>
                  </a:lnTo>
                  <a:lnTo>
                    <a:pt x="684" y="1052"/>
                  </a:lnTo>
                  <a:lnTo>
                    <a:pt x="682" y="1066"/>
                  </a:lnTo>
                  <a:lnTo>
                    <a:pt x="684" y="1072"/>
                  </a:lnTo>
                  <a:lnTo>
                    <a:pt x="686" y="1076"/>
                  </a:lnTo>
                  <a:lnTo>
                    <a:pt x="692" y="1078"/>
                  </a:lnTo>
                  <a:lnTo>
                    <a:pt x="698" y="1080"/>
                  </a:lnTo>
                  <a:lnTo>
                    <a:pt x="698" y="1080"/>
                  </a:lnTo>
                  <a:lnTo>
                    <a:pt x="706" y="1078"/>
                  </a:lnTo>
                  <a:lnTo>
                    <a:pt x="716" y="1076"/>
                  </a:lnTo>
                  <a:lnTo>
                    <a:pt x="728" y="1072"/>
                  </a:lnTo>
                  <a:lnTo>
                    <a:pt x="740" y="1064"/>
                  </a:lnTo>
                  <a:lnTo>
                    <a:pt x="770" y="1046"/>
                  </a:lnTo>
                  <a:lnTo>
                    <a:pt x="788" y="1034"/>
                  </a:lnTo>
                  <a:lnTo>
                    <a:pt x="806" y="1018"/>
                  </a:lnTo>
                  <a:lnTo>
                    <a:pt x="824" y="1002"/>
                  </a:lnTo>
                  <a:lnTo>
                    <a:pt x="844" y="982"/>
                  </a:lnTo>
                  <a:lnTo>
                    <a:pt x="864" y="958"/>
                  </a:lnTo>
                  <a:lnTo>
                    <a:pt x="884" y="934"/>
                  </a:lnTo>
                  <a:lnTo>
                    <a:pt x="906" y="906"/>
                  </a:lnTo>
                  <a:lnTo>
                    <a:pt x="926" y="876"/>
                  </a:lnTo>
                  <a:lnTo>
                    <a:pt x="948" y="842"/>
                  </a:lnTo>
                  <a:lnTo>
                    <a:pt x="970" y="804"/>
                  </a:lnTo>
                  <a:lnTo>
                    <a:pt x="970" y="804"/>
                  </a:lnTo>
                  <a:lnTo>
                    <a:pt x="988" y="770"/>
                  </a:lnTo>
                  <a:lnTo>
                    <a:pt x="1004" y="736"/>
                  </a:lnTo>
                  <a:lnTo>
                    <a:pt x="1042" y="640"/>
                  </a:lnTo>
                  <a:lnTo>
                    <a:pt x="1042" y="640"/>
                  </a:lnTo>
                  <a:lnTo>
                    <a:pt x="1052" y="620"/>
                  </a:lnTo>
                  <a:lnTo>
                    <a:pt x="1060" y="604"/>
                  </a:lnTo>
                  <a:lnTo>
                    <a:pt x="1070" y="594"/>
                  </a:lnTo>
                  <a:lnTo>
                    <a:pt x="1080" y="586"/>
                  </a:lnTo>
                  <a:lnTo>
                    <a:pt x="1090" y="580"/>
                  </a:lnTo>
                  <a:lnTo>
                    <a:pt x="1100" y="578"/>
                  </a:lnTo>
                  <a:lnTo>
                    <a:pt x="1116" y="576"/>
                  </a:lnTo>
                  <a:lnTo>
                    <a:pt x="1116" y="576"/>
                  </a:lnTo>
                  <a:lnTo>
                    <a:pt x="1126" y="576"/>
                  </a:lnTo>
                  <a:lnTo>
                    <a:pt x="1138" y="578"/>
                  </a:lnTo>
                  <a:lnTo>
                    <a:pt x="1152" y="584"/>
                  </a:lnTo>
                  <a:lnTo>
                    <a:pt x="1166" y="592"/>
                  </a:lnTo>
                  <a:lnTo>
                    <a:pt x="1176" y="604"/>
                  </a:lnTo>
                  <a:lnTo>
                    <a:pt x="1182" y="612"/>
                  </a:lnTo>
                  <a:lnTo>
                    <a:pt x="1184" y="620"/>
                  </a:lnTo>
                  <a:lnTo>
                    <a:pt x="1188" y="630"/>
                  </a:lnTo>
                  <a:lnTo>
                    <a:pt x="1188" y="640"/>
                  </a:lnTo>
                  <a:lnTo>
                    <a:pt x="1188" y="654"/>
                  </a:lnTo>
                  <a:lnTo>
                    <a:pt x="1188" y="668"/>
                  </a:lnTo>
                  <a:lnTo>
                    <a:pt x="1188" y="668"/>
                  </a:lnTo>
                  <a:lnTo>
                    <a:pt x="1180" y="698"/>
                  </a:lnTo>
                  <a:lnTo>
                    <a:pt x="1168" y="734"/>
                  </a:lnTo>
                  <a:lnTo>
                    <a:pt x="1150" y="776"/>
                  </a:lnTo>
                  <a:lnTo>
                    <a:pt x="1130" y="822"/>
                  </a:lnTo>
                  <a:lnTo>
                    <a:pt x="1106" y="870"/>
                  </a:lnTo>
                  <a:lnTo>
                    <a:pt x="1082" y="918"/>
                  </a:lnTo>
                  <a:lnTo>
                    <a:pt x="1056" y="962"/>
                  </a:lnTo>
                  <a:lnTo>
                    <a:pt x="1030" y="1002"/>
                  </a:lnTo>
                  <a:lnTo>
                    <a:pt x="1030" y="1002"/>
                  </a:lnTo>
                  <a:lnTo>
                    <a:pt x="1002" y="1042"/>
                  </a:lnTo>
                  <a:lnTo>
                    <a:pt x="972" y="1080"/>
                  </a:lnTo>
                  <a:lnTo>
                    <a:pt x="942" y="1114"/>
                  </a:lnTo>
                  <a:lnTo>
                    <a:pt x="910" y="1146"/>
                  </a:lnTo>
                  <a:lnTo>
                    <a:pt x="878" y="1176"/>
                  </a:lnTo>
                  <a:lnTo>
                    <a:pt x="848" y="1202"/>
                  </a:lnTo>
                  <a:lnTo>
                    <a:pt x="816" y="1226"/>
                  </a:lnTo>
                  <a:lnTo>
                    <a:pt x="786" y="1246"/>
                  </a:lnTo>
                  <a:lnTo>
                    <a:pt x="756" y="1264"/>
                  </a:lnTo>
                  <a:lnTo>
                    <a:pt x="726" y="1280"/>
                  </a:lnTo>
                  <a:lnTo>
                    <a:pt x="698" y="1294"/>
                  </a:lnTo>
                  <a:lnTo>
                    <a:pt x="672" y="1304"/>
                  </a:lnTo>
                  <a:lnTo>
                    <a:pt x="648" y="1314"/>
                  </a:lnTo>
                  <a:lnTo>
                    <a:pt x="624" y="1320"/>
                  </a:lnTo>
                  <a:lnTo>
                    <a:pt x="604" y="1322"/>
                  </a:lnTo>
                  <a:lnTo>
                    <a:pt x="586" y="1324"/>
                  </a:lnTo>
                  <a:lnTo>
                    <a:pt x="586" y="1324"/>
                  </a:lnTo>
                  <a:lnTo>
                    <a:pt x="568" y="1322"/>
                  </a:lnTo>
                  <a:lnTo>
                    <a:pt x="552" y="1320"/>
                  </a:lnTo>
                  <a:lnTo>
                    <a:pt x="538" y="1314"/>
                  </a:lnTo>
                  <a:lnTo>
                    <a:pt x="528" y="1308"/>
                  </a:lnTo>
                  <a:lnTo>
                    <a:pt x="518" y="1298"/>
                  </a:lnTo>
                  <a:lnTo>
                    <a:pt x="512" y="1288"/>
                  </a:lnTo>
                  <a:lnTo>
                    <a:pt x="506" y="1278"/>
                  </a:lnTo>
                  <a:lnTo>
                    <a:pt x="502" y="1268"/>
                  </a:lnTo>
                  <a:lnTo>
                    <a:pt x="500" y="1256"/>
                  </a:lnTo>
                  <a:lnTo>
                    <a:pt x="500" y="1244"/>
                  </a:lnTo>
                  <a:lnTo>
                    <a:pt x="498" y="1220"/>
                  </a:lnTo>
                  <a:lnTo>
                    <a:pt x="502" y="1200"/>
                  </a:lnTo>
                  <a:lnTo>
                    <a:pt x="504" y="1184"/>
                  </a:lnTo>
                  <a:lnTo>
                    <a:pt x="688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テキスト ボックス 27"/>
          <p:cNvSpPr/>
          <p:nvPr/>
        </p:nvSpPr>
        <p:spPr>
          <a:xfrm>
            <a:off x="13393800" y="5491080"/>
            <a:ext cx="2246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200" spc="-1" strike="noStrike">
                <a:solidFill>
                  <a:srgbClr val="e46c0a"/>
                </a:solidFill>
                <a:latin typeface="ＭＳ ゴシック"/>
                <a:ea typeface="ＭＳ ゴシック"/>
              </a:rPr>
              <a:t>オフィスパンプス</a:t>
            </a:r>
            <a:r>
              <a:rPr b="0" lang="ja-JP" sz="5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ja-JP" sz="5200" spc="-1" strike="noStrike">
                <a:solidFill>
                  <a:srgbClr val="31859c"/>
                </a:solidFill>
                <a:latin typeface="ＭＳ ゴシック"/>
                <a:ea typeface="ＭＳ ゴシック"/>
              </a:rPr>
              <a:t>リクルートパンプス</a:t>
            </a:r>
            <a:r>
              <a:rPr b="0" lang="ja-JP" sz="5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／</a:t>
            </a:r>
            <a:r>
              <a:rPr b="0" lang="ja-JP" sz="5200" spc="-1" strike="noStrike">
                <a:solidFill>
                  <a:srgbClr val="7030a0"/>
                </a:solidFill>
                <a:latin typeface="ＭＳ ゴシック"/>
                <a:ea typeface="ＭＳ ゴシック"/>
              </a:rPr>
              <a:t>カジュアルパンプスなど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8"/>
          <p:cNvSpPr/>
          <p:nvPr/>
        </p:nvSpPr>
        <p:spPr>
          <a:xfrm>
            <a:off x="18002160" y="6715080"/>
            <a:ext cx="12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400" spc="-1" strike="noStrike">
                <a:solidFill>
                  <a:srgbClr val="953735"/>
                </a:solidFill>
                <a:latin typeface="ＭＳ ゴシック"/>
                <a:ea typeface="ＭＳ ゴシック"/>
              </a:rPr>
              <a:t>品数、サイズ、豊富に取り揃えております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9"/>
          <p:cNvSpPr/>
          <p:nvPr/>
        </p:nvSpPr>
        <p:spPr>
          <a:xfrm>
            <a:off x="15698880" y="89917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価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0"/>
          <p:cNvSpPr/>
          <p:nvPr/>
        </p:nvSpPr>
        <p:spPr>
          <a:xfrm>
            <a:off x="26498520" y="7507440"/>
            <a:ext cx="4897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1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～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1"/>
          <p:cNvSpPr/>
          <p:nvPr/>
        </p:nvSpPr>
        <p:spPr>
          <a:xfrm>
            <a:off x="18289440" y="6859440"/>
            <a:ext cx="828216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23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,900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グループ化 32"/>
          <p:cNvGrpSpPr/>
          <p:nvPr/>
        </p:nvGrpSpPr>
        <p:grpSpPr>
          <a:xfrm>
            <a:off x="18657720" y="3498840"/>
            <a:ext cx="15643440" cy="1514520"/>
            <a:chOff x="18657720" y="3498840"/>
            <a:chExt cx="15643440" cy="1514520"/>
          </a:xfrm>
        </p:grpSpPr>
        <p:sp>
          <p:nvSpPr>
            <p:cNvPr id="66" name="Freeform 23"/>
            <p:cNvSpPr/>
            <p:nvPr/>
          </p:nvSpPr>
          <p:spPr>
            <a:xfrm>
              <a:off x="18657720" y="3870360"/>
              <a:ext cx="1117440" cy="103212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1032120"/>
                <a:gd name="textAreaBottom" fmla="*/ 1032480 h 1032120"/>
              </a:gdLst>
              <a:ahLst/>
              <a:rect l="textAreaLeft" t="textAreaTop" r="textAreaRight" b="textAreaBottom"/>
              <a:pathLst>
                <a:path w="704" h="650">
                  <a:moveTo>
                    <a:pt x="704" y="536"/>
                  </a:moveTo>
                  <a:lnTo>
                    <a:pt x="704" y="536"/>
                  </a:lnTo>
                  <a:lnTo>
                    <a:pt x="702" y="544"/>
                  </a:lnTo>
                  <a:lnTo>
                    <a:pt x="700" y="550"/>
                  </a:lnTo>
                  <a:lnTo>
                    <a:pt x="698" y="556"/>
                  </a:lnTo>
                  <a:lnTo>
                    <a:pt x="694" y="560"/>
                  </a:lnTo>
                  <a:lnTo>
                    <a:pt x="688" y="564"/>
                  </a:lnTo>
                  <a:lnTo>
                    <a:pt x="680" y="568"/>
                  </a:lnTo>
                  <a:lnTo>
                    <a:pt x="662" y="570"/>
                  </a:lnTo>
                  <a:lnTo>
                    <a:pt x="662" y="570"/>
                  </a:lnTo>
                  <a:lnTo>
                    <a:pt x="648" y="578"/>
                  </a:lnTo>
                  <a:lnTo>
                    <a:pt x="642" y="580"/>
                  </a:lnTo>
                  <a:lnTo>
                    <a:pt x="634" y="580"/>
                  </a:lnTo>
                  <a:lnTo>
                    <a:pt x="590" y="586"/>
                  </a:lnTo>
                  <a:lnTo>
                    <a:pt x="570" y="586"/>
                  </a:lnTo>
                  <a:lnTo>
                    <a:pt x="552" y="598"/>
                  </a:lnTo>
                  <a:lnTo>
                    <a:pt x="524" y="598"/>
                  </a:lnTo>
                  <a:lnTo>
                    <a:pt x="514" y="608"/>
                  </a:lnTo>
                  <a:lnTo>
                    <a:pt x="456" y="608"/>
                  </a:lnTo>
                  <a:lnTo>
                    <a:pt x="422" y="626"/>
                  </a:lnTo>
                  <a:lnTo>
                    <a:pt x="416" y="626"/>
                  </a:lnTo>
                  <a:lnTo>
                    <a:pt x="416" y="626"/>
                  </a:lnTo>
                  <a:lnTo>
                    <a:pt x="404" y="628"/>
                  </a:lnTo>
                  <a:lnTo>
                    <a:pt x="398" y="634"/>
                  </a:lnTo>
                  <a:lnTo>
                    <a:pt x="398" y="634"/>
                  </a:lnTo>
                  <a:lnTo>
                    <a:pt x="388" y="640"/>
                  </a:lnTo>
                  <a:lnTo>
                    <a:pt x="376" y="642"/>
                  </a:lnTo>
                  <a:lnTo>
                    <a:pt x="376" y="642"/>
                  </a:lnTo>
                  <a:lnTo>
                    <a:pt x="368" y="640"/>
                  </a:lnTo>
                  <a:lnTo>
                    <a:pt x="358" y="636"/>
                  </a:lnTo>
                  <a:lnTo>
                    <a:pt x="330" y="642"/>
                  </a:lnTo>
                  <a:lnTo>
                    <a:pt x="304" y="642"/>
                  </a:lnTo>
                  <a:lnTo>
                    <a:pt x="274" y="650"/>
                  </a:lnTo>
                  <a:lnTo>
                    <a:pt x="204" y="650"/>
                  </a:lnTo>
                  <a:lnTo>
                    <a:pt x="166" y="642"/>
                  </a:lnTo>
                  <a:lnTo>
                    <a:pt x="134" y="642"/>
                  </a:lnTo>
                  <a:lnTo>
                    <a:pt x="122" y="632"/>
                  </a:lnTo>
                  <a:lnTo>
                    <a:pt x="100" y="630"/>
                  </a:lnTo>
                  <a:lnTo>
                    <a:pt x="100" y="630"/>
                  </a:lnTo>
                  <a:lnTo>
                    <a:pt x="76" y="610"/>
                  </a:lnTo>
                  <a:lnTo>
                    <a:pt x="56" y="590"/>
                  </a:lnTo>
                  <a:lnTo>
                    <a:pt x="40" y="568"/>
                  </a:lnTo>
                  <a:lnTo>
                    <a:pt x="28" y="546"/>
                  </a:lnTo>
                  <a:lnTo>
                    <a:pt x="28" y="546"/>
                  </a:lnTo>
                  <a:lnTo>
                    <a:pt x="10" y="488"/>
                  </a:lnTo>
                  <a:lnTo>
                    <a:pt x="0" y="464"/>
                  </a:lnTo>
                  <a:lnTo>
                    <a:pt x="12" y="424"/>
                  </a:lnTo>
                  <a:lnTo>
                    <a:pt x="4" y="374"/>
                  </a:lnTo>
                  <a:lnTo>
                    <a:pt x="16" y="366"/>
                  </a:lnTo>
                  <a:lnTo>
                    <a:pt x="18" y="320"/>
                  </a:lnTo>
                  <a:lnTo>
                    <a:pt x="26" y="296"/>
                  </a:lnTo>
                  <a:lnTo>
                    <a:pt x="32" y="260"/>
                  </a:lnTo>
                  <a:lnTo>
                    <a:pt x="32" y="184"/>
                  </a:lnTo>
                  <a:lnTo>
                    <a:pt x="42" y="164"/>
                  </a:lnTo>
                  <a:lnTo>
                    <a:pt x="46" y="156"/>
                  </a:lnTo>
                  <a:lnTo>
                    <a:pt x="46" y="112"/>
                  </a:lnTo>
                  <a:lnTo>
                    <a:pt x="52" y="102"/>
                  </a:lnTo>
                  <a:lnTo>
                    <a:pt x="42" y="94"/>
                  </a:lnTo>
                  <a:lnTo>
                    <a:pt x="56" y="50"/>
                  </a:lnTo>
                  <a:lnTo>
                    <a:pt x="60" y="48"/>
                  </a:lnTo>
                  <a:lnTo>
                    <a:pt x="52" y="2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94" y="6"/>
                  </a:lnTo>
                  <a:lnTo>
                    <a:pt x="102" y="2"/>
                  </a:lnTo>
                  <a:lnTo>
                    <a:pt x="108" y="0"/>
                  </a:lnTo>
                  <a:lnTo>
                    <a:pt x="140" y="4"/>
                  </a:lnTo>
                  <a:lnTo>
                    <a:pt x="166" y="62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4" y="86"/>
                  </a:lnTo>
                  <a:lnTo>
                    <a:pt x="156" y="96"/>
                  </a:lnTo>
                  <a:lnTo>
                    <a:pt x="142" y="132"/>
                  </a:lnTo>
                  <a:lnTo>
                    <a:pt x="142" y="174"/>
                  </a:lnTo>
                  <a:lnTo>
                    <a:pt x="130" y="212"/>
                  </a:lnTo>
                  <a:lnTo>
                    <a:pt x="128" y="248"/>
                  </a:lnTo>
                  <a:lnTo>
                    <a:pt x="108" y="320"/>
                  </a:lnTo>
                  <a:lnTo>
                    <a:pt x="108" y="330"/>
                  </a:lnTo>
                  <a:lnTo>
                    <a:pt x="108" y="330"/>
                  </a:lnTo>
                  <a:lnTo>
                    <a:pt x="108" y="342"/>
                  </a:lnTo>
                  <a:lnTo>
                    <a:pt x="104" y="354"/>
                  </a:lnTo>
                  <a:lnTo>
                    <a:pt x="102" y="370"/>
                  </a:lnTo>
                  <a:lnTo>
                    <a:pt x="100" y="392"/>
                  </a:lnTo>
                  <a:lnTo>
                    <a:pt x="102" y="430"/>
                  </a:lnTo>
                  <a:lnTo>
                    <a:pt x="98" y="440"/>
                  </a:lnTo>
                  <a:lnTo>
                    <a:pt x="108" y="494"/>
                  </a:lnTo>
                  <a:lnTo>
                    <a:pt x="124" y="532"/>
                  </a:lnTo>
                  <a:lnTo>
                    <a:pt x="124" y="536"/>
                  </a:lnTo>
                  <a:lnTo>
                    <a:pt x="168" y="562"/>
                  </a:lnTo>
                  <a:lnTo>
                    <a:pt x="234" y="568"/>
                  </a:lnTo>
                  <a:lnTo>
                    <a:pt x="252" y="568"/>
                  </a:lnTo>
                  <a:lnTo>
                    <a:pt x="298" y="560"/>
                  </a:lnTo>
                  <a:lnTo>
                    <a:pt x="330" y="560"/>
                  </a:lnTo>
                  <a:lnTo>
                    <a:pt x="338" y="554"/>
                  </a:lnTo>
                  <a:lnTo>
                    <a:pt x="404" y="554"/>
                  </a:lnTo>
                  <a:lnTo>
                    <a:pt x="418" y="542"/>
                  </a:lnTo>
                  <a:lnTo>
                    <a:pt x="466" y="542"/>
                  </a:lnTo>
                  <a:lnTo>
                    <a:pt x="486" y="534"/>
                  </a:lnTo>
                  <a:lnTo>
                    <a:pt x="564" y="530"/>
                  </a:lnTo>
                  <a:lnTo>
                    <a:pt x="596" y="522"/>
                  </a:lnTo>
                  <a:lnTo>
                    <a:pt x="596" y="522"/>
                  </a:lnTo>
                  <a:lnTo>
                    <a:pt x="624" y="522"/>
                  </a:lnTo>
                  <a:lnTo>
                    <a:pt x="636" y="514"/>
                  </a:lnTo>
                  <a:lnTo>
                    <a:pt x="636" y="514"/>
                  </a:lnTo>
                  <a:lnTo>
                    <a:pt x="652" y="508"/>
                  </a:lnTo>
                  <a:lnTo>
                    <a:pt x="666" y="506"/>
                  </a:lnTo>
                  <a:lnTo>
                    <a:pt x="666" y="506"/>
                  </a:lnTo>
                  <a:lnTo>
                    <a:pt x="682" y="508"/>
                  </a:lnTo>
                  <a:lnTo>
                    <a:pt x="688" y="512"/>
                  </a:lnTo>
                  <a:lnTo>
                    <a:pt x="694" y="514"/>
                  </a:lnTo>
                  <a:lnTo>
                    <a:pt x="698" y="518"/>
                  </a:lnTo>
                  <a:lnTo>
                    <a:pt x="702" y="524"/>
                  </a:lnTo>
                  <a:lnTo>
                    <a:pt x="702" y="530"/>
                  </a:lnTo>
                  <a:lnTo>
                    <a:pt x="704" y="536"/>
                  </a:lnTo>
                  <a:lnTo>
                    <a:pt x="704" y="53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9787760" y="3994200"/>
              <a:ext cx="768240" cy="9432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484" h="594">
                  <a:moveTo>
                    <a:pt x="484" y="78"/>
                  </a:moveTo>
                  <a:lnTo>
                    <a:pt x="472" y="94"/>
                  </a:lnTo>
                  <a:lnTo>
                    <a:pt x="482" y="124"/>
                  </a:lnTo>
                  <a:lnTo>
                    <a:pt x="466" y="142"/>
                  </a:lnTo>
                  <a:lnTo>
                    <a:pt x="460" y="168"/>
                  </a:lnTo>
                  <a:lnTo>
                    <a:pt x="458" y="174"/>
                  </a:lnTo>
                  <a:lnTo>
                    <a:pt x="460" y="180"/>
                  </a:lnTo>
                  <a:lnTo>
                    <a:pt x="460" y="180"/>
                  </a:lnTo>
                  <a:lnTo>
                    <a:pt x="458" y="196"/>
                  </a:lnTo>
                  <a:lnTo>
                    <a:pt x="454" y="200"/>
                  </a:lnTo>
                  <a:lnTo>
                    <a:pt x="452" y="206"/>
                  </a:lnTo>
                  <a:lnTo>
                    <a:pt x="448" y="210"/>
                  </a:lnTo>
                  <a:lnTo>
                    <a:pt x="448" y="214"/>
                  </a:lnTo>
                  <a:lnTo>
                    <a:pt x="448" y="214"/>
                  </a:lnTo>
                  <a:lnTo>
                    <a:pt x="452" y="222"/>
                  </a:lnTo>
                  <a:lnTo>
                    <a:pt x="452" y="230"/>
                  </a:lnTo>
                  <a:lnTo>
                    <a:pt x="452" y="230"/>
                  </a:lnTo>
                  <a:lnTo>
                    <a:pt x="452" y="238"/>
                  </a:lnTo>
                  <a:lnTo>
                    <a:pt x="452" y="244"/>
                  </a:lnTo>
                  <a:lnTo>
                    <a:pt x="448" y="256"/>
                  </a:lnTo>
                  <a:lnTo>
                    <a:pt x="452" y="272"/>
                  </a:lnTo>
                  <a:lnTo>
                    <a:pt x="442" y="282"/>
                  </a:lnTo>
                  <a:lnTo>
                    <a:pt x="446" y="298"/>
                  </a:lnTo>
                  <a:lnTo>
                    <a:pt x="452" y="306"/>
                  </a:lnTo>
                  <a:lnTo>
                    <a:pt x="442" y="316"/>
                  </a:lnTo>
                  <a:lnTo>
                    <a:pt x="442" y="336"/>
                  </a:lnTo>
                  <a:lnTo>
                    <a:pt x="434" y="356"/>
                  </a:lnTo>
                  <a:lnTo>
                    <a:pt x="440" y="376"/>
                  </a:lnTo>
                  <a:lnTo>
                    <a:pt x="432" y="386"/>
                  </a:lnTo>
                  <a:lnTo>
                    <a:pt x="444" y="394"/>
                  </a:lnTo>
                  <a:lnTo>
                    <a:pt x="428" y="422"/>
                  </a:lnTo>
                  <a:lnTo>
                    <a:pt x="426" y="426"/>
                  </a:lnTo>
                  <a:lnTo>
                    <a:pt x="438" y="428"/>
                  </a:lnTo>
                  <a:lnTo>
                    <a:pt x="430" y="456"/>
                  </a:lnTo>
                  <a:lnTo>
                    <a:pt x="430" y="460"/>
                  </a:lnTo>
                  <a:lnTo>
                    <a:pt x="430" y="460"/>
                  </a:lnTo>
                  <a:lnTo>
                    <a:pt x="428" y="474"/>
                  </a:lnTo>
                  <a:lnTo>
                    <a:pt x="430" y="478"/>
                  </a:lnTo>
                  <a:lnTo>
                    <a:pt x="448" y="480"/>
                  </a:lnTo>
                  <a:lnTo>
                    <a:pt x="464" y="504"/>
                  </a:lnTo>
                  <a:lnTo>
                    <a:pt x="456" y="522"/>
                  </a:lnTo>
                  <a:lnTo>
                    <a:pt x="470" y="522"/>
                  </a:lnTo>
                  <a:lnTo>
                    <a:pt x="470" y="522"/>
                  </a:lnTo>
                  <a:lnTo>
                    <a:pt x="474" y="536"/>
                  </a:lnTo>
                  <a:lnTo>
                    <a:pt x="478" y="548"/>
                  </a:lnTo>
                  <a:lnTo>
                    <a:pt x="460" y="566"/>
                  </a:lnTo>
                  <a:lnTo>
                    <a:pt x="460" y="566"/>
                  </a:lnTo>
                  <a:lnTo>
                    <a:pt x="450" y="574"/>
                  </a:lnTo>
                  <a:lnTo>
                    <a:pt x="436" y="582"/>
                  </a:lnTo>
                  <a:lnTo>
                    <a:pt x="416" y="594"/>
                  </a:lnTo>
                  <a:lnTo>
                    <a:pt x="410" y="588"/>
                  </a:lnTo>
                  <a:lnTo>
                    <a:pt x="398" y="594"/>
                  </a:lnTo>
                  <a:lnTo>
                    <a:pt x="360" y="550"/>
                  </a:lnTo>
                  <a:lnTo>
                    <a:pt x="360" y="530"/>
                  </a:lnTo>
                  <a:lnTo>
                    <a:pt x="360" y="530"/>
                  </a:lnTo>
                  <a:lnTo>
                    <a:pt x="356" y="506"/>
                  </a:lnTo>
                  <a:lnTo>
                    <a:pt x="354" y="484"/>
                  </a:lnTo>
                  <a:lnTo>
                    <a:pt x="354" y="478"/>
                  </a:lnTo>
                  <a:lnTo>
                    <a:pt x="346" y="406"/>
                  </a:lnTo>
                  <a:lnTo>
                    <a:pt x="356" y="354"/>
                  </a:lnTo>
                  <a:lnTo>
                    <a:pt x="348" y="326"/>
                  </a:lnTo>
                  <a:lnTo>
                    <a:pt x="328" y="360"/>
                  </a:lnTo>
                  <a:lnTo>
                    <a:pt x="318" y="392"/>
                  </a:lnTo>
                  <a:lnTo>
                    <a:pt x="308" y="396"/>
                  </a:lnTo>
                  <a:lnTo>
                    <a:pt x="292" y="424"/>
                  </a:lnTo>
                  <a:lnTo>
                    <a:pt x="262" y="452"/>
                  </a:lnTo>
                  <a:lnTo>
                    <a:pt x="254" y="466"/>
                  </a:lnTo>
                  <a:lnTo>
                    <a:pt x="228" y="490"/>
                  </a:lnTo>
                  <a:lnTo>
                    <a:pt x="222" y="506"/>
                  </a:lnTo>
                  <a:lnTo>
                    <a:pt x="184" y="530"/>
                  </a:lnTo>
                  <a:lnTo>
                    <a:pt x="142" y="576"/>
                  </a:lnTo>
                  <a:lnTo>
                    <a:pt x="120" y="582"/>
                  </a:lnTo>
                  <a:lnTo>
                    <a:pt x="104" y="594"/>
                  </a:lnTo>
                  <a:lnTo>
                    <a:pt x="104" y="594"/>
                  </a:lnTo>
                  <a:lnTo>
                    <a:pt x="90" y="592"/>
                  </a:lnTo>
                  <a:lnTo>
                    <a:pt x="78" y="588"/>
                  </a:lnTo>
                  <a:lnTo>
                    <a:pt x="68" y="580"/>
                  </a:lnTo>
                  <a:lnTo>
                    <a:pt x="60" y="570"/>
                  </a:lnTo>
                  <a:lnTo>
                    <a:pt x="60" y="570"/>
                  </a:lnTo>
                  <a:lnTo>
                    <a:pt x="46" y="564"/>
                  </a:lnTo>
                  <a:lnTo>
                    <a:pt x="36" y="556"/>
                  </a:lnTo>
                  <a:lnTo>
                    <a:pt x="26" y="546"/>
                  </a:lnTo>
                  <a:lnTo>
                    <a:pt x="18" y="538"/>
                  </a:lnTo>
                  <a:lnTo>
                    <a:pt x="12" y="528"/>
                  </a:lnTo>
                  <a:lnTo>
                    <a:pt x="8" y="516"/>
                  </a:lnTo>
                  <a:lnTo>
                    <a:pt x="4" y="506"/>
                  </a:lnTo>
                  <a:lnTo>
                    <a:pt x="4" y="494"/>
                  </a:lnTo>
                  <a:lnTo>
                    <a:pt x="10" y="490"/>
                  </a:lnTo>
                  <a:lnTo>
                    <a:pt x="8" y="482"/>
                  </a:lnTo>
                  <a:lnTo>
                    <a:pt x="8" y="468"/>
                  </a:lnTo>
                  <a:lnTo>
                    <a:pt x="0" y="452"/>
                  </a:lnTo>
                  <a:lnTo>
                    <a:pt x="8" y="434"/>
                  </a:lnTo>
                  <a:lnTo>
                    <a:pt x="10" y="408"/>
                  </a:lnTo>
                  <a:lnTo>
                    <a:pt x="18" y="368"/>
                  </a:lnTo>
                  <a:lnTo>
                    <a:pt x="18" y="368"/>
                  </a:lnTo>
                  <a:lnTo>
                    <a:pt x="18" y="364"/>
                  </a:lnTo>
                  <a:lnTo>
                    <a:pt x="18" y="364"/>
                  </a:lnTo>
                  <a:lnTo>
                    <a:pt x="16" y="358"/>
                  </a:lnTo>
                  <a:lnTo>
                    <a:pt x="16" y="358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20" y="326"/>
                  </a:lnTo>
                  <a:lnTo>
                    <a:pt x="24" y="308"/>
                  </a:lnTo>
                  <a:lnTo>
                    <a:pt x="34" y="304"/>
                  </a:lnTo>
                  <a:lnTo>
                    <a:pt x="34" y="304"/>
                  </a:lnTo>
                  <a:lnTo>
                    <a:pt x="28" y="298"/>
                  </a:lnTo>
                  <a:lnTo>
                    <a:pt x="26" y="292"/>
                  </a:lnTo>
                  <a:lnTo>
                    <a:pt x="26" y="292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6" y="276"/>
                  </a:lnTo>
                  <a:lnTo>
                    <a:pt x="26" y="276"/>
                  </a:lnTo>
                  <a:lnTo>
                    <a:pt x="26" y="268"/>
                  </a:lnTo>
                  <a:lnTo>
                    <a:pt x="30" y="262"/>
                  </a:lnTo>
                  <a:lnTo>
                    <a:pt x="34" y="258"/>
                  </a:lnTo>
                  <a:lnTo>
                    <a:pt x="40" y="254"/>
                  </a:lnTo>
                  <a:lnTo>
                    <a:pt x="40" y="254"/>
                  </a:lnTo>
                  <a:lnTo>
                    <a:pt x="46" y="242"/>
                  </a:lnTo>
                  <a:lnTo>
                    <a:pt x="54" y="228"/>
                  </a:lnTo>
                  <a:lnTo>
                    <a:pt x="48" y="220"/>
                  </a:lnTo>
                  <a:lnTo>
                    <a:pt x="62" y="200"/>
                  </a:lnTo>
                  <a:lnTo>
                    <a:pt x="62" y="196"/>
                  </a:lnTo>
                  <a:lnTo>
                    <a:pt x="62" y="196"/>
                  </a:lnTo>
                  <a:lnTo>
                    <a:pt x="62" y="184"/>
                  </a:lnTo>
                  <a:lnTo>
                    <a:pt x="66" y="174"/>
                  </a:lnTo>
                  <a:lnTo>
                    <a:pt x="70" y="164"/>
                  </a:lnTo>
                  <a:lnTo>
                    <a:pt x="78" y="154"/>
                  </a:lnTo>
                  <a:lnTo>
                    <a:pt x="76" y="132"/>
                  </a:lnTo>
                  <a:lnTo>
                    <a:pt x="80" y="126"/>
                  </a:lnTo>
                  <a:lnTo>
                    <a:pt x="80" y="126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80" y="120"/>
                  </a:lnTo>
                  <a:lnTo>
                    <a:pt x="80" y="120"/>
                  </a:lnTo>
                  <a:lnTo>
                    <a:pt x="80" y="112"/>
                  </a:lnTo>
                  <a:lnTo>
                    <a:pt x="84" y="106"/>
                  </a:lnTo>
                  <a:lnTo>
                    <a:pt x="84" y="100"/>
                  </a:lnTo>
                  <a:lnTo>
                    <a:pt x="84" y="100"/>
                  </a:lnTo>
                  <a:lnTo>
                    <a:pt x="94" y="8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26" y="40"/>
                  </a:lnTo>
                  <a:lnTo>
                    <a:pt x="140" y="20"/>
                  </a:lnTo>
                  <a:lnTo>
                    <a:pt x="146" y="26"/>
                  </a:lnTo>
                  <a:lnTo>
                    <a:pt x="158" y="20"/>
                  </a:lnTo>
                  <a:lnTo>
                    <a:pt x="164" y="18"/>
                  </a:lnTo>
                  <a:lnTo>
                    <a:pt x="204" y="0"/>
                  </a:lnTo>
                  <a:lnTo>
                    <a:pt x="296" y="4"/>
                  </a:lnTo>
                  <a:lnTo>
                    <a:pt x="296" y="12"/>
                  </a:lnTo>
                  <a:lnTo>
                    <a:pt x="324" y="20"/>
                  </a:lnTo>
                  <a:lnTo>
                    <a:pt x="324" y="20"/>
                  </a:lnTo>
                  <a:lnTo>
                    <a:pt x="336" y="20"/>
                  </a:lnTo>
                  <a:lnTo>
                    <a:pt x="346" y="24"/>
                  </a:lnTo>
                  <a:lnTo>
                    <a:pt x="354" y="30"/>
                  </a:lnTo>
                  <a:lnTo>
                    <a:pt x="360" y="38"/>
                  </a:lnTo>
                  <a:lnTo>
                    <a:pt x="360" y="38"/>
                  </a:lnTo>
                  <a:lnTo>
                    <a:pt x="360" y="28"/>
                  </a:lnTo>
                  <a:lnTo>
                    <a:pt x="360" y="28"/>
                  </a:lnTo>
                  <a:lnTo>
                    <a:pt x="360" y="24"/>
                  </a:lnTo>
                  <a:lnTo>
                    <a:pt x="386" y="48"/>
                  </a:lnTo>
                  <a:lnTo>
                    <a:pt x="408" y="52"/>
                  </a:lnTo>
                  <a:lnTo>
                    <a:pt x="452" y="42"/>
                  </a:lnTo>
                  <a:lnTo>
                    <a:pt x="466" y="72"/>
                  </a:lnTo>
                  <a:lnTo>
                    <a:pt x="484" y="78"/>
                  </a:lnTo>
                  <a:close/>
                  <a:moveTo>
                    <a:pt x="372" y="142"/>
                  </a:moveTo>
                  <a:lnTo>
                    <a:pt x="366" y="134"/>
                  </a:lnTo>
                  <a:lnTo>
                    <a:pt x="358" y="132"/>
                  </a:lnTo>
                  <a:lnTo>
                    <a:pt x="320" y="100"/>
                  </a:lnTo>
                  <a:lnTo>
                    <a:pt x="296" y="98"/>
                  </a:lnTo>
                  <a:lnTo>
                    <a:pt x="278" y="98"/>
                  </a:lnTo>
                  <a:lnTo>
                    <a:pt x="274" y="92"/>
                  </a:lnTo>
                  <a:lnTo>
                    <a:pt x="266" y="98"/>
                  </a:lnTo>
                  <a:lnTo>
                    <a:pt x="254" y="92"/>
                  </a:lnTo>
                  <a:lnTo>
                    <a:pt x="224" y="92"/>
                  </a:lnTo>
                  <a:lnTo>
                    <a:pt x="228" y="98"/>
                  </a:lnTo>
                  <a:lnTo>
                    <a:pt x="200" y="106"/>
                  </a:lnTo>
                  <a:lnTo>
                    <a:pt x="196" y="114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74" y="132"/>
                  </a:lnTo>
                  <a:lnTo>
                    <a:pt x="162" y="144"/>
                  </a:lnTo>
                  <a:lnTo>
                    <a:pt x="154" y="174"/>
                  </a:lnTo>
                  <a:lnTo>
                    <a:pt x="148" y="186"/>
                  </a:lnTo>
                  <a:lnTo>
                    <a:pt x="160" y="202"/>
                  </a:lnTo>
                  <a:lnTo>
                    <a:pt x="140" y="218"/>
                  </a:lnTo>
                  <a:lnTo>
                    <a:pt x="142" y="222"/>
                  </a:lnTo>
                  <a:lnTo>
                    <a:pt x="142" y="222"/>
                  </a:lnTo>
                  <a:lnTo>
                    <a:pt x="138" y="234"/>
                  </a:lnTo>
                  <a:lnTo>
                    <a:pt x="134" y="246"/>
                  </a:lnTo>
                  <a:lnTo>
                    <a:pt x="130" y="256"/>
                  </a:lnTo>
                  <a:lnTo>
                    <a:pt x="130" y="268"/>
                  </a:lnTo>
                  <a:lnTo>
                    <a:pt x="120" y="280"/>
                  </a:lnTo>
                  <a:lnTo>
                    <a:pt x="120" y="302"/>
                  </a:lnTo>
                  <a:lnTo>
                    <a:pt x="110" y="314"/>
                  </a:lnTo>
                  <a:lnTo>
                    <a:pt x="108" y="324"/>
                  </a:lnTo>
                  <a:lnTo>
                    <a:pt x="104" y="326"/>
                  </a:lnTo>
                  <a:lnTo>
                    <a:pt x="104" y="344"/>
                  </a:lnTo>
                  <a:lnTo>
                    <a:pt x="102" y="350"/>
                  </a:lnTo>
                  <a:lnTo>
                    <a:pt x="102" y="350"/>
                  </a:lnTo>
                  <a:lnTo>
                    <a:pt x="100" y="362"/>
                  </a:lnTo>
                  <a:lnTo>
                    <a:pt x="98" y="372"/>
                  </a:lnTo>
                  <a:lnTo>
                    <a:pt x="102" y="380"/>
                  </a:lnTo>
                  <a:lnTo>
                    <a:pt x="90" y="402"/>
                  </a:lnTo>
                  <a:lnTo>
                    <a:pt x="96" y="410"/>
                  </a:lnTo>
                  <a:lnTo>
                    <a:pt x="86" y="422"/>
                  </a:lnTo>
                  <a:lnTo>
                    <a:pt x="96" y="444"/>
                  </a:lnTo>
                  <a:lnTo>
                    <a:pt x="82" y="462"/>
                  </a:lnTo>
                  <a:lnTo>
                    <a:pt x="84" y="486"/>
                  </a:lnTo>
                  <a:lnTo>
                    <a:pt x="84" y="488"/>
                  </a:lnTo>
                  <a:lnTo>
                    <a:pt x="90" y="492"/>
                  </a:lnTo>
                  <a:lnTo>
                    <a:pt x="96" y="490"/>
                  </a:lnTo>
                  <a:lnTo>
                    <a:pt x="96" y="490"/>
                  </a:lnTo>
                  <a:lnTo>
                    <a:pt x="108" y="478"/>
                  </a:lnTo>
                  <a:lnTo>
                    <a:pt x="104" y="470"/>
                  </a:lnTo>
                  <a:lnTo>
                    <a:pt x="122" y="466"/>
                  </a:lnTo>
                  <a:lnTo>
                    <a:pt x="124" y="458"/>
                  </a:lnTo>
                  <a:lnTo>
                    <a:pt x="194" y="400"/>
                  </a:lnTo>
                  <a:lnTo>
                    <a:pt x="202" y="398"/>
                  </a:lnTo>
                  <a:lnTo>
                    <a:pt x="210" y="376"/>
                  </a:lnTo>
                  <a:lnTo>
                    <a:pt x="210" y="376"/>
                  </a:lnTo>
                  <a:lnTo>
                    <a:pt x="230" y="366"/>
                  </a:lnTo>
                  <a:lnTo>
                    <a:pt x="238" y="348"/>
                  </a:lnTo>
                  <a:lnTo>
                    <a:pt x="248" y="348"/>
                  </a:lnTo>
                  <a:lnTo>
                    <a:pt x="244" y="326"/>
                  </a:lnTo>
                  <a:lnTo>
                    <a:pt x="260" y="324"/>
                  </a:lnTo>
                  <a:lnTo>
                    <a:pt x="260" y="324"/>
                  </a:lnTo>
                  <a:lnTo>
                    <a:pt x="268" y="312"/>
                  </a:lnTo>
                  <a:lnTo>
                    <a:pt x="268" y="312"/>
                  </a:lnTo>
                  <a:lnTo>
                    <a:pt x="280" y="298"/>
                  </a:lnTo>
                  <a:lnTo>
                    <a:pt x="340" y="216"/>
                  </a:lnTo>
                  <a:lnTo>
                    <a:pt x="350" y="198"/>
                  </a:lnTo>
                  <a:lnTo>
                    <a:pt x="348" y="192"/>
                  </a:lnTo>
                  <a:lnTo>
                    <a:pt x="358" y="178"/>
                  </a:lnTo>
                  <a:lnTo>
                    <a:pt x="360" y="166"/>
                  </a:lnTo>
                  <a:lnTo>
                    <a:pt x="370" y="156"/>
                  </a:lnTo>
                  <a:lnTo>
                    <a:pt x="372" y="142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20765880" y="3632040"/>
              <a:ext cx="895320" cy="13208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564" h="832">
                  <a:moveTo>
                    <a:pt x="564" y="714"/>
                  </a:moveTo>
                  <a:lnTo>
                    <a:pt x="550" y="764"/>
                  </a:lnTo>
                  <a:lnTo>
                    <a:pt x="540" y="778"/>
                  </a:lnTo>
                  <a:lnTo>
                    <a:pt x="540" y="778"/>
                  </a:lnTo>
                  <a:lnTo>
                    <a:pt x="530" y="792"/>
                  </a:lnTo>
                  <a:lnTo>
                    <a:pt x="522" y="800"/>
                  </a:lnTo>
                  <a:lnTo>
                    <a:pt x="512" y="806"/>
                  </a:lnTo>
                  <a:lnTo>
                    <a:pt x="504" y="808"/>
                  </a:lnTo>
                  <a:lnTo>
                    <a:pt x="504" y="808"/>
                  </a:lnTo>
                  <a:lnTo>
                    <a:pt x="496" y="806"/>
                  </a:lnTo>
                  <a:lnTo>
                    <a:pt x="486" y="804"/>
                  </a:lnTo>
                  <a:lnTo>
                    <a:pt x="476" y="796"/>
                  </a:lnTo>
                  <a:lnTo>
                    <a:pt x="466" y="788"/>
                  </a:lnTo>
                  <a:lnTo>
                    <a:pt x="442" y="752"/>
                  </a:lnTo>
                  <a:lnTo>
                    <a:pt x="430" y="730"/>
                  </a:lnTo>
                  <a:lnTo>
                    <a:pt x="426" y="708"/>
                  </a:lnTo>
                  <a:lnTo>
                    <a:pt x="416" y="672"/>
                  </a:lnTo>
                  <a:lnTo>
                    <a:pt x="416" y="618"/>
                  </a:lnTo>
                  <a:lnTo>
                    <a:pt x="412" y="572"/>
                  </a:lnTo>
                  <a:lnTo>
                    <a:pt x="416" y="546"/>
                  </a:lnTo>
                  <a:lnTo>
                    <a:pt x="412" y="538"/>
                  </a:lnTo>
                  <a:lnTo>
                    <a:pt x="382" y="582"/>
                  </a:lnTo>
                  <a:lnTo>
                    <a:pt x="380" y="582"/>
                  </a:lnTo>
                  <a:lnTo>
                    <a:pt x="378" y="584"/>
                  </a:lnTo>
                  <a:lnTo>
                    <a:pt x="358" y="618"/>
                  </a:lnTo>
                  <a:lnTo>
                    <a:pt x="324" y="654"/>
                  </a:lnTo>
                  <a:lnTo>
                    <a:pt x="300" y="690"/>
                  </a:lnTo>
                  <a:lnTo>
                    <a:pt x="274" y="716"/>
                  </a:lnTo>
                  <a:lnTo>
                    <a:pt x="274" y="716"/>
                  </a:lnTo>
                  <a:lnTo>
                    <a:pt x="262" y="734"/>
                  </a:lnTo>
                  <a:lnTo>
                    <a:pt x="248" y="750"/>
                  </a:lnTo>
                  <a:lnTo>
                    <a:pt x="224" y="766"/>
                  </a:lnTo>
                  <a:lnTo>
                    <a:pt x="210" y="786"/>
                  </a:lnTo>
                  <a:lnTo>
                    <a:pt x="184" y="794"/>
                  </a:lnTo>
                  <a:lnTo>
                    <a:pt x="174" y="808"/>
                  </a:lnTo>
                  <a:lnTo>
                    <a:pt x="148" y="814"/>
                  </a:lnTo>
                  <a:lnTo>
                    <a:pt x="126" y="826"/>
                  </a:lnTo>
                  <a:lnTo>
                    <a:pt x="122" y="826"/>
                  </a:lnTo>
                  <a:lnTo>
                    <a:pt x="120" y="832"/>
                  </a:lnTo>
                  <a:lnTo>
                    <a:pt x="82" y="826"/>
                  </a:lnTo>
                  <a:lnTo>
                    <a:pt x="38" y="794"/>
                  </a:lnTo>
                  <a:lnTo>
                    <a:pt x="38" y="794"/>
                  </a:lnTo>
                  <a:lnTo>
                    <a:pt x="30" y="784"/>
                  </a:lnTo>
                  <a:lnTo>
                    <a:pt x="24" y="774"/>
                  </a:lnTo>
                  <a:lnTo>
                    <a:pt x="20" y="762"/>
                  </a:lnTo>
                  <a:lnTo>
                    <a:pt x="16" y="750"/>
                  </a:lnTo>
                  <a:lnTo>
                    <a:pt x="16" y="750"/>
                  </a:lnTo>
                  <a:lnTo>
                    <a:pt x="20" y="746"/>
                  </a:lnTo>
                  <a:lnTo>
                    <a:pt x="20" y="746"/>
                  </a:lnTo>
                  <a:lnTo>
                    <a:pt x="24" y="742"/>
                  </a:lnTo>
                  <a:lnTo>
                    <a:pt x="24" y="742"/>
                  </a:lnTo>
                  <a:lnTo>
                    <a:pt x="12" y="736"/>
                  </a:lnTo>
                  <a:lnTo>
                    <a:pt x="0" y="710"/>
                  </a:lnTo>
                  <a:lnTo>
                    <a:pt x="6" y="702"/>
                  </a:lnTo>
                  <a:lnTo>
                    <a:pt x="0" y="688"/>
                  </a:lnTo>
                  <a:lnTo>
                    <a:pt x="6" y="670"/>
                  </a:lnTo>
                  <a:lnTo>
                    <a:pt x="4" y="648"/>
                  </a:lnTo>
                  <a:lnTo>
                    <a:pt x="12" y="614"/>
                  </a:lnTo>
                  <a:lnTo>
                    <a:pt x="12" y="576"/>
                  </a:lnTo>
                  <a:lnTo>
                    <a:pt x="20" y="564"/>
                  </a:lnTo>
                  <a:lnTo>
                    <a:pt x="20" y="538"/>
                  </a:lnTo>
                  <a:lnTo>
                    <a:pt x="30" y="522"/>
                  </a:lnTo>
                  <a:lnTo>
                    <a:pt x="32" y="504"/>
                  </a:lnTo>
                  <a:lnTo>
                    <a:pt x="34" y="502"/>
                  </a:lnTo>
                  <a:lnTo>
                    <a:pt x="34" y="486"/>
                  </a:lnTo>
                  <a:lnTo>
                    <a:pt x="46" y="466"/>
                  </a:lnTo>
                  <a:lnTo>
                    <a:pt x="48" y="450"/>
                  </a:lnTo>
                  <a:lnTo>
                    <a:pt x="56" y="438"/>
                  </a:lnTo>
                  <a:lnTo>
                    <a:pt x="60" y="430"/>
                  </a:lnTo>
                  <a:lnTo>
                    <a:pt x="64" y="400"/>
                  </a:lnTo>
                  <a:lnTo>
                    <a:pt x="72" y="376"/>
                  </a:lnTo>
                  <a:lnTo>
                    <a:pt x="78" y="370"/>
                  </a:lnTo>
                  <a:lnTo>
                    <a:pt x="80" y="354"/>
                  </a:lnTo>
                  <a:lnTo>
                    <a:pt x="96" y="336"/>
                  </a:lnTo>
                  <a:lnTo>
                    <a:pt x="96" y="336"/>
                  </a:lnTo>
                  <a:lnTo>
                    <a:pt x="106" y="310"/>
                  </a:lnTo>
                  <a:lnTo>
                    <a:pt x="136" y="298"/>
                  </a:lnTo>
                  <a:lnTo>
                    <a:pt x="156" y="276"/>
                  </a:lnTo>
                  <a:lnTo>
                    <a:pt x="210" y="260"/>
                  </a:lnTo>
                  <a:lnTo>
                    <a:pt x="210" y="260"/>
                  </a:lnTo>
                  <a:lnTo>
                    <a:pt x="230" y="260"/>
                  </a:lnTo>
                  <a:lnTo>
                    <a:pt x="238" y="264"/>
                  </a:lnTo>
                  <a:lnTo>
                    <a:pt x="242" y="254"/>
                  </a:lnTo>
                  <a:lnTo>
                    <a:pt x="268" y="252"/>
                  </a:lnTo>
                  <a:lnTo>
                    <a:pt x="278" y="256"/>
                  </a:lnTo>
                  <a:lnTo>
                    <a:pt x="286" y="254"/>
                  </a:lnTo>
                  <a:lnTo>
                    <a:pt x="294" y="260"/>
                  </a:lnTo>
                  <a:lnTo>
                    <a:pt x="316" y="262"/>
                  </a:lnTo>
                  <a:lnTo>
                    <a:pt x="320" y="258"/>
                  </a:lnTo>
                  <a:lnTo>
                    <a:pt x="326" y="262"/>
                  </a:lnTo>
                  <a:lnTo>
                    <a:pt x="338" y="264"/>
                  </a:lnTo>
                  <a:lnTo>
                    <a:pt x="338" y="272"/>
                  </a:lnTo>
                  <a:lnTo>
                    <a:pt x="344" y="276"/>
                  </a:lnTo>
                  <a:lnTo>
                    <a:pt x="368" y="282"/>
                  </a:lnTo>
                  <a:lnTo>
                    <a:pt x="386" y="302"/>
                  </a:lnTo>
                  <a:lnTo>
                    <a:pt x="410" y="320"/>
                  </a:lnTo>
                  <a:lnTo>
                    <a:pt x="416" y="332"/>
                  </a:lnTo>
                  <a:lnTo>
                    <a:pt x="416" y="334"/>
                  </a:lnTo>
                  <a:lnTo>
                    <a:pt x="420" y="316"/>
                  </a:lnTo>
                  <a:lnTo>
                    <a:pt x="428" y="300"/>
                  </a:lnTo>
                  <a:lnTo>
                    <a:pt x="426" y="272"/>
                  </a:lnTo>
                  <a:lnTo>
                    <a:pt x="430" y="222"/>
                  </a:lnTo>
                  <a:lnTo>
                    <a:pt x="424" y="202"/>
                  </a:lnTo>
                  <a:lnTo>
                    <a:pt x="432" y="188"/>
                  </a:lnTo>
                  <a:lnTo>
                    <a:pt x="428" y="174"/>
                  </a:lnTo>
                  <a:lnTo>
                    <a:pt x="432" y="140"/>
                  </a:lnTo>
                  <a:lnTo>
                    <a:pt x="428" y="110"/>
                  </a:lnTo>
                  <a:lnTo>
                    <a:pt x="416" y="102"/>
                  </a:lnTo>
                  <a:lnTo>
                    <a:pt x="434" y="82"/>
                  </a:lnTo>
                  <a:lnTo>
                    <a:pt x="434" y="68"/>
                  </a:lnTo>
                  <a:lnTo>
                    <a:pt x="434" y="68"/>
                  </a:lnTo>
                  <a:lnTo>
                    <a:pt x="434" y="58"/>
                  </a:lnTo>
                  <a:lnTo>
                    <a:pt x="430" y="48"/>
                  </a:lnTo>
                  <a:lnTo>
                    <a:pt x="426" y="36"/>
                  </a:lnTo>
                  <a:lnTo>
                    <a:pt x="418" y="24"/>
                  </a:lnTo>
                  <a:lnTo>
                    <a:pt x="426" y="24"/>
                  </a:lnTo>
                  <a:lnTo>
                    <a:pt x="438" y="4"/>
                  </a:lnTo>
                  <a:lnTo>
                    <a:pt x="438" y="4"/>
                  </a:lnTo>
                  <a:lnTo>
                    <a:pt x="456" y="2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86" y="2"/>
                  </a:lnTo>
                  <a:lnTo>
                    <a:pt x="498" y="8"/>
                  </a:lnTo>
                  <a:lnTo>
                    <a:pt x="498" y="8"/>
                  </a:lnTo>
                  <a:lnTo>
                    <a:pt x="502" y="10"/>
                  </a:lnTo>
                  <a:lnTo>
                    <a:pt x="506" y="14"/>
                  </a:lnTo>
                  <a:lnTo>
                    <a:pt x="512" y="26"/>
                  </a:lnTo>
                  <a:lnTo>
                    <a:pt x="516" y="44"/>
                  </a:lnTo>
                  <a:lnTo>
                    <a:pt x="518" y="66"/>
                  </a:lnTo>
                  <a:lnTo>
                    <a:pt x="512" y="66"/>
                  </a:lnTo>
                  <a:lnTo>
                    <a:pt x="510" y="72"/>
                  </a:lnTo>
                  <a:lnTo>
                    <a:pt x="522" y="82"/>
                  </a:lnTo>
                  <a:lnTo>
                    <a:pt x="514" y="100"/>
                  </a:lnTo>
                  <a:lnTo>
                    <a:pt x="524" y="124"/>
                  </a:lnTo>
                  <a:lnTo>
                    <a:pt x="518" y="132"/>
                  </a:lnTo>
                  <a:lnTo>
                    <a:pt x="518" y="132"/>
                  </a:lnTo>
                  <a:lnTo>
                    <a:pt x="522" y="140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22" y="158"/>
                  </a:lnTo>
                  <a:lnTo>
                    <a:pt x="518" y="166"/>
                  </a:lnTo>
                  <a:lnTo>
                    <a:pt x="524" y="174"/>
                  </a:lnTo>
                  <a:lnTo>
                    <a:pt x="524" y="174"/>
                  </a:lnTo>
                  <a:lnTo>
                    <a:pt x="526" y="180"/>
                  </a:lnTo>
                  <a:lnTo>
                    <a:pt x="526" y="190"/>
                  </a:lnTo>
                  <a:lnTo>
                    <a:pt x="526" y="190"/>
                  </a:lnTo>
                  <a:lnTo>
                    <a:pt x="526" y="202"/>
                  </a:lnTo>
                  <a:lnTo>
                    <a:pt x="522" y="214"/>
                  </a:lnTo>
                  <a:lnTo>
                    <a:pt x="522" y="214"/>
                  </a:lnTo>
                  <a:lnTo>
                    <a:pt x="516" y="276"/>
                  </a:lnTo>
                  <a:lnTo>
                    <a:pt x="510" y="310"/>
                  </a:lnTo>
                  <a:lnTo>
                    <a:pt x="510" y="310"/>
                  </a:lnTo>
                  <a:lnTo>
                    <a:pt x="512" y="320"/>
                  </a:lnTo>
                  <a:lnTo>
                    <a:pt x="512" y="320"/>
                  </a:lnTo>
                  <a:lnTo>
                    <a:pt x="510" y="330"/>
                  </a:lnTo>
                  <a:lnTo>
                    <a:pt x="508" y="342"/>
                  </a:lnTo>
                  <a:lnTo>
                    <a:pt x="508" y="348"/>
                  </a:lnTo>
                  <a:lnTo>
                    <a:pt x="508" y="348"/>
                  </a:lnTo>
                  <a:lnTo>
                    <a:pt x="506" y="364"/>
                  </a:lnTo>
                  <a:lnTo>
                    <a:pt x="502" y="382"/>
                  </a:lnTo>
                  <a:lnTo>
                    <a:pt x="498" y="418"/>
                  </a:lnTo>
                  <a:lnTo>
                    <a:pt x="492" y="428"/>
                  </a:lnTo>
                  <a:lnTo>
                    <a:pt x="498" y="438"/>
                  </a:lnTo>
                  <a:lnTo>
                    <a:pt x="492" y="456"/>
                  </a:lnTo>
                  <a:lnTo>
                    <a:pt x="498" y="472"/>
                  </a:lnTo>
                  <a:lnTo>
                    <a:pt x="488" y="510"/>
                  </a:lnTo>
                  <a:lnTo>
                    <a:pt x="492" y="538"/>
                  </a:lnTo>
                  <a:lnTo>
                    <a:pt x="492" y="554"/>
                  </a:lnTo>
                  <a:lnTo>
                    <a:pt x="494" y="578"/>
                  </a:lnTo>
                  <a:lnTo>
                    <a:pt x="494" y="578"/>
                  </a:lnTo>
                  <a:lnTo>
                    <a:pt x="496" y="594"/>
                  </a:lnTo>
                  <a:lnTo>
                    <a:pt x="496" y="594"/>
                  </a:lnTo>
                  <a:lnTo>
                    <a:pt x="496" y="600"/>
                  </a:lnTo>
                  <a:lnTo>
                    <a:pt x="492" y="604"/>
                  </a:lnTo>
                  <a:lnTo>
                    <a:pt x="502" y="612"/>
                  </a:lnTo>
                  <a:lnTo>
                    <a:pt x="492" y="636"/>
                  </a:lnTo>
                  <a:lnTo>
                    <a:pt x="502" y="662"/>
                  </a:lnTo>
                  <a:lnTo>
                    <a:pt x="498" y="670"/>
                  </a:lnTo>
                  <a:lnTo>
                    <a:pt x="502" y="676"/>
                  </a:lnTo>
                  <a:lnTo>
                    <a:pt x="498" y="684"/>
                  </a:lnTo>
                  <a:lnTo>
                    <a:pt x="502" y="688"/>
                  </a:lnTo>
                  <a:lnTo>
                    <a:pt x="512" y="698"/>
                  </a:lnTo>
                  <a:lnTo>
                    <a:pt x="532" y="700"/>
                  </a:lnTo>
                  <a:lnTo>
                    <a:pt x="564" y="714"/>
                  </a:lnTo>
                  <a:close/>
                  <a:moveTo>
                    <a:pt x="386" y="416"/>
                  </a:moveTo>
                  <a:lnTo>
                    <a:pt x="382" y="412"/>
                  </a:lnTo>
                  <a:lnTo>
                    <a:pt x="382" y="412"/>
                  </a:lnTo>
                  <a:lnTo>
                    <a:pt x="374" y="406"/>
                  </a:lnTo>
                  <a:lnTo>
                    <a:pt x="366" y="398"/>
                  </a:lnTo>
                  <a:lnTo>
                    <a:pt x="366" y="398"/>
                  </a:lnTo>
                  <a:lnTo>
                    <a:pt x="354" y="376"/>
                  </a:lnTo>
                  <a:lnTo>
                    <a:pt x="354" y="376"/>
                  </a:lnTo>
                  <a:lnTo>
                    <a:pt x="344" y="370"/>
                  </a:lnTo>
                  <a:lnTo>
                    <a:pt x="334" y="360"/>
                  </a:lnTo>
                  <a:lnTo>
                    <a:pt x="326" y="360"/>
                  </a:lnTo>
                  <a:lnTo>
                    <a:pt x="306" y="346"/>
                  </a:lnTo>
                  <a:lnTo>
                    <a:pt x="278" y="340"/>
                  </a:lnTo>
                  <a:lnTo>
                    <a:pt x="252" y="342"/>
                  </a:lnTo>
                  <a:lnTo>
                    <a:pt x="224" y="350"/>
                  </a:lnTo>
                  <a:lnTo>
                    <a:pt x="216" y="344"/>
                  </a:lnTo>
                  <a:lnTo>
                    <a:pt x="206" y="348"/>
                  </a:lnTo>
                  <a:lnTo>
                    <a:pt x="206" y="352"/>
                  </a:lnTo>
                  <a:lnTo>
                    <a:pt x="196" y="354"/>
                  </a:lnTo>
                  <a:lnTo>
                    <a:pt x="196" y="354"/>
                  </a:lnTo>
                  <a:lnTo>
                    <a:pt x="190" y="364"/>
                  </a:lnTo>
                  <a:lnTo>
                    <a:pt x="182" y="372"/>
                  </a:lnTo>
                  <a:lnTo>
                    <a:pt x="174" y="382"/>
                  </a:lnTo>
                  <a:lnTo>
                    <a:pt x="162" y="388"/>
                  </a:lnTo>
                  <a:lnTo>
                    <a:pt x="154" y="410"/>
                  </a:lnTo>
                  <a:lnTo>
                    <a:pt x="144" y="416"/>
                  </a:lnTo>
                  <a:lnTo>
                    <a:pt x="136" y="436"/>
                  </a:lnTo>
                  <a:lnTo>
                    <a:pt x="132" y="476"/>
                  </a:lnTo>
                  <a:lnTo>
                    <a:pt x="120" y="486"/>
                  </a:lnTo>
                  <a:lnTo>
                    <a:pt x="120" y="508"/>
                  </a:lnTo>
                  <a:lnTo>
                    <a:pt x="112" y="516"/>
                  </a:lnTo>
                  <a:lnTo>
                    <a:pt x="110" y="546"/>
                  </a:lnTo>
                  <a:lnTo>
                    <a:pt x="90" y="586"/>
                  </a:lnTo>
                  <a:lnTo>
                    <a:pt x="88" y="606"/>
                  </a:lnTo>
                  <a:lnTo>
                    <a:pt x="86" y="638"/>
                  </a:lnTo>
                  <a:lnTo>
                    <a:pt x="92" y="650"/>
                  </a:lnTo>
                  <a:lnTo>
                    <a:pt x="86" y="664"/>
                  </a:lnTo>
                  <a:lnTo>
                    <a:pt x="92" y="672"/>
                  </a:lnTo>
                  <a:lnTo>
                    <a:pt x="80" y="694"/>
                  </a:lnTo>
                  <a:lnTo>
                    <a:pt x="86" y="706"/>
                  </a:lnTo>
                  <a:lnTo>
                    <a:pt x="90" y="720"/>
                  </a:lnTo>
                  <a:lnTo>
                    <a:pt x="98" y="726"/>
                  </a:lnTo>
                  <a:lnTo>
                    <a:pt x="106" y="726"/>
                  </a:lnTo>
                  <a:lnTo>
                    <a:pt x="116" y="716"/>
                  </a:lnTo>
                  <a:lnTo>
                    <a:pt x="126" y="716"/>
                  </a:lnTo>
                  <a:lnTo>
                    <a:pt x="146" y="708"/>
                  </a:lnTo>
                  <a:lnTo>
                    <a:pt x="148" y="700"/>
                  </a:lnTo>
                  <a:lnTo>
                    <a:pt x="170" y="692"/>
                  </a:lnTo>
                  <a:lnTo>
                    <a:pt x="174" y="684"/>
                  </a:lnTo>
                  <a:lnTo>
                    <a:pt x="188" y="676"/>
                  </a:lnTo>
                  <a:lnTo>
                    <a:pt x="188" y="674"/>
                  </a:lnTo>
                  <a:lnTo>
                    <a:pt x="218" y="642"/>
                  </a:lnTo>
                  <a:lnTo>
                    <a:pt x="232" y="636"/>
                  </a:lnTo>
                  <a:lnTo>
                    <a:pt x="238" y="620"/>
                  </a:lnTo>
                  <a:lnTo>
                    <a:pt x="254" y="618"/>
                  </a:lnTo>
                  <a:lnTo>
                    <a:pt x="274" y="596"/>
                  </a:lnTo>
                  <a:lnTo>
                    <a:pt x="270" y="594"/>
                  </a:lnTo>
                  <a:lnTo>
                    <a:pt x="278" y="584"/>
                  </a:lnTo>
                  <a:lnTo>
                    <a:pt x="290" y="560"/>
                  </a:lnTo>
                  <a:lnTo>
                    <a:pt x="300" y="548"/>
                  </a:lnTo>
                  <a:lnTo>
                    <a:pt x="306" y="522"/>
                  </a:lnTo>
                  <a:lnTo>
                    <a:pt x="326" y="516"/>
                  </a:lnTo>
                  <a:lnTo>
                    <a:pt x="338" y="496"/>
                  </a:lnTo>
                  <a:lnTo>
                    <a:pt x="344" y="492"/>
                  </a:lnTo>
                  <a:lnTo>
                    <a:pt x="344" y="470"/>
                  </a:lnTo>
                  <a:lnTo>
                    <a:pt x="362" y="462"/>
                  </a:lnTo>
                  <a:lnTo>
                    <a:pt x="386" y="41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21851640" y="3498840"/>
              <a:ext cx="510840" cy="143532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322" h="904">
                  <a:moveTo>
                    <a:pt x="322" y="706"/>
                  </a:moveTo>
                  <a:lnTo>
                    <a:pt x="322" y="706"/>
                  </a:lnTo>
                  <a:lnTo>
                    <a:pt x="322" y="720"/>
                  </a:lnTo>
                  <a:lnTo>
                    <a:pt x="320" y="730"/>
                  </a:lnTo>
                  <a:lnTo>
                    <a:pt x="318" y="738"/>
                  </a:lnTo>
                  <a:lnTo>
                    <a:pt x="314" y="742"/>
                  </a:lnTo>
                  <a:lnTo>
                    <a:pt x="308" y="748"/>
                  </a:lnTo>
                  <a:lnTo>
                    <a:pt x="302" y="764"/>
                  </a:lnTo>
                  <a:lnTo>
                    <a:pt x="282" y="770"/>
                  </a:lnTo>
                  <a:lnTo>
                    <a:pt x="282" y="770"/>
                  </a:lnTo>
                  <a:lnTo>
                    <a:pt x="278" y="780"/>
                  </a:lnTo>
                  <a:lnTo>
                    <a:pt x="272" y="788"/>
                  </a:lnTo>
                  <a:lnTo>
                    <a:pt x="266" y="794"/>
                  </a:lnTo>
                  <a:lnTo>
                    <a:pt x="258" y="800"/>
                  </a:lnTo>
                  <a:lnTo>
                    <a:pt x="246" y="804"/>
                  </a:lnTo>
                  <a:lnTo>
                    <a:pt x="232" y="822"/>
                  </a:lnTo>
                  <a:lnTo>
                    <a:pt x="216" y="826"/>
                  </a:lnTo>
                  <a:lnTo>
                    <a:pt x="216" y="826"/>
                  </a:lnTo>
                  <a:lnTo>
                    <a:pt x="212" y="834"/>
                  </a:lnTo>
                  <a:lnTo>
                    <a:pt x="204" y="842"/>
                  </a:lnTo>
                  <a:lnTo>
                    <a:pt x="194" y="846"/>
                  </a:lnTo>
                  <a:lnTo>
                    <a:pt x="182" y="848"/>
                  </a:lnTo>
                  <a:lnTo>
                    <a:pt x="182" y="848"/>
                  </a:lnTo>
                  <a:lnTo>
                    <a:pt x="172" y="862"/>
                  </a:lnTo>
                  <a:lnTo>
                    <a:pt x="172" y="862"/>
                  </a:lnTo>
                  <a:lnTo>
                    <a:pt x="154" y="872"/>
                  </a:lnTo>
                  <a:lnTo>
                    <a:pt x="144" y="876"/>
                  </a:lnTo>
                  <a:lnTo>
                    <a:pt x="134" y="878"/>
                  </a:lnTo>
                  <a:lnTo>
                    <a:pt x="128" y="878"/>
                  </a:lnTo>
                  <a:lnTo>
                    <a:pt x="120" y="890"/>
                  </a:lnTo>
                  <a:lnTo>
                    <a:pt x="96" y="890"/>
                  </a:lnTo>
                  <a:lnTo>
                    <a:pt x="78" y="904"/>
                  </a:lnTo>
                  <a:lnTo>
                    <a:pt x="28" y="868"/>
                  </a:lnTo>
                  <a:lnTo>
                    <a:pt x="6" y="820"/>
                  </a:lnTo>
                  <a:lnTo>
                    <a:pt x="4" y="760"/>
                  </a:lnTo>
                  <a:lnTo>
                    <a:pt x="0" y="746"/>
                  </a:lnTo>
                  <a:lnTo>
                    <a:pt x="14" y="638"/>
                  </a:lnTo>
                  <a:lnTo>
                    <a:pt x="20" y="634"/>
                  </a:lnTo>
                  <a:lnTo>
                    <a:pt x="20" y="634"/>
                  </a:lnTo>
                  <a:lnTo>
                    <a:pt x="16" y="616"/>
                  </a:lnTo>
                  <a:lnTo>
                    <a:pt x="16" y="598"/>
                  </a:lnTo>
                  <a:lnTo>
                    <a:pt x="16" y="598"/>
                  </a:lnTo>
                  <a:lnTo>
                    <a:pt x="18" y="582"/>
                  </a:lnTo>
                  <a:lnTo>
                    <a:pt x="22" y="554"/>
                  </a:lnTo>
                  <a:lnTo>
                    <a:pt x="28" y="526"/>
                  </a:lnTo>
                  <a:lnTo>
                    <a:pt x="28" y="526"/>
                  </a:lnTo>
                  <a:lnTo>
                    <a:pt x="26" y="518"/>
                  </a:lnTo>
                  <a:lnTo>
                    <a:pt x="20" y="510"/>
                  </a:lnTo>
                  <a:lnTo>
                    <a:pt x="26" y="486"/>
                  </a:lnTo>
                  <a:lnTo>
                    <a:pt x="28" y="458"/>
                  </a:lnTo>
                  <a:lnTo>
                    <a:pt x="32" y="454"/>
                  </a:lnTo>
                  <a:lnTo>
                    <a:pt x="32" y="454"/>
                  </a:lnTo>
                  <a:lnTo>
                    <a:pt x="28" y="442"/>
                  </a:lnTo>
                  <a:lnTo>
                    <a:pt x="26" y="430"/>
                  </a:lnTo>
                  <a:lnTo>
                    <a:pt x="26" y="430"/>
                  </a:lnTo>
                  <a:lnTo>
                    <a:pt x="28" y="424"/>
                  </a:lnTo>
                  <a:lnTo>
                    <a:pt x="28" y="424"/>
                  </a:lnTo>
                  <a:lnTo>
                    <a:pt x="28" y="416"/>
                  </a:lnTo>
                  <a:lnTo>
                    <a:pt x="28" y="416"/>
                  </a:lnTo>
                  <a:lnTo>
                    <a:pt x="26" y="406"/>
                  </a:lnTo>
                  <a:lnTo>
                    <a:pt x="26" y="396"/>
                  </a:lnTo>
                  <a:lnTo>
                    <a:pt x="26" y="396"/>
                  </a:lnTo>
                  <a:lnTo>
                    <a:pt x="28" y="384"/>
                  </a:lnTo>
                  <a:lnTo>
                    <a:pt x="30" y="378"/>
                  </a:lnTo>
                  <a:lnTo>
                    <a:pt x="34" y="374"/>
                  </a:lnTo>
                  <a:lnTo>
                    <a:pt x="38" y="372"/>
                  </a:lnTo>
                  <a:lnTo>
                    <a:pt x="44" y="370"/>
                  </a:lnTo>
                  <a:lnTo>
                    <a:pt x="58" y="368"/>
                  </a:lnTo>
                  <a:lnTo>
                    <a:pt x="72" y="368"/>
                  </a:lnTo>
                  <a:lnTo>
                    <a:pt x="72" y="368"/>
                  </a:lnTo>
                  <a:lnTo>
                    <a:pt x="90" y="362"/>
                  </a:lnTo>
                  <a:lnTo>
                    <a:pt x="90" y="362"/>
                  </a:lnTo>
                  <a:lnTo>
                    <a:pt x="100" y="364"/>
                  </a:lnTo>
                  <a:lnTo>
                    <a:pt x="110" y="370"/>
                  </a:lnTo>
                  <a:lnTo>
                    <a:pt x="116" y="378"/>
                  </a:lnTo>
                  <a:lnTo>
                    <a:pt x="122" y="390"/>
                  </a:lnTo>
                  <a:lnTo>
                    <a:pt x="122" y="394"/>
                  </a:lnTo>
                  <a:lnTo>
                    <a:pt x="122" y="394"/>
                  </a:lnTo>
                  <a:lnTo>
                    <a:pt x="126" y="408"/>
                  </a:lnTo>
                  <a:lnTo>
                    <a:pt x="126" y="422"/>
                  </a:lnTo>
                  <a:lnTo>
                    <a:pt x="126" y="422"/>
                  </a:lnTo>
                  <a:lnTo>
                    <a:pt x="126" y="432"/>
                  </a:lnTo>
                  <a:lnTo>
                    <a:pt x="124" y="438"/>
                  </a:lnTo>
                  <a:lnTo>
                    <a:pt x="116" y="500"/>
                  </a:lnTo>
                  <a:lnTo>
                    <a:pt x="124" y="516"/>
                  </a:lnTo>
                  <a:lnTo>
                    <a:pt x="124" y="516"/>
                  </a:lnTo>
                  <a:lnTo>
                    <a:pt x="124" y="528"/>
                  </a:lnTo>
                  <a:lnTo>
                    <a:pt x="120" y="538"/>
                  </a:lnTo>
                  <a:lnTo>
                    <a:pt x="116" y="546"/>
                  </a:lnTo>
                  <a:lnTo>
                    <a:pt x="110" y="556"/>
                  </a:lnTo>
                  <a:lnTo>
                    <a:pt x="114" y="570"/>
                  </a:lnTo>
                  <a:lnTo>
                    <a:pt x="98" y="616"/>
                  </a:lnTo>
                  <a:lnTo>
                    <a:pt x="98" y="616"/>
                  </a:lnTo>
                  <a:lnTo>
                    <a:pt x="96" y="644"/>
                  </a:lnTo>
                  <a:lnTo>
                    <a:pt x="92" y="662"/>
                  </a:lnTo>
                  <a:lnTo>
                    <a:pt x="92" y="694"/>
                  </a:lnTo>
                  <a:lnTo>
                    <a:pt x="86" y="710"/>
                  </a:lnTo>
                  <a:lnTo>
                    <a:pt x="88" y="722"/>
                  </a:lnTo>
                  <a:lnTo>
                    <a:pt x="84" y="750"/>
                  </a:lnTo>
                  <a:lnTo>
                    <a:pt x="88" y="772"/>
                  </a:lnTo>
                  <a:lnTo>
                    <a:pt x="104" y="788"/>
                  </a:lnTo>
                  <a:lnTo>
                    <a:pt x="120" y="784"/>
                  </a:lnTo>
                  <a:lnTo>
                    <a:pt x="122" y="782"/>
                  </a:lnTo>
                  <a:lnTo>
                    <a:pt x="132" y="782"/>
                  </a:lnTo>
                  <a:lnTo>
                    <a:pt x="146" y="778"/>
                  </a:lnTo>
                  <a:lnTo>
                    <a:pt x="160" y="764"/>
                  </a:lnTo>
                  <a:lnTo>
                    <a:pt x="164" y="756"/>
                  </a:lnTo>
                  <a:lnTo>
                    <a:pt x="172" y="756"/>
                  </a:lnTo>
                  <a:lnTo>
                    <a:pt x="176" y="750"/>
                  </a:lnTo>
                  <a:lnTo>
                    <a:pt x="178" y="744"/>
                  </a:lnTo>
                  <a:lnTo>
                    <a:pt x="186" y="750"/>
                  </a:lnTo>
                  <a:lnTo>
                    <a:pt x="198" y="738"/>
                  </a:lnTo>
                  <a:lnTo>
                    <a:pt x="204" y="738"/>
                  </a:lnTo>
                  <a:lnTo>
                    <a:pt x="208" y="730"/>
                  </a:lnTo>
                  <a:lnTo>
                    <a:pt x="210" y="730"/>
                  </a:lnTo>
                  <a:lnTo>
                    <a:pt x="214" y="720"/>
                  </a:lnTo>
                  <a:lnTo>
                    <a:pt x="224" y="716"/>
                  </a:lnTo>
                  <a:lnTo>
                    <a:pt x="246" y="704"/>
                  </a:lnTo>
                  <a:lnTo>
                    <a:pt x="246" y="704"/>
                  </a:lnTo>
                  <a:lnTo>
                    <a:pt x="260" y="696"/>
                  </a:lnTo>
                  <a:lnTo>
                    <a:pt x="274" y="690"/>
                  </a:lnTo>
                  <a:lnTo>
                    <a:pt x="286" y="686"/>
                  </a:lnTo>
                  <a:lnTo>
                    <a:pt x="300" y="684"/>
                  </a:lnTo>
                  <a:lnTo>
                    <a:pt x="304" y="684"/>
                  </a:lnTo>
                  <a:lnTo>
                    <a:pt x="304" y="684"/>
                  </a:lnTo>
                  <a:lnTo>
                    <a:pt x="316" y="694"/>
                  </a:lnTo>
                  <a:lnTo>
                    <a:pt x="320" y="700"/>
                  </a:lnTo>
                  <a:lnTo>
                    <a:pt x="322" y="706"/>
                  </a:lnTo>
                  <a:lnTo>
                    <a:pt x="322" y="706"/>
                  </a:lnTo>
                  <a:close/>
                  <a:moveTo>
                    <a:pt x="202" y="60"/>
                  </a:moveTo>
                  <a:lnTo>
                    <a:pt x="202" y="60"/>
                  </a:lnTo>
                  <a:lnTo>
                    <a:pt x="200" y="68"/>
                  </a:lnTo>
                  <a:lnTo>
                    <a:pt x="196" y="74"/>
                  </a:lnTo>
                  <a:lnTo>
                    <a:pt x="190" y="80"/>
                  </a:lnTo>
                  <a:lnTo>
                    <a:pt x="182" y="86"/>
                  </a:lnTo>
                  <a:lnTo>
                    <a:pt x="182" y="90"/>
                  </a:lnTo>
                  <a:lnTo>
                    <a:pt x="182" y="90"/>
                  </a:lnTo>
                  <a:lnTo>
                    <a:pt x="172" y="102"/>
                  </a:lnTo>
                  <a:lnTo>
                    <a:pt x="162" y="112"/>
                  </a:lnTo>
                  <a:lnTo>
                    <a:pt x="152" y="118"/>
                  </a:lnTo>
                  <a:lnTo>
                    <a:pt x="142" y="120"/>
                  </a:lnTo>
                  <a:lnTo>
                    <a:pt x="126" y="142"/>
                  </a:lnTo>
                  <a:lnTo>
                    <a:pt x="114" y="158"/>
                  </a:lnTo>
                  <a:lnTo>
                    <a:pt x="86" y="166"/>
                  </a:lnTo>
                  <a:lnTo>
                    <a:pt x="74" y="182"/>
                  </a:lnTo>
                  <a:lnTo>
                    <a:pt x="54" y="192"/>
                  </a:lnTo>
                  <a:lnTo>
                    <a:pt x="24" y="222"/>
                  </a:lnTo>
                  <a:lnTo>
                    <a:pt x="4" y="202"/>
                  </a:lnTo>
                  <a:lnTo>
                    <a:pt x="8" y="172"/>
                  </a:lnTo>
                  <a:lnTo>
                    <a:pt x="22" y="150"/>
                  </a:lnTo>
                  <a:lnTo>
                    <a:pt x="22" y="150"/>
                  </a:lnTo>
                  <a:lnTo>
                    <a:pt x="24" y="142"/>
                  </a:lnTo>
                  <a:lnTo>
                    <a:pt x="26" y="134"/>
                  </a:lnTo>
                  <a:lnTo>
                    <a:pt x="32" y="128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8" y="112"/>
                  </a:lnTo>
                  <a:lnTo>
                    <a:pt x="48" y="94"/>
                  </a:lnTo>
                  <a:lnTo>
                    <a:pt x="68" y="88"/>
                  </a:lnTo>
                  <a:lnTo>
                    <a:pt x="68" y="78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6" y="64"/>
                  </a:lnTo>
                  <a:lnTo>
                    <a:pt x="90" y="54"/>
                  </a:lnTo>
                  <a:lnTo>
                    <a:pt x="96" y="46"/>
                  </a:lnTo>
                  <a:lnTo>
                    <a:pt x="102" y="40"/>
                  </a:lnTo>
                  <a:lnTo>
                    <a:pt x="106" y="38"/>
                  </a:lnTo>
                  <a:lnTo>
                    <a:pt x="114" y="3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42" y="6"/>
                  </a:lnTo>
                  <a:lnTo>
                    <a:pt x="158" y="12"/>
                  </a:lnTo>
                  <a:lnTo>
                    <a:pt x="170" y="18"/>
                  </a:lnTo>
                  <a:lnTo>
                    <a:pt x="182" y="26"/>
                  </a:lnTo>
                  <a:lnTo>
                    <a:pt x="190" y="32"/>
                  </a:lnTo>
                  <a:lnTo>
                    <a:pt x="196" y="42"/>
                  </a:lnTo>
                  <a:lnTo>
                    <a:pt x="200" y="50"/>
                  </a:lnTo>
                  <a:lnTo>
                    <a:pt x="202" y="60"/>
                  </a:lnTo>
                  <a:lnTo>
                    <a:pt x="202" y="60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22442400" y="4010040"/>
              <a:ext cx="622080" cy="10033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92" h="632">
                  <a:moveTo>
                    <a:pt x="392" y="462"/>
                  </a:moveTo>
                  <a:lnTo>
                    <a:pt x="392" y="462"/>
                  </a:lnTo>
                  <a:lnTo>
                    <a:pt x="390" y="470"/>
                  </a:lnTo>
                  <a:lnTo>
                    <a:pt x="386" y="480"/>
                  </a:lnTo>
                  <a:lnTo>
                    <a:pt x="380" y="488"/>
                  </a:lnTo>
                  <a:lnTo>
                    <a:pt x="370" y="500"/>
                  </a:lnTo>
                  <a:lnTo>
                    <a:pt x="370" y="500"/>
                  </a:lnTo>
                  <a:lnTo>
                    <a:pt x="362" y="518"/>
                  </a:lnTo>
                  <a:lnTo>
                    <a:pt x="352" y="532"/>
                  </a:lnTo>
                  <a:lnTo>
                    <a:pt x="344" y="532"/>
                  </a:lnTo>
                  <a:lnTo>
                    <a:pt x="332" y="556"/>
                  </a:lnTo>
                  <a:lnTo>
                    <a:pt x="310" y="560"/>
                  </a:lnTo>
                  <a:lnTo>
                    <a:pt x="288" y="574"/>
                  </a:lnTo>
                  <a:lnTo>
                    <a:pt x="276" y="596"/>
                  </a:lnTo>
                  <a:lnTo>
                    <a:pt x="262" y="596"/>
                  </a:lnTo>
                  <a:lnTo>
                    <a:pt x="262" y="596"/>
                  </a:lnTo>
                  <a:lnTo>
                    <a:pt x="250" y="600"/>
                  </a:lnTo>
                  <a:lnTo>
                    <a:pt x="242" y="602"/>
                  </a:lnTo>
                  <a:lnTo>
                    <a:pt x="234" y="612"/>
                  </a:lnTo>
                  <a:lnTo>
                    <a:pt x="234" y="612"/>
                  </a:lnTo>
                  <a:lnTo>
                    <a:pt x="224" y="612"/>
                  </a:lnTo>
                  <a:lnTo>
                    <a:pt x="224" y="612"/>
                  </a:lnTo>
                  <a:lnTo>
                    <a:pt x="216" y="614"/>
                  </a:lnTo>
                  <a:lnTo>
                    <a:pt x="208" y="616"/>
                  </a:lnTo>
                  <a:lnTo>
                    <a:pt x="200" y="624"/>
                  </a:lnTo>
                  <a:lnTo>
                    <a:pt x="194" y="632"/>
                  </a:lnTo>
                  <a:lnTo>
                    <a:pt x="178" y="618"/>
                  </a:lnTo>
                  <a:lnTo>
                    <a:pt x="178" y="618"/>
                  </a:lnTo>
                  <a:lnTo>
                    <a:pt x="162" y="618"/>
                  </a:lnTo>
                  <a:lnTo>
                    <a:pt x="162" y="618"/>
                  </a:lnTo>
                  <a:lnTo>
                    <a:pt x="148" y="616"/>
                  </a:lnTo>
                  <a:lnTo>
                    <a:pt x="136" y="612"/>
                  </a:lnTo>
                  <a:lnTo>
                    <a:pt x="116" y="612"/>
                  </a:lnTo>
                  <a:lnTo>
                    <a:pt x="106" y="606"/>
                  </a:lnTo>
                  <a:lnTo>
                    <a:pt x="106" y="606"/>
                  </a:lnTo>
                  <a:lnTo>
                    <a:pt x="86" y="600"/>
                  </a:lnTo>
                  <a:lnTo>
                    <a:pt x="70" y="594"/>
                  </a:lnTo>
                  <a:lnTo>
                    <a:pt x="58" y="584"/>
                  </a:lnTo>
                  <a:lnTo>
                    <a:pt x="54" y="578"/>
                  </a:lnTo>
                  <a:lnTo>
                    <a:pt x="50" y="570"/>
                  </a:lnTo>
                  <a:lnTo>
                    <a:pt x="50" y="566"/>
                  </a:lnTo>
                  <a:lnTo>
                    <a:pt x="36" y="560"/>
                  </a:lnTo>
                  <a:lnTo>
                    <a:pt x="28" y="540"/>
                  </a:lnTo>
                  <a:lnTo>
                    <a:pt x="14" y="530"/>
                  </a:lnTo>
                  <a:lnTo>
                    <a:pt x="14" y="512"/>
                  </a:lnTo>
                  <a:lnTo>
                    <a:pt x="0" y="458"/>
                  </a:lnTo>
                  <a:lnTo>
                    <a:pt x="0" y="414"/>
                  </a:lnTo>
                  <a:lnTo>
                    <a:pt x="6" y="396"/>
                  </a:lnTo>
                  <a:lnTo>
                    <a:pt x="6" y="370"/>
                  </a:lnTo>
                  <a:lnTo>
                    <a:pt x="12" y="350"/>
                  </a:lnTo>
                  <a:lnTo>
                    <a:pt x="12" y="342"/>
                  </a:lnTo>
                  <a:lnTo>
                    <a:pt x="20" y="328"/>
                  </a:lnTo>
                  <a:lnTo>
                    <a:pt x="18" y="330"/>
                  </a:lnTo>
                  <a:lnTo>
                    <a:pt x="18" y="330"/>
                  </a:lnTo>
                  <a:lnTo>
                    <a:pt x="18" y="318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0" y="272"/>
                  </a:lnTo>
                  <a:lnTo>
                    <a:pt x="20" y="272"/>
                  </a:lnTo>
                  <a:lnTo>
                    <a:pt x="20" y="262"/>
                  </a:lnTo>
                  <a:lnTo>
                    <a:pt x="24" y="252"/>
                  </a:lnTo>
                  <a:lnTo>
                    <a:pt x="30" y="242"/>
                  </a:lnTo>
                  <a:lnTo>
                    <a:pt x="38" y="234"/>
                  </a:lnTo>
                  <a:lnTo>
                    <a:pt x="38" y="234"/>
                  </a:lnTo>
                  <a:lnTo>
                    <a:pt x="38" y="228"/>
                  </a:lnTo>
                  <a:lnTo>
                    <a:pt x="38" y="228"/>
                  </a:lnTo>
                  <a:lnTo>
                    <a:pt x="34" y="208"/>
                  </a:lnTo>
                  <a:lnTo>
                    <a:pt x="34" y="20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2" y="172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42" y="162"/>
                  </a:lnTo>
                  <a:lnTo>
                    <a:pt x="50" y="166"/>
                  </a:lnTo>
                  <a:lnTo>
                    <a:pt x="56" y="170"/>
                  </a:lnTo>
                  <a:lnTo>
                    <a:pt x="66" y="170"/>
                  </a:lnTo>
                  <a:lnTo>
                    <a:pt x="68" y="170"/>
                  </a:lnTo>
                  <a:lnTo>
                    <a:pt x="68" y="170"/>
                  </a:lnTo>
                  <a:lnTo>
                    <a:pt x="72" y="164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4" y="144"/>
                  </a:lnTo>
                  <a:lnTo>
                    <a:pt x="90" y="132"/>
                  </a:lnTo>
                  <a:lnTo>
                    <a:pt x="98" y="118"/>
                  </a:lnTo>
                  <a:lnTo>
                    <a:pt x="106" y="108"/>
                  </a:lnTo>
                  <a:lnTo>
                    <a:pt x="110" y="104"/>
                  </a:lnTo>
                  <a:lnTo>
                    <a:pt x="110" y="104"/>
                  </a:lnTo>
                  <a:lnTo>
                    <a:pt x="112" y="94"/>
                  </a:lnTo>
                  <a:lnTo>
                    <a:pt x="118" y="74"/>
                  </a:lnTo>
                  <a:lnTo>
                    <a:pt x="126" y="74"/>
                  </a:lnTo>
                  <a:lnTo>
                    <a:pt x="130" y="68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8" y="32"/>
                  </a:lnTo>
                  <a:lnTo>
                    <a:pt x="186" y="24"/>
                  </a:lnTo>
                  <a:lnTo>
                    <a:pt x="186" y="24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04" y="12"/>
                  </a:lnTo>
                  <a:lnTo>
                    <a:pt x="23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2" y="2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6" y="10"/>
                  </a:lnTo>
                  <a:lnTo>
                    <a:pt x="276" y="10"/>
                  </a:lnTo>
                  <a:lnTo>
                    <a:pt x="290" y="20"/>
                  </a:lnTo>
                  <a:lnTo>
                    <a:pt x="304" y="28"/>
                  </a:lnTo>
                  <a:lnTo>
                    <a:pt x="324" y="44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36" y="60"/>
                  </a:lnTo>
                  <a:lnTo>
                    <a:pt x="346" y="74"/>
                  </a:lnTo>
                  <a:lnTo>
                    <a:pt x="350" y="92"/>
                  </a:lnTo>
                  <a:lnTo>
                    <a:pt x="352" y="110"/>
                  </a:lnTo>
                  <a:lnTo>
                    <a:pt x="348" y="122"/>
                  </a:lnTo>
                  <a:lnTo>
                    <a:pt x="352" y="162"/>
                  </a:lnTo>
                  <a:lnTo>
                    <a:pt x="342" y="170"/>
                  </a:lnTo>
                  <a:lnTo>
                    <a:pt x="330" y="202"/>
                  </a:lnTo>
                  <a:lnTo>
                    <a:pt x="306" y="228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268" y="27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30" y="300"/>
                  </a:lnTo>
                  <a:lnTo>
                    <a:pt x="222" y="304"/>
                  </a:lnTo>
                  <a:lnTo>
                    <a:pt x="212" y="308"/>
                  </a:lnTo>
                  <a:lnTo>
                    <a:pt x="202" y="310"/>
                  </a:lnTo>
                  <a:lnTo>
                    <a:pt x="198" y="310"/>
                  </a:lnTo>
                  <a:lnTo>
                    <a:pt x="176" y="324"/>
                  </a:lnTo>
                  <a:lnTo>
                    <a:pt x="156" y="324"/>
                  </a:lnTo>
                  <a:lnTo>
                    <a:pt x="128" y="336"/>
                  </a:lnTo>
                  <a:lnTo>
                    <a:pt x="106" y="326"/>
                  </a:lnTo>
                  <a:lnTo>
                    <a:pt x="104" y="326"/>
                  </a:lnTo>
                  <a:lnTo>
                    <a:pt x="104" y="326"/>
                  </a:lnTo>
                  <a:lnTo>
                    <a:pt x="100" y="354"/>
                  </a:lnTo>
                  <a:lnTo>
                    <a:pt x="90" y="362"/>
                  </a:lnTo>
                  <a:lnTo>
                    <a:pt x="88" y="376"/>
                  </a:lnTo>
                  <a:lnTo>
                    <a:pt x="82" y="398"/>
                  </a:lnTo>
                  <a:lnTo>
                    <a:pt x="82" y="398"/>
                  </a:lnTo>
                  <a:lnTo>
                    <a:pt x="84" y="436"/>
                  </a:lnTo>
                  <a:lnTo>
                    <a:pt x="80" y="440"/>
                  </a:lnTo>
                  <a:lnTo>
                    <a:pt x="80" y="440"/>
                  </a:lnTo>
                  <a:lnTo>
                    <a:pt x="80" y="462"/>
                  </a:lnTo>
                  <a:lnTo>
                    <a:pt x="80" y="462"/>
                  </a:lnTo>
                  <a:lnTo>
                    <a:pt x="78" y="466"/>
                  </a:lnTo>
                  <a:lnTo>
                    <a:pt x="78" y="466"/>
                  </a:lnTo>
                  <a:lnTo>
                    <a:pt x="78" y="470"/>
                  </a:lnTo>
                  <a:lnTo>
                    <a:pt x="78" y="470"/>
                  </a:lnTo>
                  <a:lnTo>
                    <a:pt x="78" y="474"/>
                  </a:lnTo>
                  <a:lnTo>
                    <a:pt x="80" y="478"/>
                  </a:lnTo>
                  <a:lnTo>
                    <a:pt x="88" y="486"/>
                  </a:lnTo>
                  <a:lnTo>
                    <a:pt x="88" y="486"/>
                  </a:lnTo>
                  <a:lnTo>
                    <a:pt x="92" y="498"/>
                  </a:lnTo>
                  <a:lnTo>
                    <a:pt x="96" y="502"/>
                  </a:lnTo>
                  <a:lnTo>
                    <a:pt x="100" y="504"/>
                  </a:lnTo>
                  <a:lnTo>
                    <a:pt x="108" y="512"/>
                  </a:lnTo>
                  <a:lnTo>
                    <a:pt x="134" y="518"/>
                  </a:lnTo>
                  <a:lnTo>
                    <a:pt x="134" y="522"/>
                  </a:lnTo>
                  <a:lnTo>
                    <a:pt x="144" y="526"/>
                  </a:lnTo>
                  <a:lnTo>
                    <a:pt x="184" y="526"/>
                  </a:lnTo>
                  <a:lnTo>
                    <a:pt x="208" y="522"/>
                  </a:lnTo>
                  <a:lnTo>
                    <a:pt x="220" y="514"/>
                  </a:lnTo>
                  <a:lnTo>
                    <a:pt x="228" y="510"/>
                  </a:lnTo>
                  <a:lnTo>
                    <a:pt x="238" y="492"/>
                  </a:lnTo>
                  <a:lnTo>
                    <a:pt x="244" y="492"/>
                  </a:lnTo>
                  <a:lnTo>
                    <a:pt x="274" y="482"/>
                  </a:lnTo>
                  <a:lnTo>
                    <a:pt x="274" y="482"/>
                  </a:lnTo>
                  <a:lnTo>
                    <a:pt x="280" y="474"/>
                  </a:lnTo>
                  <a:lnTo>
                    <a:pt x="290" y="468"/>
                  </a:lnTo>
                  <a:lnTo>
                    <a:pt x="294" y="462"/>
                  </a:lnTo>
                  <a:lnTo>
                    <a:pt x="294" y="462"/>
                  </a:lnTo>
                  <a:lnTo>
                    <a:pt x="304" y="458"/>
                  </a:lnTo>
                  <a:lnTo>
                    <a:pt x="312" y="452"/>
                  </a:lnTo>
                  <a:lnTo>
                    <a:pt x="318" y="446"/>
                  </a:lnTo>
                  <a:lnTo>
                    <a:pt x="322" y="436"/>
                  </a:lnTo>
                  <a:lnTo>
                    <a:pt x="322" y="436"/>
                  </a:lnTo>
                  <a:lnTo>
                    <a:pt x="330" y="428"/>
                  </a:lnTo>
                  <a:lnTo>
                    <a:pt x="340" y="424"/>
                  </a:lnTo>
                  <a:lnTo>
                    <a:pt x="352" y="420"/>
                  </a:lnTo>
                  <a:lnTo>
                    <a:pt x="364" y="418"/>
                  </a:lnTo>
                  <a:lnTo>
                    <a:pt x="368" y="418"/>
                  </a:lnTo>
                  <a:lnTo>
                    <a:pt x="368" y="418"/>
                  </a:lnTo>
                  <a:lnTo>
                    <a:pt x="378" y="432"/>
                  </a:lnTo>
                  <a:lnTo>
                    <a:pt x="386" y="444"/>
                  </a:lnTo>
                  <a:lnTo>
                    <a:pt x="390" y="454"/>
                  </a:lnTo>
                  <a:lnTo>
                    <a:pt x="392" y="462"/>
                  </a:lnTo>
                  <a:lnTo>
                    <a:pt x="392" y="462"/>
                  </a:lnTo>
                  <a:close/>
                  <a:moveTo>
                    <a:pt x="274" y="112"/>
                  </a:moveTo>
                  <a:lnTo>
                    <a:pt x="274" y="112"/>
                  </a:lnTo>
                  <a:lnTo>
                    <a:pt x="270" y="96"/>
                  </a:lnTo>
                  <a:lnTo>
                    <a:pt x="264" y="96"/>
                  </a:lnTo>
                  <a:lnTo>
                    <a:pt x="262" y="96"/>
                  </a:lnTo>
                  <a:lnTo>
                    <a:pt x="262" y="96"/>
                  </a:lnTo>
                  <a:lnTo>
                    <a:pt x="256" y="96"/>
                  </a:lnTo>
                  <a:lnTo>
                    <a:pt x="256" y="96"/>
                  </a:lnTo>
                  <a:lnTo>
                    <a:pt x="252" y="98"/>
                  </a:lnTo>
                  <a:lnTo>
                    <a:pt x="252" y="98"/>
                  </a:lnTo>
                  <a:lnTo>
                    <a:pt x="248" y="96"/>
                  </a:lnTo>
                  <a:lnTo>
                    <a:pt x="248" y="96"/>
                  </a:lnTo>
                  <a:lnTo>
                    <a:pt x="244" y="96"/>
                  </a:lnTo>
                  <a:lnTo>
                    <a:pt x="232" y="106"/>
                  </a:lnTo>
                  <a:lnTo>
                    <a:pt x="222" y="106"/>
                  </a:lnTo>
                  <a:lnTo>
                    <a:pt x="216" y="110"/>
                  </a:lnTo>
                  <a:lnTo>
                    <a:pt x="196" y="136"/>
                  </a:lnTo>
                  <a:lnTo>
                    <a:pt x="182" y="146"/>
                  </a:lnTo>
                  <a:lnTo>
                    <a:pt x="164" y="180"/>
                  </a:lnTo>
                  <a:lnTo>
                    <a:pt x="154" y="188"/>
                  </a:lnTo>
                  <a:lnTo>
                    <a:pt x="154" y="188"/>
                  </a:lnTo>
                  <a:lnTo>
                    <a:pt x="150" y="198"/>
                  </a:lnTo>
                  <a:lnTo>
                    <a:pt x="148" y="206"/>
                  </a:lnTo>
                  <a:lnTo>
                    <a:pt x="142" y="214"/>
                  </a:lnTo>
                  <a:lnTo>
                    <a:pt x="136" y="222"/>
                  </a:lnTo>
                  <a:lnTo>
                    <a:pt x="132" y="232"/>
                  </a:lnTo>
                  <a:lnTo>
                    <a:pt x="132" y="232"/>
                  </a:lnTo>
                  <a:lnTo>
                    <a:pt x="146" y="224"/>
                  </a:lnTo>
                  <a:lnTo>
                    <a:pt x="162" y="222"/>
                  </a:lnTo>
                  <a:lnTo>
                    <a:pt x="170" y="218"/>
                  </a:lnTo>
                  <a:lnTo>
                    <a:pt x="174" y="208"/>
                  </a:lnTo>
                  <a:lnTo>
                    <a:pt x="190" y="210"/>
                  </a:lnTo>
                  <a:lnTo>
                    <a:pt x="200" y="194"/>
                  </a:lnTo>
                  <a:lnTo>
                    <a:pt x="206" y="194"/>
                  </a:lnTo>
                  <a:lnTo>
                    <a:pt x="220" y="200"/>
                  </a:lnTo>
                  <a:lnTo>
                    <a:pt x="226" y="182"/>
                  </a:lnTo>
                  <a:lnTo>
                    <a:pt x="234" y="182"/>
                  </a:lnTo>
                  <a:lnTo>
                    <a:pt x="234" y="168"/>
                  </a:lnTo>
                  <a:lnTo>
                    <a:pt x="250" y="164"/>
                  </a:lnTo>
                  <a:lnTo>
                    <a:pt x="254" y="160"/>
                  </a:lnTo>
                  <a:lnTo>
                    <a:pt x="256" y="150"/>
                  </a:lnTo>
                  <a:lnTo>
                    <a:pt x="272" y="126"/>
                  </a:lnTo>
                  <a:lnTo>
                    <a:pt x="272" y="126"/>
                  </a:lnTo>
                  <a:lnTo>
                    <a:pt x="272" y="120"/>
                  </a:lnTo>
                  <a:lnTo>
                    <a:pt x="274" y="112"/>
                  </a:lnTo>
                  <a:lnTo>
                    <a:pt x="274" y="112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23099400" y="4054320"/>
              <a:ext cx="790560" cy="8794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498" h="554">
                  <a:moveTo>
                    <a:pt x="498" y="434"/>
                  </a:moveTo>
                  <a:lnTo>
                    <a:pt x="484" y="452"/>
                  </a:lnTo>
                  <a:lnTo>
                    <a:pt x="470" y="484"/>
                  </a:lnTo>
                  <a:lnTo>
                    <a:pt x="460" y="490"/>
                  </a:lnTo>
                  <a:lnTo>
                    <a:pt x="452" y="508"/>
                  </a:lnTo>
                  <a:lnTo>
                    <a:pt x="428" y="510"/>
                  </a:lnTo>
                  <a:lnTo>
                    <a:pt x="414" y="526"/>
                  </a:lnTo>
                  <a:lnTo>
                    <a:pt x="390" y="526"/>
                  </a:lnTo>
                  <a:lnTo>
                    <a:pt x="376" y="538"/>
                  </a:lnTo>
                  <a:lnTo>
                    <a:pt x="362" y="534"/>
                  </a:lnTo>
                  <a:lnTo>
                    <a:pt x="346" y="538"/>
                  </a:lnTo>
                  <a:lnTo>
                    <a:pt x="346" y="548"/>
                  </a:lnTo>
                  <a:lnTo>
                    <a:pt x="302" y="544"/>
                  </a:lnTo>
                  <a:lnTo>
                    <a:pt x="284" y="544"/>
                  </a:lnTo>
                  <a:lnTo>
                    <a:pt x="270" y="554"/>
                  </a:lnTo>
                  <a:lnTo>
                    <a:pt x="258" y="546"/>
                  </a:lnTo>
                  <a:lnTo>
                    <a:pt x="258" y="546"/>
                  </a:lnTo>
                  <a:lnTo>
                    <a:pt x="276" y="544"/>
                  </a:lnTo>
                  <a:lnTo>
                    <a:pt x="276" y="544"/>
                  </a:lnTo>
                  <a:lnTo>
                    <a:pt x="220" y="548"/>
                  </a:lnTo>
                  <a:lnTo>
                    <a:pt x="216" y="546"/>
                  </a:lnTo>
                  <a:lnTo>
                    <a:pt x="206" y="544"/>
                  </a:lnTo>
                  <a:lnTo>
                    <a:pt x="190" y="554"/>
                  </a:lnTo>
                  <a:lnTo>
                    <a:pt x="190" y="554"/>
                  </a:lnTo>
                  <a:lnTo>
                    <a:pt x="164" y="546"/>
                  </a:lnTo>
                  <a:lnTo>
                    <a:pt x="164" y="546"/>
                  </a:lnTo>
                  <a:lnTo>
                    <a:pt x="130" y="544"/>
                  </a:lnTo>
                  <a:lnTo>
                    <a:pt x="120" y="544"/>
                  </a:lnTo>
                  <a:lnTo>
                    <a:pt x="120" y="544"/>
                  </a:lnTo>
                  <a:lnTo>
                    <a:pt x="112" y="542"/>
                  </a:lnTo>
                  <a:lnTo>
                    <a:pt x="102" y="542"/>
                  </a:lnTo>
                  <a:lnTo>
                    <a:pt x="102" y="542"/>
                  </a:lnTo>
                  <a:lnTo>
                    <a:pt x="92" y="542"/>
                  </a:lnTo>
                  <a:lnTo>
                    <a:pt x="84" y="544"/>
                  </a:lnTo>
                  <a:lnTo>
                    <a:pt x="66" y="534"/>
                  </a:lnTo>
                  <a:lnTo>
                    <a:pt x="58" y="532"/>
                  </a:lnTo>
                  <a:lnTo>
                    <a:pt x="58" y="532"/>
                  </a:lnTo>
                  <a:lnTo>
                    <a:pt x="44" y="528"/>
                  </a:lnTo>
                  <a:lnTo>
                    <a:pt x="44" y="528"/>
                  </a:lnTo>
                  <a:lnTo>
                    <a:pt x="34" y="526"/>
                  </a:lnTo>
                  <a:lnTo>
                    <a:pt x="24" y="522"/>
                  </a:lnTo>
                  <a:lnTo>
                    <a:pt x="18" y="514"/>
                  </a:lnTo>
                  <a:lnTo>
                    <a:pt x="10" y="506"/>
                  </a:lnTo>
                  <a:lnTo>
                    <a:pt x="6" y="496"/>
                  </a:lnTo>
                  <a:lnTo>
                    <a:pt x="2" y="484"/>
                  </a:lnTo>
                  <a:lnTo>
                    <a:pt x="0" y="470"/>
                  </a:lnTo>
                  <a:lnTo>
                    <a:pt x="0" y="452"/>
                  </a:lnTo>
                  <a:lnTo>
                    <a:pt x="0" y="442"/>
                  </a:lnTo>
                  <a:lnTo>
                    <a:pt x="22" y="426"/>
                  </a:lnTo>
                  <a:lnTo>
                    <a:pt x="52" y="414"/>
                  </a:lnTo>
                  <a:lnTo>
                    <a:pt x="72" y="426"/>
                  </a:lnTo>
                  <a:lnTo>
                    <a:pt x="90" y="426"/>
                  </a:lnTo>
                  <a:lnTo>
                    <a:pt x="90" y="428"/>
                  </a:lnTo>
                  <a:lnTo>
                    <a:pt x="90" y="428"/>
                  </a:lnTo>
                  <a:lnTo>
                    <a:pt x="94" y="432"/>
                  </a:lnTo>
                  <a:lnTo>
                    <a:pt x="100" y="436"/>
                  </a:lnTo>
                  <a:lnTo>
                    <a:pt x="108" y="448"/>
                  </a:lnTo>
                  <a:lnTo>
                    <a:pt x="118" y="450"/>
                  </a:lnTo>
                  <a:lnTo>
                    <a:pt x="118" y="466"/>
                  </a:lnTo>
                  <a:lnTo>
                    <a:pt x="134" y="470"/>
                  </a:lnTo>
                  <a:lnTo>
                    <a:pt x="136" y="472"/>
                  </a:lnTo>
                  <a:lnTo>
                    <a:pt x="290" y="462"/>
                  </a:lnTo>
                  <a:lnTo>
                    <a:pt x="326" y="456"/>
                  </a:lnTo>
                  <a:lnTo>
                    <a:pt x="330" y="456"/>
                  </a:lnTo>
                  <a:lnTo>
                    <a:pt x="332" y="450"/>
                  </a:lnTo>
                  <a:lnTo>
                    <a:pt x="348" y="448"/>
                  </a:lnTo>
                  <a:lnTo>
                    <a:pt x="352" y="444"/>
                  </a:lnTo>
                  <a:lnTo>
                    <a:pt x="352" y="444"/>
                  </a:lnTo>
                  <a:lnTo>
                    <a:pt x="376" y="438"/>
                  </a:lnTo>
                  <a:lnTo>
                    <a:pt x="398" y="428"/>
                  </a:lnTo>
                  <a:lnTo>
                    <a:pt x="398" y="422"/>
                  </a:lnTo>
                  <a:lnTo>
                    <a:pt x="398" y="422"/>
                  </a:lnTo>
                  <a:lnTo>
                    <a:pt x="394" y="414"/>
                  </a:lnTo>
                  <a:lnTo>
                    <a:pt x="388" y="416"/>
                  </a:lnTo>
                  <a:lnTo>
                    <a:pt x="372" y="404"/>
                  </a:lnTo>
                  <a:lnTo>
                    <a:pt x="362" y="404"/>
                  </a:lnTo>
                  <a:lnTo>
                    <a:pt x="356" y="394"/>
                  </a:lnTo>
                  <a:lnTo>
                    <a:pt x="360" y="390"/>
                  </a:lnTo>
                  <a:lnTo>
                    <a:pt x="346" y="392"/>
                  </a:lnTo>
                  <a:lnTo>
                    <a:pt x="336" y="382"/>
                  </a:lnTo>
                  <a:lnTo>
                    <a:pt x="336" y="382"/>
                  </a:lnTo>
                  <a:lnTo>
                    <a:pt x="326" y="382"/>
                  </a:lnTo>
                  <a:lnTo>
                    <a:pt x="326" y="382"/>
                  </a:lnTo>
                  <a:lnTo>
                    <a:pt x="310" y="380"/>
                  </a:lnTo>
                  <a:lnTo>
                    <a:pt x="294" y="376"/>
                  </a:lnTo>
                  <a:lnTo>
                    <a:pt x="284" y="376"/>
                  </a:lnTo>
                  <a:lnTo>
                    <a:pt x="276" y="372"/>
                  </a:lnTo>
                  <a:lnTo>
                    <a:pt x="258" y="378"/>
                  </a:lnTo>
                  <a:lnTo>
                    <a:pt x="248" y="368"/>
                  </a:lnTo>
                  <a:lnTo>
                    <a:pt x="246" y="368"/>
                  </a:lnTo>
                  <a:lnTo>
                    <a:pt x="228" y="354"/>
                  </a:lnTo>
                  <a:lnTo>
                    <a:pt x="192" y="340"/>
                  </a:lnTo>
                  <a:lnTo>
                    <a:pt x="180" y="330"/>
                  </a:lnTo>
                  <a:lnTo>
                    <a:pt x="134" y="322"/>
                  </a:lnTo>
                  <a:lnTo>
                    <a:pt x="130" y="312"/>
                  </a:lnTo>
                  <a:lnTo>
                    <a:pt x="96" y="290"/>
                  </a:lnTo>
                  <a:lnTo>
                    <a:pt x="78" y="250"/>
                  </a:lnTo>
                  <a:lnTo>
                    <a:pt x="64" y="230"/>
                  </a:lnTo>
                  <a:lnTo>
                    <a:pt x="60" y="166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6" y="146"/>
                  </a:lnTo>
                  <a:lnTo>
                    <a:pt x="70" y="132"/>
                  </a:lnTo>
                  <a:lnTo>
                    <a:pt x="76" y="122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92" y="104"/>
                  </a:lnTo>
                  <a:lnTo>
                    <a:pt x="96" y="98"/>
                  </a:lnTo>
                  <a:lnTo>
                    <a:pt x="100" y="90"/>
                  </a:lnTo>
                  <a:lnTo>
                    <a:pt x="102" y="82"/>
                  </a:lnTo>
                  <a:lnTo>
                    <a:pt x="120" y="78"/>
                  </a:lnTo>
                  <a:lnTo>
                    <a:pt x="120" y="78"/>
                  </a:lnTo>
                  <a:lnTo>
                    <a:pt x="126" y="70"/>
                  </a:lnTo>
                  <a:lnTo>
                    <a:pt x="138" y="60"/>
                  </a:lnTo>
                  <a:lnTo>
                    <a:pt x="156" y="46"/>
                  </a:lnTo>
                  <a:lnTo>
                    <a:pt x="230" y="16"/>
                  </a:lnTo>
                  <a:lnTo>
                    <a:pt x="244" y="12"/>
                  </a:lnTo>
                  <a:lnTo>
                    <a:pt x="268" y="10"/>
                  </a:lnTo>
                  <a:lnTo>
                    <a:pt x="308" y="0"/>
                  </a:lnTo>
                  <a:lnTo>
                    <a:pt x="382" y="4"/>
                  </a:lnTo>
                  <a:lnTo>
                    <a:pt x="384" y="10"/>
                  </a:lnTo>
                  <a:lnTo>
                    <a:pt x="384" y="10"/>
                  </a:lnTo>
                  <a:lnTo>
                    <a:pt x="396" y="18"/>
                  </a:lnTo>
                  <a:lnTo>
                    <a:pt x="408" y="30"/>
                  </a:lnTo>
                  <a:lnTo>
                    <a:pt x="408" y="36"/>
                  </a:lnTo>
                  <a:lnTo>
                    <a:pt x="428" y="48"/>
                  </a:lnTo>
                  <a:lnTo>
                    <a:pt x="420" y="78"/>
                  </a:lnTo>
                  <a:lnTo>
                    <a:pt x="416" y="88"/>
                  </a:lnTo>
                  <a:lnTo>
                    <a:pt x="416" y="88"/>
                  </a:lnTo>
                  <a:lnTo>
                    <a:pt x="412" y="102"/>
                  </a:lnTo>
                  <a:lnTo>
                    <a:pt x="404" y="112"/>
                  </a:lnTo>
                  <a:lnTo>
                    <a:pt x="396" y="118"/>
                  </a:lnTo>
                  <a:lnTo>
                    <a:pt x="384" y="118"/>
                  </a:lnTo>
                  <a:lnTo>
                    <a:pt x="384" y="118"/>
                  </a:lnTo>
                  <a:lnTo>
                    <a:pt x="374" y="118"/>
                  </a:lnTo>
                  <a:lnTo>
                    <a:pt x="364" y="114"/>
                  </a:lnTo>
                  <a:lnTo>
                    <a:pt x="358" y="108"/>
                  </a:lnTo>
                  <a:lnTo>
                    <a:pt x="352" y="98"/>
                  </a:lnTo>
                  <a:lnTo>
                    <a:pt x="352" y="94"/>
                  </a:lnTo>
                  <a:lnTo>
                    <a:pt x="338" y="94"/>
                  </a:lnTo>
                  <a:lnTo>
                    <a:pt x="320" y="100"/>
                  </a:lnTo>
                  <a:lnTo>
                    <a:pt x="304" y="88"/>
                  </a:lnTo>
                  <a:lnTo>
                    <a:pt x="296" y="94"/>
                  </a:lnTo>
                  <a:lnTo>
                    <a:pt x="296" y="94"/>
                  </a:lnTo>
                  <a:lnTo>
                    <a:pt x="288" y="94"/>
                  </a:lnTo>
                  <a:lnTo>
                    <a:pt x="282" y="96"/>
                  </a:lnTo>
                  <a:lnTo>
                    <a:pt x="274" y="100"/>
                  </a:lnTo>
                  <a:lnTo>
                    <a:pt x="268" y="104"/>
                  </a:lnTo>
                  <a:lnTo>
                    <a:pt x="268" y="104"/>
                  </a:lnTo>
                  <a:lnTo>
                    <a:pt x="258" y="104"/>
                  </a:lnTo>
                  <a:lnTo>
                    <a:pt x="250" y="108"/>
                  </a:lnTo>
                  <a:lnTo>
                    <a:pt x="242" y="112"/>
                  </a:lnTo>
                  <a:lnTo>
                    <a:pt x="234" y="118"/>
                  </a:lnTo>
                  <a:lnTo>
                    <a:pt x="218" y="118"/>
                  </a:lnTo>
                  <a:lnTo>
                    <a:pt x="206" y="126"/>
                  </a:lnTo>
                  <a:lnTo>
                    <a:pt x="190" y="130"/>
                  </a:lnTo>
                  <a:lnTo>
                    <a:pt x="188" y="132"/>
                  </a:lnTo>
                  <a:lnTo>
                    <a:pt x="180" y="136"/>
                  </a:lnTo>
                  <a:lnTo>
                    <a:pt x="170" y="146"/>
                  </a:lnTo>
                  <a:lnTo>
                    <a:pt x="166" y="148"/>
                  </a:lnTo>
                  <a:lnTo>
                    <a:pt x="156" y="166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138" y="188"/>
                  </a:lnTo>
                  <a:lnTo>
                    <a:pt x="136" y="200"/>
                  </a:lnTo>
                  <a:lnTo>
                    <a:pt x="136" y="200"/>
                  </a:lnTo>
                  <a:lnTo>
                    <a:pt x="138" y="214"/>
                  </a:lnTo>
                  <a:lnTo>
                    <a:pt x="142" y="222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58" y="234"/>
                  </a:lnTo>
                  <a:lnTo>
                    <a:pt x="158" y="240"/>
                  </a:lnTo>
                  <a:lnTo>
                    <a:pt x="172" y="248"/>
                  </a:lnTo>
                  <a:lnTo>
                    <a:pt x="172" y="248"/>
                  </a:lnTo>
                  <a:lnTo>
                    <a:pt x="190" y="256"/>
                  </a:lnTo>
                  <a:lnTo>
                    <a:pt x="202" y="264"/>
                  </a:lnTo>
                  <a:lnTo>
                    <a:pt x="226" y="264"/>
                  </a:lnTo>
                  <a:lnTo>
                    <a:pt x="240" y="278"/>
                  </a:lnTo>
                  <a:lnTo>
                    <a:pt x="268" y="282"/>
                  </a:lnTo>
                  <a:lnTo>
                    <a:pt x="278" y="288"/>
                  </a:lnTo>
                  <a:lnTo>
                    <a:pt x="324" y="302"/>
                  </a:lnTo>
                  <a:lnTo>
                    <a:pt x="330" y="316"/>
                  </a:lnTo>
                  <a:lnTo>
                    <a:pt x="336" y="306"/>
                  </a:lnTo>
                  <a:lnTo>
                    <a:pt x="336" y="306"/>
                  </a:lnTo>
                  <a:lnTo>
                    <a:pt x="344" y="308"/>
                  </a:lnTo>
                  <a:lnTo>
                    <a:pt x="354" y="310"/>
                  </a:lnTo>
                  <a:lnTo>
                    <a:pt x="378" y="322"/>
                  </a:lnTo>
                  <a:lnTo>
                    <a:pt x="398" y="326"/>
                  </a:lnTo>
                  <a:lnTo>
                    <a:pt x="402" y="334"/>
                  </a:lnTo>
                  <a:lnTo>
                    <a:pt x="420" y="334"/>
                  </a:lnTo>
                  <a:lnTo>
                    <a:pt x="454" y="354"/>
                  </a:lnTo>
                  <a:lnTo>
                    <a:pt x="454" y="354"/>
                  </a:lnTo>
                  <a:lnTo>
                    <a:pt x="458" y="360"/>
                  </a:lnTo>
                  <a:lnTo>
                    <a:pt x="464" y="368"/>
                  </a:lnTo>
                  <a:lnTo>
                    <a:pt x="470" y="376"/>
                  </a:lnTo>
                  <a:lnTo>
                    <a:pt x="480" y="382"/>
                  </a:lnTo>
                  <a:lnTo>
                    <a:pt x="492" y="390"/>
                  </a:lnTo>
                  <a:lnTo>
                    <a:pt x="490" y="406"/>
                  </a:lnTo>
                  <a:lnTo>
                    <a:pt x="490" y="406"/>
                  </a:lnTo>
                  <a:lnTo>
                    <a:pt x="496" y="418"/>
                  </a:lnTo>
                  <a:lnTo>
                    <a:pt x="498" y="432"/>
                  </a:lnTo>
                  <a:lnTo>
                    <a:pt x="498" y="434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24080760" y="3819600"/>
              <a:ext cx="304560" cy="4255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92" h="268">
                  <a:moveTo>
                    <a:pt x="192" y="46"/>
                  </a:moveTo>
                  <a:lnTo>
                    <a:pt x="178" y="76"/>
                  </a:lnTo>
                  <a:lnTo>
                    <a:pt x="174" y="96"/>
                  </a:lnTo>
                  <a:lnTo>
                    <a:pt x="166" y="100"/>
                  </a:lnTo>
                  <a:lnTo>
                    <a:pt x="154" y="110"/>
                  </a:lnTo>
                  <a:lnTo>
                    <a:pt x="158" y="116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8" y="124"/>
                  </a:lnTo>
                  <a:lnTo>
                    <a:pt x="130" y="138"/>
                  </a:lnTo>
                  <a:lnTo>
                    <a:pt x="116" y="160"/>
                  </a:lnTo>
                  <a:lnTo>
                    <a:pt x="102" y="180"/>
                  </a:lnTo>
                  <a:lnTo>
                    <a:pt x="86" y="192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2" y="204"/>
                  </a:lnTo>
                  <a:lnTo>
                    <a:pt x="78" y="210"/>
                  </a:lnTo>
                  <a:lnTo>
                    <a:pt x="74" y="218"/>
                  </a:lnTo>
                  <a:lnTo>
                    <a:pt x="66" y="224"/>
                  </a:lnTo>
                  <a:lnTo>
                    <a:pt x="64" y="240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40" y="262"/>
                  </a:lnTo>
                  <a:lnTo>
                    <a:pt x="32" y="266"/>
                  </a:lnTo>
                  <a:lnTo>
                    <a:pt x="24" y="268"/>
                  </a:lnTo>
                  <a:lnTo>
                    <a:pt x="16" y="268"/>
                  </a:lnTo>
                  <a:lnTo>
                    <a:pt x="16" y="268"/>
                  </a:lnTo>
                  <a:lnTo>
                    <a:pt x="10" y="268"/>
                  </a:lnTo>
                  <a:lnTo>
                    <a:pt x="10" y="268"/>
                  </a:lnTo>
                  <a:lnTo>
                    <a:pt x="2" y="268"/>
                  </a:lnTo>
                  <a:lnTo>
                    <a:pt x="0" y="226"/>
                  </a:lnTo>
                  <a:lnTo>
                    <a:pt x="2" y="214"/>
                  </a:lnTo>
                  <a:lnTo>
                    <a:pt x="2" y="214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12" y="186"/>
                  </a:lnTo>
                  <a:lnTo>
                    <a:pt x="20" y="178"/>
                  </a:lnTo>
                  <a:lnTo>
                    <a:pt x="26" y="164"/>
                  </a:lnTo>
                  <a:lnTo>
                    <a:pt x="34" y="160"/>
                  </a:lnTo>
                  <a:lnTo>
                    <a:pt x="30" y="138"/>
                  </a:lnTo>
                  <a:lnTo>
                    <a:pt x="42" y="130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6" y="118"/>
                  </a:lnTo>
                  <a:lnTo>
                    <a:pt x="50" y="112"/>
                  </a:lnTo>
                  <a:lnTo>
                    <a:pt x="48" y="100"/>
                  </a:lnTo>
                  <a:lnTo>
                    <a:pt x="56" y="90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66" y="58"/>
                  </a:lnTo>
                  <a:lnTo>
                    <a:pt x="64" y="54"/>
                  </a:lnTo>
                  <a:lnTo>
                    <a:pt x="64" y="4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82" y="14"/>
                  </a:lnTo>
                  <a:lnTo>
                    <a:pt x="90" y="6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58" y="8"/>
                  </a:lnTo>
                  <a:lnTo>
                    <a:pt x="178" y="14"/>
                  </a:lnTo>
                  <a:lnTo>
                    <a:pt x="186" y="28"/>
                  </a:lnTo>
                  <a:lnTo>
                    <a:pt x="192" y="4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25328520" y="3889440"/>
              <a:ext cx="1349280" cy="103500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850" h="652">
                  <a:moveTo>
                    <a:pt x="850" y="496"/>
                  </a:moveTo>
                  <a:lnTo>
                    <a:pt x="850" y="496"/>
                  </a:lnTo>
                  <a:lnTo>
                    <a:pt x="848" y="504"/>
                  </a:lnTo>
                  <a:lnTo>
                    <a:pt x="846" y="512"/>
                  </a:lnTo>
                  <a:lnTo>
                    <a:pt x="842" y="522"/>
                  </a:lnTo>
                  <a:lnTo>
                    <a:pt x="834" y="532"/>
                  </a:lnTo>
                  <a:lnTo>
                    <a:pt x="834" y="532"/>
                  </a:lnTo>
                  <a:lnTo>
                    <a:pt x="824" y="544"/>
                  </a:lnTo>
                  <a:lnTo>
                    <a:pt x="814" y="554"/>
                  </a:lnTo>
                  <a:lnTo>
                    <a:pt x="802" y="564"/>
                  </a:lnTo>
                  <a:lnTo>
                    <a:pt x="788" y="572"/>
                  </a:lnTo>
                  <a:lnTo>
                    <a:pt x="788" y="572"/>
                  </a:lnTo>
                  <a:lnTo>
                    <a:pt x="778" y="578"/>
                  </a:lnTo>
                  <a:lnTo>
                    <a:pt x="768" y="582"/>
                  </a:lnTo>
                  <a:lnTo>
                    <a:pt x="768" y="582"/>
                  </a:lnTo>
                  <a:lnTo>
                    <a:pt x="758" y="588"/>
                  </a:lnTo>
                  <a:lnTo>
                    <a:pt x="746" y="592"/>
                  </a:lnTo>
                  <a:lnTo>
                    <a:pt x="736" y="596"/>
                  </a:lnTo>
                  <a:lnTo>
                    <a:pt x="726" y="598"/>
                  </a:lnTo>
                  <a:lnTo>
                    <a:pt x="726" y="598"/>
                  </a:lnTo>
                  <a:lnTo>
                    <a:pt x="714" y="606"/>
                  </a:lnTo>
                  <a:lnTo>
                    <a:pt x="698" y="614"/>
                  </a:lnTo>
                  <a:lnTo>
                    <a:pt x="676" y="614"/>
                  </a:lnTo>
                  <a:lnTo>
                    <a:pt x="654" y="630"/>
                  </a:lnTo>
                  <a:lnTo>
                    <a:pt x="632" y="626"/>
                  </a:lnTo>
                  <a:lnTo>
                    <a:pt x="624" y="626"/>
                  </a:lnTo>
                  <a:lnTo>
                    <a:pt x="606" y="630"/>
                  </a:lnTo>
                  <a:lnTo>
                    <a:pt x="606" y="630"/>
                  </a:lnTo>
                  <a:lnTo>
                    <a:pt x="578" y="632"/>
                  </a:lnTo>
                  <a:lnTo>
                    <a:pt x="578" y="632"/>
                  </a:lnTo>
                  <a:lnTo>
                    <a:pt x="568" y="630"/>
                  </a:lnTo>
                  <a:lnTo>
                    <a:pt x="568" y="630"/>
                  </a:lnTo>
                  <a:lnTo>
                    <a:pt x="560" y="630"/>
                  </a:lnTo>
                  <a:lnTo>
                    <a:pt x="542" y="636"/>
                  </a:lnTo>
                  <a:lnTo>
                    <a:pt x="518" y="638"/>
                  </a:lnTo>
                  <a:lnTo>
                    <a:pt x="492" y="638"/>
                  </a:lnTo>
                  <a:lnTo>
                    <a:pt x="478" y="646"/>
                  </a:lnTo>
                  <a:lnTo>
                    <a:pt x="482" y="652"/>
                  </a:lnTo>
                  <a:lnTo>
                    <a:pt x="482" y="652"/>
                  </a:lnTo>
                  <a:lnTo>
                    <a:pt x="440" y="652"/>
                  </a:lnTo>
                  <a:lnTo>
                    <a:pt x="434" y="652"/>
                  </a:lnTo>
                  <a:lnTo>
                    <a:pt x="384" y="646"/>
                  </a:lnTo>
                  <a:lnTo>
                    <a:pt x="316" y="644"/>
                  </a:lnTo>
                  <a:lnTo>
                    <a:pt x="292" y="638"/>
                  </a:lnTo>
                  <a:lnTo>
                    <a:pt x="292" y="638"/>
                  </a:lnTo>
                  <a:lnTo>
                    <a:pt x="282" y="644"/>
                  </a:lnTo>
                  <a:lnTo>
                    <a:pt x="268" y="646"/>
                  </a:lnTo>
                  <a:lnTo>
                    <a:pt x="268" y="646"/>
                  </a:lnTo>
                  <a:lnTo>
                    <a:pt x="260" y="646"/>
                  </a:lnTo>
                  <a:lnTo>
                    <a:pt x="250" y="644"/>
                  </a:lnTo>
                  <a:lnTo>
                    <a:pt x="234" y="636"/>
                  </a:lnTo>
                  <a:lnTo>
                    <a:pt x="210" y="644"/>
                  </a:lnTo>
                  <a:lnTo>
                    <a:pt x="198" y="632"/>
                  </a:lnTo>
                  <a:lnTo>
                    <a:pt x="198" y="632"/>
                  </a:lnTo>
                  <a:lnTo>
                    <a:pt x="176" y="632"/>
                  </a:lnTo>
                  <a:lnTo>
                    <a:pt x="158" y="630"/>
                  </a:lnTo>
                  <a:lnTo>
                    <a:pt x="148" y="626"/>
                  </a:lnTo>
                  <a:lnTo>
                    <a:pt x="140" y="624"/>
                  </a:lnTo>
                  <a:lnTo>
                    <a:pt x="136" y="620"/>
                  </a:lnTo>
                  <a:lnTo>
                    <a:pt x="136" y="620"/>
                  </a:lnTo>
                  <a:lnTo>
                    <a:pt x="116" y="624"/>
                  </a:lnTo>
                  <a:lnTo>
                    <a:pt x="68" y="592"/>
                  </a:lnTo>
                  <a:lnTo>
                    <a:pt x="48" y="586"/>
                  </a:lnTo>
                  <a:lnTo>
                    <a:pt x="48" y="586"/>
                  </a:lnTo>
                  <a:lnTo>
                    <a:pt x="38" y="580"/>
                  </a:lnTo>
                  <a:lnTo>
                    <a:pt x="28" y="574"/>
                  </a:lnTo>
                  <a:lnTo>
                    <a:pt x="20" y="564"/>
                  </a:lnTo>
                  <a:lnTo>
                    <a:pt x="12" y="552"/>
                  </a:lnTo>
                  <a:lnTo>
                    <a:pt x="12" y="552"/>
                  </a:lnTo>
                  <a:lnTo>
                    <a:pt x="8" y="542"/>
                  </a:lnTo>
                  <a:lnTo>
                    <a:pt x="4" y="532"/>
                  </a:lnTo>
                  <a:lnTo>
                    <a:pt x="2" y="522"/>
                  </a:lnTo>
                  <a:lnTo>
                    <a:pt x="0" y="512"/>
                  </a:lnTo>
                  <a:lnTo>
                    <a:pt x="0" y="512"/>
                  </a:lnTo>
                  <a:lnTo>
                    <a:pt x="4" y="494"/>
                  </a:lnTo>
                  <a:lnTo>
                    <a:pt x="12" y="464"/>
                  </a:lnTo>
                  <a:lnTo>
                    <a:pt x="36" y="438"/>
                  </a:lnTo>
                  <a:lnTo>
                    <a:pt x="66" y="438"/>
                  </a:lnTo>
                  <a:lnTo>
                    <a:pt x="66" y="438"/>
                  </a:lnTo>
                  <a:lnTo>
                    <a:pt x="70" y="432"/>
                  </a:lnTo>
                  <a:lnTo>
                    <a:pt x="76" y="428"/>
                  </a:lnTo>
                  <a:lnTo>
                    <a:pt x="84" y="426"/>
                  </a:lnTo>
                  <a:lnTo>
                    <a:pt x="92" y="426"/>
                  </a:lnTo>
                  <a:lnTo>
                    <a:pt x="92" y="426"/>
                  </a:lnTo>
                  <a:lnTo>
                    <a:pt x="102" y="426"/>
                  </a:lnTo>
                  <a:lnTo>
                    <a:pt x="110" y="430"/>
                  </a:lnTo>
                  <a:lnTo>
                    <a:pt x="116" y="434"/>
                  </a:lnTo>
                  <a:lnTo>
                    <a:pt x="122" y="442"/>
                  </a:lnTo>
                  <a:lnTo>
                    <a:pt x="126" y="450"/>
                  </a:lnTo>
                  <a:lnTo>
                    <a:pt x="128" y="460"/>
                  </a:lnTo>
                  <a:lnTo>
                    <a:pt x="130" y="474"/>
                  </a:lnTo>
                  <a:lnTo>
                    <a:pt x="130" y="488"/>
                  </a:lnTo>
                  <a:lnTo>
                    <a:pt x="130" y="488"/>
                  </a:lnTo>
                  <a:lnTo>
                    <a:pt x="110" y="494"/>
                  </a:lnTo>
                  <a:lnTo>
                    <a:pt x="100" y="498"/>
                  </a:lnTo>
                  <a:lnTo>
                    <a:pt x="100" y="498"/>
                  </a:lnTo>
                  <a:lnTo>
                    <a:pt x="94" y="506"/>
                  </a:lnTo>
                  <a:lnTo>
                    <a:pt x="84" y="514"/>
                  </a:lnTo>
                  <a:lnTo>
                    <a:pt x="84" y="518"/>
                  </a:lnTo>
                  <a:lnTo>
                    <a:pt x="94" y="524"/>
                  </a:lnTo>
                  <a:lnTo>
                    <a:pt x="108" y="538"/>
                  </a:lnTo>
                  <a:lnTo>
                    <a:pt x="154" y="536"/>
                  </a:lnTo>
                  <a:lnTo>
                    <a:pt x="194" y="548"/>
                  </a:lnTo>
                  <a:lnTo>
                    <a:pt x="256" y="548"/>
                  </a:lnTo>
                  <a:lnTo>
                    <a:pt x="278" y="564"/>
                  </a:lnTo>
                  <a:lnTo>
                    <a:pt x="290" y="556"/>
                  </a:lnTo>
                  <a:lnTo>
                    <a:pt x="290" y="556"/>
                  </a:lnTo>
                  <a:lnTo>
                    <a:pt x="298" y="558"/>
                  </a:lnTo>
                  <a:lnTo>
                    <a:pt x="306" y="560"/>
                  </a:lnTo>
                  <a:lnTo>
                    <a:pt x="338" y="566"/>
                  </a:lnTo>
                  <a:lnTo>
                    <a:pt x="340" y="574"/>
                  </a:lnTo>
                  <a:lnTo>
                    <a:pt x="360" y="574"/>
                  </a:lnTo>
                  <a:lnTo>
                    <a:pt x="360" y="574"/>
                  </a:lnTo>
                  <a:lnTo>
                    <a:pt x="390" y="564"/>
                  </a:lnTo>
                  <a:lnTo>
                    <a:pt x="390" y="564"/>
                  </a:lnTo>
                  <a:lnTo>
                    <a:pt x="404" y="564"/>
                  </a:lnTo>
                  <a:lnTo>
                    <a:pt x="404" y="564"/>
                  </a:lnTo>
                  <a:lnTo>
                    <a:pt x="432" y="564"/>
                  </a:lnTo>
                  <a:lnTo>
                    <a:pt x="432" y="564"/>
                  </a:lnTo>
                  <a:lnTo>
                    <a:pt x="454" y="564"/>
                  </a:lnTo>
                  <a:lnTo>
                    <a:pt x="454" y="564"/>
                  </a:lnTo>
                  <a:lnTo>
                    <a:pt x="472" y="564"/>
                  </a:lnTo>
                  <a:lnTo>
                    <a:pt x="472" y="564"/>
                  </a:lnTo>
                  <a:lnTo>
                    <a:pt x="496" y="564"/>
                  </a:lnTo>
                  <a:lnTo>
                    <a:pt x="522" y="556"/>
                  </a:lnTo>
                  <a:lnTo>
                    <a:pt x="534" y="542"/>
                  </a:lnTo>
                  <a:lnTo>
                    <a:pt x="580" y="548"/>
                  </a:lnTo>
                  <a:lnTo>
                    <a:pt x="580" y="548"/>
                  </a:lnTo>
                  <a:lnTo>
                    <a:pt x="610" y="540"/>
                  </a:lnTo>
                  <a:lnTo>
                    <a:pt x="634" y="536"/>
                  </a:lnTo>
                  <a:lnTo>
                    <a:pt x="640" y="536"/>
                  </a:lnTo>
                  <a:lnTo>
                    <a:pt x="640" y="536"/>
                  </a:lnTo>
                  <a:lnTo>
                    <a:pt x="648" y="532"/>
                  </a:lnTo>
                  <a:lnTo>
                    <a:pt x="654" y="530"/>
                  </a:lnTo>
                  <a:lnTo>
                    <a:pt x="654" y="530"/>
                  </a:lnTo>
                  <a:lnTo>
                    <a:pt x="662" y="532"/>
                  </a:lnTo>
                  <a:lnTo>
                    <a:pt x="674" y="528"/>
                  </a:lnTo>
                  <a:lnTo>
                    <a:pt x="674" y="518"/>
                  </a:lnTo>
                  <a:lnTo>
                    <a:pt x="700" y="518"/>
                  </a:lnTo>
                  <a:lnTo>
                    <a:pt x="700" y="518"/>
                  </a:lnTo>
                  <a:lnTo>
                    <a:pt x="704" y="514"/>
                  </a:lnTo>
                  <a:lnTo>
                    <a:pt x="712" y="510"/>
                  </a:lnTo>
                  <a:lnTo>
                    <a:pt x="720" y="508"/>
                  </a:lnTo>
                  <a:lnTo>
                    <a:pt x="730" y="506"/>
                  </a:lnTo>
                  <a:lnTo>
                    <a:pt x="730" y="506"/>
                  </a:lnTo>
                  <a:lnTo>
                    <a:pt x="744" y="494"/>
                  </a:lnTo>
                  <a:lnTo>
                    <a:pt x="752" y="490"/>
                  </a:lnTo>
                  <a:lnTo>
                    <a:pt x="758" y="488"/>
                  </a:lnTo>
                  <a:lnTo>
                    <a:pt x="766" y="474"/>
                  </a:lnTo>
                  <a:lnTo>
                    <a:pt x="766" y="474"/>
                  </a:lnTo>
                  <a:lnTo>
                    <a:pt x="766" y="472"/>
                  </a:lnTo>
                  <a:lnTo>
                    <a:pt x="762" y="468"/>
                  </a:lnTo>
                  <a:lnTo>
                    <a:pt x="748" y="456"/>
                  </a:lnTo>
                  <a:lnTo>
                    <a:pt x="724" y="444"/>
                  </a:lnTo>
                  <a:lnTo>
                    <a:pt x="690" y="426"/>
                  </a:lnTo>
                  <a:lnTo>
                    <a:pt x="680" y="420"/>
                  </a:lnTo>
                  <a:lnTo>
                    <a:pt x="680" y="420"/>
                  </a:lnTo>
                  <a:lnTo>
                    <a:pt x="658" y="416"/>
                  </a:lnTo>
                  <a:lnTo>
                    <a:pt x="642" y="410"/>
                  </a:lnTo>
                  <a:lnTo>
                    <a:pt x="642" y="410"/>
                  </a:lnTo>
                  <a:lnTo>
                    <a:pt x="626" y="410"/>
                  </a:lnTo>
                  <a:lnTo>
                    <a:pt x="624" y="410"/>
                  </a:lnTo>
                  <a:lnTo>
                    <a:pt x="624" y="410"/>
                  </a:lnTo>
                  <a:lnTo>
                    <a:pt x="610" y="406"/>
                  </a:lnTo>
                  <a:lnTo>
                    <a:pt x="578" y="394"/>
                  </a:lnTo>
                  <a:lnTo>
                    <a:pt x="578" y="394"/>
                  </a:lnTo>
                  <a:lnTo>
                    <a:pt x="564" y="388"/>
                  </a:lnTo>
                  <a:lnTo>
                    <a:pt x="556" y="386"/>
                  </a:lnTo>
                  <a:lnTo>
                    <a:pt x="550" y="386"/>
                  </a:lnTo>
                  <a:lnTo>
                    <a:pt x="550" y="386"/>
                  </a:lnTo>
                  <a:lnTo>
                    <a:pt x="536" y="388"/>
                  </a:lnTo>
                  <a:lnTo>
                    <a:pt x="512" y="388"/>
                  </a:lnTo>
                  <a:lnTo>
                    <a:pt x="508" y="384"/>
                  </a:lnTo>
                  <a:lnTo>
                    <a:pt x="508" y="384"/>
                  </a:lnTo>
                  <a:lnTo>
                    <a:pt x="492" y="380"/>
                  </a:lnTo>
                  <a:lnTo>
                    <a:pt x="478" y="372"/>
                  </a:lnTo>
                  <a:lnTo>
                    <a:pt x="464" y="378"/>
                  </a:lnTo>
                  <a:lnTo>
                    <a:pt x="428" y="360"/>
                  </a:lnTo>
                  <a:lnTo>
                    <a:pt x="404" y="360"/>
                  </a:lnTo>
                  <a:lnTo>
                    <a:pt x="388" y="350"/>
                  </a:lnTo>
                  <a:lnTo>
                    <a:pt x="364" y="350"/>
                  </a:lnTo>
                  <a:lnTo>
                    <a:pt x="360" y="344"/>
                  </a:lnTo>
                  <a:lnTo>
                    <a:pt x="342" y="344"/>
                  </a:lnTo>
                  <a:lnTo>
                    <a:pt x="324" y="324"/>
                  </a:lnTo>
                  <a:lnTo>
                    <a:pt x="316" y="324"/>
                  </a:lnTo>
                  <a:lnTo>
                    <a:pt x="316" y="324"/>
                  </a:lnTo>
                  <a:lnTo>
                    <a:pt x="300" y="324"/>
                  </a:lnTo>
                  <a:lnTo>
                    <a:pt x="284" y="320"/>
                  </a:lnTo>
                  <a:lnTo>
                    <a:pt x="270" y="316"/>
                  </a:lnTo>
                  <a:lnTo>
                    <a:pt x="260" y="310"/>
                  </a:lnTo>
                  <a:lnTo>
                    <a:pt x="256" y="308"/>
                  </a:lnTo>
                  <a:lnTo>
                    <a:pt x="256" y="308"/>
                  </a:lnTo>
                  <a:lnTo>
                    <a:pt x="244" y="302"/>
                  </a:lnTo>
                  <a:lnTo>
                    <a:pt x="234" y="296"/>
                  </a:lnTo>
                  <a:lnTo>
                    <a:pt x="226" y="290"/>
                  </a:lnTo>
                  <a:lnTo>
                    <a:pt x="218" y="280"/>
                  </a:lnTo>
                  <a:lnTo>
                    <a:pt x="198" y="262"/>
                  </a:lnTo>
                  <a:lnTo>
                    <a:pt x="186" y="230"/>
                  </a:lnTo>
                  <a:lnTo>
                    <a:pt x="172" y="210"/>
                  </a:lnTo>
                  <a:lnTo>
                    <a:pt x="178" y="162"/>
                  </a:lnTo>
                  <a:lnTo>
                    <a:pt x="206" y="128"/>
                  </a:lnTo>
                  <a:lnTo>
                    <a:pt x="206" y="128"/>
                  </a:lnTo>
                  <a:lnTo>
                    <a:pt x="210" y="126"/>
                  </a:lnTo>
                  <a:lnTo>
                    <a:pt x="212" y="122"/>
                  </a:lnTo>
                  <a:lnTo>
                    <a:pt x="216" y="112"/>
                  </a:lnTo>
                  <a:lnTo>
                    <a:pt x="216" y="112"/>
                  </a:lnTo>
                  <a:lnTo>
                    <a:pt x="228" y="106"/>
                  </a:lnTo>
                  <a:lnTo>
                    <a:pt x="290" y="72"/>
                  </a:lnTo>
                  <a:lnTo>
                    <a:pt x="290" y="72"/>
                  </a:lnTo>
                  <a:lnTo>
                    <a:pt x="306" y="72"/>
                  </a:lnTo>
                  <a:lnTo>
                    <a:pt x="306" y="72"/>
                  </a:lnTo>
                  <a:lnTo>
                    <a:pt x="314" y="70"/>
                  </a:lnTo>
                  <a:lnTo>
                    <a:pt x="322" y="68"/>
                  </a:lnTo>
                  <a:lnTo>
                    <a:pt x="332" y="64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48" y="62"/>
                  </a:lnTo>
                  <a:lnTo>
                    <a:pt x="360" y="50"/>
                  </a:lnTo>
                  <a:lnTo>
                    <a:pt x="366" y="50"/>
                  </a:lnTo>
                  <a:lnTo>
                    <a:pt x="366" y="50"/>
                  </a:lnTo>
                  <a:lnTo>
                    <a:pt x="384" y="44"/>
                  </a:lnTo>
                  <a:lnTo>
                    <a:pt x="400" y="40"/>
                  </a:lnTo>
                  <a:lnTo>
                    <a:pt x="416" y="38"/>
                  </a:lnTo>
                  <a:lnTo>
                    <a:pt x="428" y="36"/>
                  </a:lnTo>
                  <a:lnTo>
                    <a:pt x="434" y="36"/>
                  </a:lnTo>
                  <a:lnTo>
                    <a:pt x="446" y="38"/>
                  </a:lnTo>
                  <a:lnTo>
                    <a:pt x="462" y="26"/>
                  </a:lnTo>
                  <a:lnTo>
                    <a:pt x="462" y="26"/>
                  </a:lnTo>
                  <a:lnTo>
                    <a:pt x="482" y="26"/>
                  </a:lnTo>
                  <a:lnTo>
                    <a:pt x="490" y="26"/>
                  </a:lnTo>
                  <a:lnTo>
                    <a:pt x="490" y="26"/>
                  </a:lnTo>
                  <a:lnTo>
                    <a:pt x="518" y="22"/>
                  </a:lnTo>
                  <a:lnTo>
                    <a:pt x="518" y="22"/>
                  </a:lnTo>
                  <a:lnTo>
                    <a:pt x="552" y="20"/>
                  </a:lnTo>
                  <a:lnTo>
                    <a:pt x="572" y="18"/>
                  </a:lnTo>
                  <a:lnTo>
                    <a:pt x="604" y="0"/>
                  </a:lnTo>
                  <a:lnTo>
                    <a:pt x="604" y="0"/>
                  </a:lnTo>
                  <a:lnTo>
                    <a:pt x="620" y="20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6" y="20"/>
                  </a:lnTo>
                  <a:lnTo>
                    <a:pt x="672" y="26"/>
                  </a:lnTo>
                  <a:lnTo>
                    <a:pt x="680" y="26"/>
                  </a:lnTo>
                  <a:lnTo>
                    <a:pt x="680" y="26"/>
                  </a:lnTo>
                  <a:lnTo>
                    <a:pt x="694" y="26"/>
                  </a:lnTo>
                  <a:lnTo>
                    <a:pt x="708" y="28"/>
                  </a:lnTo>
                  <a:lnTo>
                    <a:pt x="718" y="32"/>
                  </a:lnTo>
                  <a:lnTo>
                    <a:pt x="728" y="38"/>
                  </a:lnTo>
                  <a:lnTo>
                    <a:pt x="728" y="38"/>
                  </a:lnTo>
                  <a:lnTo>
                    <a:pt x="744" y="42"/>
                  </a:lnTo>
                  <a:lnTo>
                    <a:pt x="756" y="48"/>
                  </a:lnTo>
                  <a:lnTo>
                    <a:pt x="766" y="54"/>
                  </a:lnTo>
                  <a:lnTo>
                    <a:pt x="776" y="62"/>
                  </a:lnTo>
                  <a:lnTo>
                    <a:pt x="782" y="70"/>
                  </a:lnTo>
                  <a:lnTo>
                    <a:pt x="788" y="80"/>
                  </a:lnTo>
                  <a:lnTo>
                    <a:pt x="790" y="92"/>
                  </a:lnTo>
                  <a:lnTo>
                    <a:pt x="792" y="102"/>
                  </a:lnTo>
                  <a:lnTo>
                    <a:pt x="792" y="102"/>
                  </a:lnTo>
                  <a:lnTo>
                    <a:pt x="790" y="112"/>
                  </a:lnTo>
                  <a:lnTo>
                    <a:pt x="788" y="122"/>
                  </a:lnTo>
                  <a:lnTo>
                    <a:pt x="782" y="130"/>
                  </a:lnTo>
                  <a:lnTo>
                    <a:pt x="776" y="136"/>
                  </a:lnTo>
                  <a:lnTo>
                    <a:pt x="766" y="142"/>
                  </a:lnTo>
                  <a:lnTo>
                    <a:pt x="754" y="148"/>
                  </a:lnTo>
                  <a:lnTo>
                    <a:pt x="742" y="150"/>
                  </a:lnTo>
                  <a:lnTo>
                    <a:pt x="726" y="154"/>
                  </a:lnTo>
                  <a:lnTo>
                    <a:pt x="716" y="138"/>
                  </a:lnTo>
                  <a:lnTo>
                    <a:pt x="716" y="138"/>
                  </a:lnTo>
                  <a:lnTo>
                    <a:pt x="704" y="134"/>
                  </a:lnTo>
                  <a:lnTo>
                    <a:pt x="704" y="134"/>
                  </a:lnTo>
                  <a:lnTo>
                    <a:pt x="690" y="128"/>
                  </a:lnTo>
                  <a:lnTo>
                    <a:pt x="664" y="128"/>
                  </a:lnTo>
                  <a:lnTo>
                    <a:pt x="652" y="116"/>
                  </a:lnTo>
                  <a:lnTo>
                    <a:pt x="634" y="118"/>
                  </a:lnTo>
                  <a:lnTo>
                    <a:pt x="622" y="130"/>
                  </a:lnTo>
                  <a:lnTo>
                    <a:pt x="594" y="110"/>
                  </a:lnTo>
                  <a:lnTo>
                    <a:pt x="562" y="114"/>
                  </a:lnTo>
                  <a:lnTo>
                    <a:pt x="526" y="106"/>
                  </a:lnTo>
                  <a:lnTo>
                    <a:pt x="526" y="106"/>
                  </a:lnTo>
                  <a:lnTo>
                    <a:pt x="510" y="108"/>
                  </a:lnTo>
                  <a:lnTo>
                    <a:pt x="494" y="110"/>
                  </a:lnTo>
                  <a:lnTo>
                    <a:pt x="480" y="114"/>
                  </a:lnTo>
                  <a:lnTo>
                    <a:pt x="468" y="120"/>
                  </a:lnTo>
                  <a:lnTo>
                    <a:pt x="466" y="122"/>
                  </a:lnTo>
                  <a:lnTo>
                    <a:pt x="466" y="122"/>
                  </a:lnTo>
                  <a:lnTo>
                    <a:pt x="458" y="126"/>
                  </a:lnTo>
                  <a:lnTo>
                    <a:pt x="458" y="126"/>
                  </a:lnTo>
                  <a:lnTo>
                    <a:pt x="452" y="128"/>
                  </a:lnTo>
                  <a:lnTo>
                    <a:pt x="436" y="120"/>
                  </a:lnTo>
                  <a:lnTo>
                    <a:pt x="402" y="136"/>
                  </a:lnTo>
                  <a:lnTo>
                    <a:pt x="340" y="154"/>
                  </a:lnTo>
                  <a:lnTo>
                    <a:pt x="326" y="150"/>
                  </a:lnTo>
                  <a:lnTo>
                    <a:pt x="300" y="166"/>
                  </a:lnTo>
                  <a:lnTo>
                    <a:pt x="288" y="166"/>
                  </a:lnTo>
                  <a:lnTo>
                    <a:pt x="280" y="178"/>
                  </a:lnTo>
                  <a:lnTo>
                    <a:pt x="256" y="194"/>
                  </a:lnTo>
                  <a:lnTo>
                    <a:pt x="258" y="202"/>
                  </a:lnTo>
                  <a:lnTo>
                    <a:pt x="272" y="216"/>
                  </a:lnTo>
                  <a:lnTo>
                    <a:pt x="284" y="220"/>
                  </a:lnTo>
                  <a:lnTo>
                    <a:pt x="302" y="232"/>
                  </a:lnTo>
                  <a:lnTo>
                    <a:pt x="340" y="244"/>
                  </a:lnTo>
                  <a:lnTo>
                    <a:pt x="356" y="246"/>
                  </a:lnTo>
                  <a:lnTo>
                    <a:pt x="390" y="266"/>
                  </a:lnTo>
                  <a:lnTo>
                    <a:pt x="398" y="262"/>
                  </a:lnTo>
                  <a:lnTo>
                    <a:pt x="398" y="262"/>
                  </a:lnTo>
                  <a:lnTo>
                    <a:pt x="414" y="266"/>
                  </a:lnTo>
                  <a:lnTo>
                    <a:pt x="428" y="270"/>
                  </a:lnTo>
                  <a:lnTo>
                    <a:pt x="438" y="276"/>
                  </a:lnTo>
                  <a:lnTo>
                    <a:pt x="446" y="282"/>
                  </a:lnTo>
                  <a:lnTo>
                    <a:pt x="448" y="286"/>
                  </a:lnTo>
                  <a:lnTo>
                    <a:pt x="452" y="286"/>
                  </a:lnTo>
                  <a:lnTo>
                    <a:pt x="474" y="300"/>
                  </a:lnTo>
                  <a:lnTo>
                    <a:pt x="484" y="292"/>
                  </a:lnTo>
                  <a:lnTo>
                    <a:pt x="512" y="294"/>
                  </a:lnTo>
                  <a:lnTo>
                    <a:pt x="516" y="294"/>
                  </a:lnTo>
                  <a:lnTo>
                    <a:pt x="534" y="294"/>
                  </a:lnTo>
                  <a:lnTo>
                    <a:pt x="550" y="308"/>
                  </a:lnTo>
                  <a:lnTo>
                    <a:pt x="558" y="308"/>
                  </a:lnTo>
                  <a:lnTo>
                    <a:pt x="558" y="308"/>
                  </a:lnTo>
                  <a:lnTo>
                    <a:pt x="578" y="310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606" y="314"/>
                  </a:lnTo>
                  <a:lnTo>
                    <a:pt x="606" y="314"/>
                  </a:lnTo>
                  <a:lnTo>
                    <a:pt x="616" y="314"/>
                  </a:lnTo>
                  <a:lnTo>
                    <a:pt x="628" y="318"/>
                  </a:lnTo>
                  <a:lnTo>
                    <a:pt x="640" y="324"/>
                  </a:lnTo>
                  <a:lnTo>
                    <a:pt x="654" y="334"/>
                  </a:lnTo>
                  <a:lnTo>
                    <a:pt x="668" y="330"/>
                  </a:lnTo>
                  <a:lnTo>
                    <a:pt x="678" y="334"/>
                  </a:lnTo>
                  <a:lnTo>
                    <a:pt x="698" y="334"/>
                  </a:lnTo>
                  <a:lnTo>
                    <a:pt x="734" y="358"/>
                  </a:lnTo>
                  <a:lnTo>
                    <a:pt x="768" y="362"/>
                  </a:lnTo>
                  <a:lnTo>
                    <a:pt x="784" y="382"/>
                  </a:lnTo>
                  <a:lnTo>
                    <a:pt x="784" y="382"/>
                  </a:lnTo>
                  <a:lnTo>
                    <a:pt x="802" y="394"/>
                  </a:lnTo>
                  <a:lnTo>
                    <a:pt x="816" y="406"/>
                  </a:lnTo>
                  <a:lnTo>
                    <a:pt x="828" y="416"/>
                  </a:lnTo>
                  <a:lnTo>
                    <a:pt x="836" y="426"/>
                  </a:lnTo>
                  <a:lnTo>
                    <a:pt x="836" y="426"/>
                  </a:lnTo>
                  <a:lnTo>
                    <a:pt x="842" y="436"/>
                  </a:lnTo>
                  <a:lnTo>
                    <a:pt x="846" y="450"/>
                  </a:lnTo>
                  <a:lnTo>
                    <a:pt x="848" y="464"/>
                  </a:lnTo>
                  <a:lnTo>
                    <a:pt x="848" y="480"/>
                  </a:lnTo>
                  <a:lnTo>
                    <a:pt x="848" y="480"/>
                  </a:lnTo>
                  <a:lnTo>
                    <a:pt x="850" y="488"/>
                  </a:lnTo>
                  <a:lnTo>
                    <a:pt x="850" y="488"/>
                  </a:lnTo>
                  <a:lnTo>
                    <a:pt x="850" y="496"/>
                  </a:lnTo>
                  <a:lnTo>
                    <a:pt x="850" y="49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26849520" y="3701880"/>
              <a:ext cx="796680" cy="126072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02" h="794">
                  <a:moveTo>
                    <a:pt x="502" y="744"/>
                  </a:moveTo>
                  <a:lnTo>
                    <a:pt x="502" y="744"/>
                  </a:lnTo>
                  <a:lnTo>
                    <a:pt x="500" y="756"/>
                  </a:lnTo>
                  <a:lnTo>
                    <a:pt x="498" y="766"/>
                  </a:lnTo>
                  <a:lnTo>
                    <a:pt x="494" y="774"/>
                  </a:lnTo>
                  <a:lnTo>
                    <a:pt x="488" y="782"/>
                  </a:lnTo>
                  <a:lnTo>
                    <a:pt x="482" y="786"/>
                  </a:lnTo>
                  <a:lnTo>
                    <a:pt x="472" y="790"/>
                  </a:lnTo>
                  <a:lnTo>
                    <a:pt x="462" y="792"/>
                  </a:lnTo>
                  <a:lnTo>
                    <a:pt x="450" y="794"/>
                  </a:lnTo>
                  <a:lnTo>
                    <a:pt x="450" y="794"/>
                  </a:lnTo>
                  <a:lnTo>
                    <a:pt x="438" y="792"/>
                  </a:lnTo>
                  <a:lnTo>
                    <a:pt x="428" y="788"/>
                  </a:lnTo>
                  <a:lnTo>
                    <a:pt x="420" y="782"/>
                  </a:lnTo>
                  <a:lnTo>
                    <a:pt x="412" y="772"/>
                  </a:lnTo>
                  <a:lnTo>
                    <a:pt x="412" y="772"/>
                  </a:lnTo>
                  <a:lnTo>
                    <a:pt x="406" y="762"/>
                  </a:lnTo>
                  <a:lnTo>
                    <a:pt x="402" y="748"/>
                  </a:lnTo>
                  <a:lnTo>
                    <a:pt x="396" y="730"/>
                  </a:lnTo>
                  <a:lnTo>
                    <a:pt x="392" y="708"/>
                  </a:lnTo>
                  <a:lnTo>
                    <a:pt x="392" y="692"/>
                  </a:lnTo>
                  <a:lnTo>
                    <a:pt x="392" y="692"/>
                  </a:lnTo>
                  <a:lnTo>
                    <a:pt x="396" y="684"/>
                  </a:lnTo>
                  <a:lnTo>
                    <a:pt x="396" y="678"/>
                  </a:lnTo>
                  <a:lnTo>
                    <a:pt x="396" y="678"/>
                  </a:lnTo>
                  <a:lnTo>
                    <a:pt x="396" y="672"/>
                  </a:lnTo>
                  <a:lnTo>
                    <a:pt x="378" y="648"/>
                  </a:lnTo>
                  <a:lnTo>
                    <a:pt x="392" y="624"/>
                  </a:lnTo>
                  <a:lnTo>
                    <a:pt x="386" y="598"/>
                  </a:lnTo>
                  <a:lnTo>
                    <a:pt x="392" y="584"/>
                  </a:lnTo>
                  <a:lnTo>
                    <a:pt x="392" y="568"/>
                  </a:lnTo>
                  <a:lnTo>
                    <a:pt x="392" y="554"/>
                  </a:lnTo>
                  <a:lnTo>
                    <a:pt x="388" y="532"/>
                  </a:lnTo>
                  <a:lnTo>
                    <a:pt x="392" y="520"/>
                  </a:lnTo>
                  <a:lnTo>
                    <a:pt x="392" y="480"/>
                  </a:lnTo>
                  <a:lnTo>
                    <a:pt x="392" y="428"/>
                  </a:lnTo>
                  <a:lnTo>
                    <a:pt x="386" y="388"/>
                  </a:lnTo>
                  <a:lnTo>
                    <a:pt x="392" y="372"/>
                  </a:lnTo>
                  <a:lnTo>
                    <a:pt x="384" y="342"/>
                  </a:lnTo>
                  <a:lnTo>
                    <a:pt x="374" y="350"/>
                  </a:lnTo>
                  <a:lnTo>
                    <a:pt x="348" y="362"/>
                  </a:lnTo>
                  <a:lnTo>
                    <a:pt x="312" y="408"/>
                  </a:lnTo>
                  <a:lnTo>
                    <a:pt x="296" y="406"/>
                  </a:lnTo>
                  <a:lnTo>
                    <a:pt x="276" y="442"/>
                  </a:lnTo>
                  <a:lnTo>
                    <a:pt x="272" y="456"/>
                  </a:lnTo>
                  <a:lnTo>
                    <a:pt x="258" y="462"/>
                  </a:lnTo>
                  <a:lnTo>
                    <a:pt x="244" y="484"/>
                  </a:lnTo>
                  <a:lnTo>
                    <a:pt x="238" y="498"/>
                  </a:lnTo>
                  <a:lnTo>
                    <a:pt x="230" y="540"/>
                  </a:lnTo>
                  <a:lnTo>
                    <a:pt x="208" y="568"/>
                  </a:lnTo>
                  <a:lnTo>
                    <a:pt x="202" y="584"/>
                  </a:lnTo>
                  <a:lnTo>
                    <a:pt x="190" y="594"/>
                  </a:lnTo>
                  <a:lnTo>
                    <a:pt x="184" y="624"/>
                  </a:lnTo>
                  <a:lnTo>
                    <a:pt x="158" y="644"/>
                  </a:lnTo>
                  <a:lnTo>
                    <a:pt x="154" y="690"/>
                  </a:lnTo>
                  <a:lnTo>
                    <a:pt x="144" y="690"/>
                  </a:lnTo>
                  <a:lnTo>
                    <a:pt x="140" y="698"/>
                  </a:lnTo>
                  <a:lnTo>
                    <a:pt x="118" y="734"/>
                  </a:lnTo>
                  <a:lnTo>
                    <a:pt x="98" y="756"/>
                  </a:lnTo>
                  <a:lnTo>
                    <a:pt x="80" y="782"/>
                  </a:lnTo>
                  <a:lnTo>
                    <a:pt x="60" y="776"/>
                  </a:lnTo>
                  <a:lnTo>
                    <a:pt x="46" y="776"/>
                  </a:lnTo>
                  <a:lnTo>
                    <a:pt x="32" y="756"/>
                  </a:lnTo>
                  <a:lnTo>
                    <a:pt x="18" y="712"/>
                  </a:lnTo>
                  <a:lnTo>
                    <a:pt x="18" y="648"/>
                  </a:lnTo>
                  <a:lnTo>
                    <a:pt x="14" y="626"/>
                  </a:lnTo>
                  <a:lnTo>
                    <a:pt x="18" y="602"/>
                  </a:lnTo>
                  <a:lnTo>
                    <a:pt x="18" y="544"/>
                  </a:lnTo>
                  <a:lnTo>
                    <a:pt x="26" y="542"/>
                  </a:lnTo>
                  <a:lnTo>
                    <a:pt x="32" y="458"/>
                  </a:lnTo>
                  <a:lnTo>
                    <a:pt x="34" y="442"/>
                  </a:lnTo>
                  <a:lnTo>
                    <a:pt x="34" y="416"/>
                  </a:lnTo>
                  <a:lnTo>
                    <a:pt x="40" y="412"/>
                  </a:lnTo>
                  <a:lnTo>
                    <a:pt x="44" y="374"/>
                  </a:lnTo>
                  <a:lnTo>
                    <a:pt x="48" y="360"/>
                  </a:lnTo>
                  <a:lnTo>
                    <a:pt x="44" y="344"/>
                  </a:lnTo>
                  <a:lnTo>
                    <a:pt x="46" y="338"/>
                  </a:lnTo>
                  <a:lnTo>
                    <a:pt x="44" y="334"/>
                  </a:lnTo>
                  <a:lnTo>
                    <a:pt x="48" y="300"/>
                  </a:lnTo>
                  <a:lnTo>
                    <a:pt x="38" y="290"/>
                  </a:lnTo>
                  <a:lnTo>
                    <a:pt x="46" y="274"/>
                  </a:lnTo>
                  <a:lnTo>
                    <a:pt x="46" y="238"/>
                  </a:lnTo>
                  <a:lnTo>
                    <a:pt x="34" y="204"/>
                  </a:lnTo>
                  <a:lnTo>
                    <a:pt x="42" y="192"/>
                  </a:lnTo>
                  <a:lnTo>
                    <a:pt x="34" y="160"/>
                  </a:lnTo>
                  <a:lnTo>
                    <a:pt x="34" y="140"/>
                  </a:lnTo>
                  <a:lnTo>
                    <a:pt x="30" y="132"/>
                  </a:lnTo>
                  <a:lnTo>
                    <a:pt x="24" y="92"/>
                  </a:lnTo>
                  <a:lnTo>
                    <a:pt x="18" y="74"/>
                  </a:lnTo>
                  <a:lnTo>
                    <a:pt x="0" y="38"/>
                  </a:lnTo>
                  <a:lnTo>
                    <a:pt x="14" y="2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58" y="6"/>
                  </a:lnTo>
                  <a:lnTo>
                    <a:pt x="68" y="12"/>
                  </a:lnTo>
                  <a:lnTo>
                    <a:pt x="76" y="20"/>
                  </a:lnTo>
                  <a:lnTo>
                    <a:pt x="92" y="34"/>
                  </a:lnTo>
                  <a:lnTo>
                    <a:pt x="98" y="56"/>
                  </a:lnTo>
                  <a:lnTo>
                    <a:pt x="116" y="72"/>
                  </a:lnTo>
                  <a:lnTo>
                    <a:pt x="112" y="88"/>
                  </a:lnTo>
                  <a:lnTo>
                    <a:pt x="122" y="114"/>
                  </a:lnTo>
                  <a:lnTo>
                    <a:pt x="122" y="116"/>
                  </a:lnTo>
                  <a:lnTo>
                    <a:pt x="122" y="118"/>
                  </a:lnTo>
                  <a:lnTo>
                    <a:pt x="122" y="160"/>
                  </a:lnTo>
                  <a:lnTo>
                    <a:pt x="122" y="212"/>
                  </a:lnTo>
                  <a:lnTo>
                    <a:pt x="132" y="248"/>
                  </a:lnTo>
                  <a:lnTo>
                    <a:pt x="126" y="262"/>
                  </a:lnTo>
                  <a:lnTo>
                    <a:pt x="128" y="282"/>
                  </a:lnTo>
                  <a:lnTo>
                    <a:pt x="122" y="300"/>
                  </a:lnTo>
                  <a:lnTo>
                    <a:pt x="126" y="328"/>
                  </a:lnTo>
                  <a:lnTo>
                    <a:pt x="122" y="354"/>
                  </a:lnTo>
                  <a:lnTo>
                    <a:pt x="122" y="358"/>
                  </a:lnTo>
                  <a:lnTo>
                    <a:pt x="122" y="432"/>
                  </a:lnTo>
                  <a:lnTo>
                    <a:pt x="122" y="450"/>
                  </a:lnTo>
                  <a:lnTo>
                    <a:pt x="114" y="458"/>
                  </a:lnTo>
                  <a:lnTo>
                    <a:pt x="110" y="498"/>
                  </a:lnTo>
                  <a:lnTo>
                    <a:pt x="106" y="516"/>
                  </a:lnTo>
                  <a:lnTo>
                    <a:pt x="112" y="550"/>
                  </a:lnTo>
                  <a:lnTo>
                    <a:pt x="106" y="560"/>
                  </a:lnTo>
                  <a:lnTo>
                    <a:pt x="106" y="584"/>
                  </a:lnTo>
                  <a:lnTo>
                    <a:pt x="106" y="584"/>
                  </a:lnTo>
                  <a:lnTo>
                    <a:pt x="112" y="582"/>
                  </a:lnTo>
                  <a:lnTo>
                    <a:pt x="116" y="578"/>
                  </a:lnTo>
                  <a:lnTo>
                    <a:pt x="118" y="574"/>
                  </a:lnTo>
                  <a:lnTo>
                    <a:pt x="120" y="570"/>
                  </a:lnTo>
                  <a:lnTo>
                    <a:pt x="128" y="560"/>
                  </a:lnTo>
                  <a:lnTo>
                    <a:pt x="138" y="544"/>
                  </a:lnTo>
                  <a:lnTo>
                    <a:pt x="140" y="520"/>
                  </a:lnTo>
                  <a:lnTo>
                    <a:pt x="152" y="500"/>
                  </a:lnTo>
                  <a:lnTo>
                    <a:pt x="160" y="476"/>
                  </a:lnTo>
                  <a:lnTo>
                    <a:pt x="176" y="456"/>
                  </a:lnTo>
                  <a:lnTo>
                    <a:pt x="180" y="434"/>
                  </a:lnTo>
                  <a:lnTo>
                    <a:pt x="192" y="432"/>
                  </a:lnTo>
                  <a:lnTo>
                    <a:pt x="192" y="422"/>
                  </a:lnTo>
                  <a:lnTo>
                    <a:pt x="194" y="408"/>
                  </a:lnTo>
                  <a:lnTo>
                    <a:pt x="210" y="398"/>
                  </a:lnTo>
                  <a:lnTo>
                    <a:pt x="210" y="388"/>
                  </a:lnTo>
                  <a:lnTo>
                    <a:pt x="222" y="386"/>
                  </a:lnTo>
                  <a:lnTo>
                    <a:pt x="224" y="368"/>
                  </a:lnTo>
                  <a:lnTo>
                    <a:pt x="224" y="358"/>
                  </a:lnTo>
                  <a:lnTo>
                    <a:pt x="244" y="348"/>
                  </a:lnTo>
                  <a:lnTo>
                    <a:pt x="250" y="342"/>
                  </a:lnTo>
                  <a:lnTo>
                    <a:pt x="248" y="330"/>
                  </a:lnTo>
                  <a:lnTo>
                    <a:pt x="258" y="326"/>
                  </a:lnTo>
                  <a:lnTo>
                    <a:pt x="266" y="306"/>
                  </a:lnTo>
                  <a:lnTo>
                    <a:pt x="280" y="306"/>
                  </a:lnTo>
                  <a:lnTo>
                    <a:pt x="294" y="298"/>
                  </a:lnTo>
                  <a:lnTo>
                    <a:pt x="294" y="298"/>
                  </a:lnTo>
                  <a:lnTo>
                    <a:pt x="296" y="284"/>
                  </a:lnTo>
                  <a:lnTo>
                    <a:pt x="308" y="278"/>
                  </a:lnTo>
                  <a:lnTo>
                    <a:pt x="308" y="278"/>
                  </a:lnTo>
                  <a:lnTo>
                    <a:pt x="320" y="270"/>
                  </a:lnTo>
                  <a:lnTo>
                    <a:pt x="330" y="264"/>
                  </a:lnTo>
                  <a:lnTo>
                    <a:pt x="340" y="260"/>
                  </a:lnTo>
                  <a:lnTo>
                    <a:pt x="350" y="256"/>
                  </a:lnTo>
                  <a:lnTo>
                    <a:pt x="350" y="254"/>
                  </a:lnTo>
                  <a:lnTo>
                    <a:pt x="350" y="254"/>
                  </a:lnTo>
                  <a:lnTo>
                    <a:pt x="376" y="242"/>
                  </a:lnTo>
                  <a:lnTo>
                    <a:pt x="384" y="240"/>
                  </a:lnTo>
                  <a:lnTo>
                    <a:pt x="392" y="238"/>
                  </a:lnTo>
                  <a:lnTo>
                    <a:pt x="392" y="238"/>
                  </a:lnTo>
                  <a:lnTo>
                    <a:pt x="400" y="240"/>
                  </a:lnTo>
                  <a:lnTo>
                    <a:pt x="408" y="242"/>
                  </a:lnTo>
                  <a:lnTo>
                    <a:pt x="416" y="248"/>
                  </a:lnTo>
                  <a:lnTo>
                    <a:pt x="424" y="256"/>
                  </a:lnTo>
                  <a:lnTo>
                    <a:pt x="424" y="256"/>
                  </a:lnTo>
                  <a:lnTo>
                    <a:pt x="430" y="258"/>
                  </a:lnTo>
                  <a:lnTo>
                    <a:pt x="434" y="262"/>
                  </a:lnTo>
                  <a:lnTo>
                    <a:pt x="438" y="268"/>
                  </a:lnTo>
                  <a:lnTo>
                    <a:pt x="440" y="274"/>
                  </a:lnTo>
                  <a:lnTo>
                    <a:pt x="452" y="282"/>
                  </a:lnTo>
                  <a:lnTo>
                    <a:pt x="456" y="298"/>
                  </a:lnTo>
                  <a:lnTo>
                    <a:pt x="470" y="326"/>
                  </a:lnTo>
                  <a:lnTo>
                    <a:pt x="470" y="424"/>
                  </a:lnTo>
                  <a:lnTo>
                    <a:pt x="470" y="466"/>
                  </a:lnTo>
                  <a:lnTo>
                    <a:pt x="476" y="478"/>
                  </a:lnTo>
                  <a:lnTo>
                    <a:pt x="476" y="568"/>
                  </a:lnTo>
                  <a:lnTo>
                    <a:pt x="470" y="584"/>
                  </a:lnTo>
                  <a:lnTo>
                    <a:pt x="470" y="608"/>
                  </a:lnTo>
                  <a:lnTo>
                    <a:pt x="476" y="634"/>
                  </a:lnTo>
                  <a:lnTo>
                    <a:pt x="470" y="658"/>
                  </a:lnTo>
                  <a:lnTo>
                    <a:pt x="470" y="658"/>
                  </a:lnTo>
                  <a:lnTo>
                    <a:pt x="474" y="674"/>
                  </a:lnTo>
                  <a:lnTo>
                    <a:pt x="476" y="688"/>
                  </a:lnTo>
                  <a:lnTo>
                    <a:pt x="490" y="702"/>
                  </a:lnTo>
                  <a:lnTo>
                    <a:pt x="490" y="712"/>
                  </a:lnTo>
                  <a:lnTo>
                    <a:pt x="496" y="716"/>
                  </a:lnTo>
                  <a:lnTo>
                    <a:pt x="496" y="716"/>
                  </a:lnTo>
                  <a:lnTo>
                    <a:pt x="500" y="734"/>
                  </a:lnTo>
                  <a:lnTo>
                    <a:pt x="502" y="744"/>
                  </a:lnTo>
                  <a:lnTo>
                    <a:pt x="502" y="744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27820800" y="4083120"/>
              <a:ext cx="695160" cy="89856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438" h="566">
                  <a:moveTo>
                    <a:pt x="438" y="232"/>
                  </a:moveTo>
                  <a:lnTo>
                    <a:pt x="432" y="254"/>
                  </a:lnTo>
                  <a:lnTo>
                    <a:pt x="432" y="254"/>
                  </a:lnTo>
                  <a:lnTo>
                    <a:pt x="430" y="282"/>
                  </a:lnTo>
                  <a:lnTo>
                    <a:pt x="428" y="304"/>
                  </a:lnTo>
                  <a:lnTo>
                    <a:pt x="420" y="316"/>
                  </a:lnTo>
                  <a:lnTo>
                    <a:pt x="420" y="330"/>
                  </a:lnTo>
                  <a:lnTo>
                    <a:pt x="414" y="338"/>
                  </a:lnTo>
                  <a:lnTo>
                    <a:pt x="412" y="354"/>
                  </a:lnTo>
                  <a:lnTo>
                    <a:pt x="398" y="368"/>
                  </a:lnTo>
                  <a:lnTo>
                    <a:pt x="390" y="398"/>
                  </a:lnTo>
                  <a:lnTo>
                    <a:pt x="380" y="402"/>
                  </a:lnTo>
                  <a:lnTo>
                    <a:pt x="376" y="416"/>
                  </a:lnTo>
                  <a:lnTo>
                    <a:pt x="362" y="424"/>
                  </a:lnTo>
                  <a:lnTo>
                    <a:pt x="352" y="444"/>
                  </a:lnTo>
                  <a:lnTo>
                    <a:pt x="338" y="452"/>
                  </a:lnTo>
                  <a:lnTo>
                    <a:pt x="336" y="466"/>
                  </a:lnTo>
                  <a:lnTo>
                    <a:pt x="314" y="476"/>
                  </a:lnTo>
                  <a:lnTo>
                    <a:pt x="314" y="476"/>
                  </a:lnTo>
                  <a:lnTo>
                    <a:pt x="306" y="486"/>
                  </a:lnTo>
                  <a:lnTo>
                    <a:pt x="296" y="494"/>
                  </a:lnTo>
                  <a:lnTo>
                    <a:pt x="286" y="500"/>
                  </a:lnTo>
                  <a:lnTo>
                    <a:pt x="276" y="504"/>
                  </a:lnTo>
                  <a:lnTo>
                    <a:pt x="270" y="504"/>
                  </a:lnTo>
                  <a:lnTo>
                    <a:pt x="270" y="504"/>
                  </a:lnTo>
                  <a:lnTo>
                    <a:pt x="262" y="516"/>
                  </a:lnTo>
                  <a:lnTo>
                    <a:pt x="252" y="524"/>
                  </a:lnTo>
                  <a:lnTo>
                    <a:pt x="240" y="528"/>
                  </a:lnTo>
                  <a:lnTo>
                    <a:pt x="226" y="530"/>
                  </a:lnTo>
                  <a:lnTo>
                    <a:pt x="226" y="530"/>
                  </a:lnTo>
                  <a:lnTo>
                    <a:pt x="214" y="536"/>
                  </a:lnTo>
                  <a:lnTo>
                    <a:pt x="200" y="538"/>
                  </a:lnTo>
                  <a:lnTo>
                    <a:pt x="188" y="546"/>
                  </a:lnTo>
                  <a:lnTo>
                    <a:pt x="176" y="550"/>
                  </a:lnTo>
                  <a:lnTo>
                    <a:pt x="160" y="562"/>
                  </a:lnTo>
                  <a:lnTo>
                    <a:pt x="144" y="562"/>
                  </a:lnTo>
                  <a:lnTo>
                    <a:pt x="128" y="566"/>
                  </a:lnTo>
                  <a:lnTo>
                    <a:pt x="108" y="558"/>
                  </a:lnTo>
                  <a:lnTo>
                    <a:pt x="56" y="554"/>
                  </a:lnTo>
                  <a:lnTo>
                    <a:pt x="38" y="526"/>
                  </a:lnTo>
                  <a:lnTo>
                    <a:pt x="12" y="498"/>
                  </a:lnTo>
                  <a:lnTo>
                    <a:pt x="18" y="478"/>
                  </a:lnTo>
                  <a:lnTo>
                    <a:pt x="0" y="436"/>
                  </a:lnTo>
                  <a:lnTo>
                    <a:pt x="6" y="420"/>
                  </a:lnTo>
                  <a:lnTo>
                    <a:pt x="2" y="392"/>
                  </a:lnTo>
                  <a:lnTo>
                    <a:pt x="6" y="372"/>
                  </a:lnTo>
                  <a:lnTo>
                    <a:pt x="6" y="37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6" y="338"/>
                  </a:lnTo>
                  <a:lnTo>
                    <a:pt x="10" y="328"/>
                  </a:lnTo>
                  <a:lnTo>
                    <a:pt x="14" y="320"/>
                  </a:lnTo>
                  <a:lnTo>
                    <a:pt x="18" y="314"/>
                  </a:lnTo>
                  <a:lnTo>
                    <a:pt x="18" y="314"/>
                  </a:lnTo>
                  <a:lnTo>
                    <a:pt x="24" y="298"/>
                  </a:lnTo>
                  <a:lnTo>
                    <a:pt x="34" y="274"/>
                  </a:lnTo>
                  <a:lnTo>
                    <a:pt x="40" y="274"/>
                  </a:lnTo>
                  <a:lnTo>
                    <a:pt x="38" y="266"/>
                  </a:lnTo>
                  <a:lnTo>
                    <a:pt x="40" y="248"/>
                  </a:lnTo>
                  <a:lnTo>
                    <a:pt x="40" y="230"/>
                  </a:lnTo>
                  <a:lnTo>
                    <a:pt x="40" y="230"/>
                  </a:lnTo>
                  <a:lnTo>
                    <a:pt x="52" y="216"/>
                  </a:lnTo>
                  <a:lnTo>
                    <a:pt x="48" y="198"/>
                  </a:lnTo>
                  <a:lnTo>
                    <a:pt x="48" y="194"/>
                  </a:lnTo>
                  <a:lnTo>
                    <a:pt x="48" y="194"/>
                  </a:lnTo>
                  <a:lnTo>
                    <a:pt x="54" y="176"/>
                  </a:lnTo>
                  <a:lnTo>
                    <a:pt x="56" y="158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90" y="116"/>
                  </a:lnTo>
                  <a:lnTo>
                    <a:pt x="88" y="110"/>
                  </a:lnTo>
                  <a:lnTo>
                    <a:pt x="94" y="110"/>
                  </a:lnTo>
                  <a:lnTo>
                    <a:pt x="110" y="90"/>
                  </a:lnTo>
                  <a:lnTo>
                    <a:pt x="112" y="62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50" y="44"/>
                  </a:lnTo>
                  <a:lnTo>
                    <a:pt x="156" y="36"/>
                  </a:lnTo>
                  <a:lnTo>
                    <a:pt x="160" y="26"/>
                  </a:lnTo>
                  <a:lnTo>
                    <a:pt x="164" y="14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92" y="8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14" y="8"/>
                  </a:lnTo>
                  <a:lnTo>
                    <a:pt x="222" y="12"/>
                  </a:lnTo>
                  <a:lnTo>
                    <a:pt x="236" y="14"/>
                  </a:lnTo>
                  <a:lnTo>
                    <a:pt x="266" y="0"/>
                  </a:lnTo>
                  <a:lnTo>
                    <a:pt x="284" y="16"/>
                  </a:lnTo>
                  <a:lnTo>
                    <a:pt x="296" y="26"/>
                  </a:lnTo>
                  <a:lnTo>
                    <a:pt x="306" y="26"/>
                  </a:lnTo>
                  <a:lnTo>
                    <a:pt x="324" y="36"/>
                  </a:lnTo>
                  <a:lnTo>
                    <a:pt x="334" y="36"/>
                  </a:lnTo>
                  <a:lnTo>
                    <a:pt x="334" y="36"/>
                  </a:lnTo>
                  <a:lnTo>
                    <a:pt x="350" y="52"/>
                  </a:lnTo>
                  <a:lnTo>
                    <a:pt x="370" y="76"/>
                  </a:lnTo>
                  <a:lnTo>
                    <a:pt x="372" y="82"/>
                  </a:lnTo>
                  <a:lnTo>
                    <a:pt x="380" y="86"/>
                  </a:lnTo>
                  <a:lnTo>
                    <a:pt x="406" y="120"/>
                  </a:lnTo>
                  <a:lnTo>
                    <a:pt x="428" y="176"/>
                  </a:lnTo>
                  <a:lnTo>
                    <a:pt x="428" y="188"/>
                  </a:lnTo>
                  <a:lnTo>
                    <a:pt x="438" y="232"/>
                  </a:lnTo>
                  <a:close/>
                  <a:moveTo>
                    <a:pt x="360" y="260"/>
                  </a:moveTo>
                  <a:lnTo>
                    <a:pt x="358" y="254"/>
                  </a:lnTo>
                  <a:lnTo>
                    <a:pt x="358" y="254"/>
                  </a:lnTo>
                  <a:lnTo>
                    <a:pt x="352" y="246"/>
                  </a:lnTo>
                  <a:lnTo>
                    <a:pt x="350" y="236"/>
                  </a:lnTo>
                  <a:lnTo>
                    <a:pt x="352" y="230"/>
                  </a:lnTo>
                  <a:lnTo>
                    <a:pt x="342" y="206"/>
                  </a:lnTo>
                  <a:lnTo>
                    <a:pt x="344" y="184"/>
                  </a:lnTo>
                  <a:lnTo>
                    <a:pt x="340" y="178"/>
                  </a:lnTo>
                  <a:lnTo>
                    <a:pt x="340" y="178"/>
                  </a:lnTo>
                  <a:lnTo>
                    <a:pt x="328" y="166"/>
                  </a:lnTo>
                  <a:lnTo>
                    <a:pt x="324" y="162"/>
                  </a:lnTo>
                  <a:lnTo>
                    <a:pt x="322" y="158"/>
                  </a:lnTo>
                  <a:lnTo>
                    <a:pt x="322" y="158"/>
                  </a:lnTo>
                  <a:lnTo>
                    <a:pt x="318" y="154"/>
                  </a:lnTo>
                  <a:lnTo>
                    <a:pt x="314" y="150"/>
                  </a:lnTo>
                  <a:lnTo>
                    <a:pt x="312" y="142"/>
                  </a:lnTo>
                  <a:lnTo>
                    <a:pt x="312" y="134"/>
                  </a:lnTo>
                  <a:lnTo>
                    <a:pt x="306" y="132"/>
                  </a:lnTo>
                  <a:lnTo>
                    <a:pt x="290" y="108"/>
                  </a:lnTo>
                  <a:lnTo>
                    <a:pt x="280" y="100"/>
                  </a:lnTo>
                  <a:lnTo>
                    <a:pt x="256" y="90"/>
                  </a:lnTo>
                  <a:lnTo>
                    <a:pt x="246" y="88"/>
                  </a:lnTo>
                  <a:lnTo>
                    <a:pt x="246" y="88"/>
                  </a:lnTo>
                  <a:lnTo>
                    <a:pt x="240" y="86"/>
                  </a:lnTo>
                  <a:lnTo>
                    <a:pt x="236" y="82"/>
                  </a:lnTo>
                  <a:lnTo>
                    <a:pt x="212" y="110"/>
                  </a:lnTo>
                  <a:lnTo>
                    <a:pt x="196" y="144"/>
                  </a:lnTo>
                  <a:lnTo>
                    <a:pt x="172" y="156"/>
                  </a:lnTo>
                  <a:lnTo>
                    <a:pt x="168" y="170"/>
                  </a:lnTo>
                  <a:lnTo>
                    <a:pt x="156" y="176"/>
                  </a:lnTo>
                  <a:lnTo>
                    <a:pt x="152" y="208"/>
                  </a:lnTo>
                  <a:lnTo>
                    <a:pt x="138" y="214"/>
                  </a:lnTo>
                  <a:lnTo>
                    <a:pt x="138" y="214"/>
                  </a:lnTo>
                  <a:lnTo>
                    <a:pt x="134" y="232"/>
                  </a:lnTo>
                  <a:lnTo>
                    <a:pt x="132" y="246"/>
                  </a:lnTo>
                  <a:lnTo>
                    <a:pt x="114" y="264"/>
                  </a:lnTo>
                  <a:lnTo>
                    <a:pt x="120" y="268"/>
                  </a:lnTo>
                  <a:lnTo>
                    <a:pt x="120" y="268"/>
                  </a:lnTo>
                  <a:lnTo>
                    <a:pt x="118" y="276"/>
                  </a:lnTo>
                  <a:lnTo>
                    <a:pt x="116" y="282"/>
                  </a:lnTo>
                  <a:lnTo>
                    <a:pt x="112" y="288"/>
                  </a:lnTo>
                  <a:lnTo>
                    <a:pt x="108" y="294"/>
                  </a:lnTo>
                  <a:lnTo>
                    <a:pt x="108" y="294"/>
                  </a:lnTo>
                  <a:lnTo>
                    <a:pt x="96" y="318"/>
                  </a:lnTo>
                  <a:lnTo>
                    <a:pt x="96" y="328"/>
                  </a:lnTo>
                  <a:lnTo>
                    <a:pt x="96" y="332"/>
                  </a:lnTo>
                  <a:lnTo>
                    <a:pt x="96" y="346"/>
                  </a:lnTo>
                  <a:lnTo>
                    <a:pt x="84" y="380"/>
                  </a:lnTo>
                  <a:lnTo>
                    <a:pt x="86" y="386"/>
                  </a:lnTo>
                  <a:lnTo>
                    <a:pt x="86" y="420"/>
                  </a:lnTo>
                  <a:lnTo>
                    <a:pt x="82" y="436"/>
                  </a:lnTo>
                  <a:lnTo>
                    <a:pt x="82" y="454"/>
                  </a:lnTo>
                  <a:lnTo>
                    <a:pt x="94" y="470"/>
                  </a:lnTo>
                  <a:lnTo>
                    <a:pt x="110" y="476"/>
                  </a:lnTo>
                  <a:lnTo>
                    <a:pt x="116" y="478"/>
                  </a:lnTo>
                  <a:lnTo>
                    <a:pt x="126" y="478"/>
                  </a:lnTo>
                  <a:lnTo>
                    <a:pt x="156" y="478"/>
                  </a:lnTo>
                  <a:lnTo>
                    <a:pt x="160" y="466"/>
                  </a:lnTo>
                  <a:lnTo>
                    <a:pt x="166" y="466"/>
                  </a:lnTo>
                  <a:lnTo>
                    <a:pt x="166" y="466"/>
                  </a:lnTo>
                  <a:lnTo>
                    <a:pt x="172" y="466"/>
                  </a:lnTo>
                  <a:lnTo>
                    <a:pt x="174" y="470"/>
                  </a:lnTo>
                  <a:lnTo>
                    <a:pt x="184" y="466"/>
                  </a:lnTo>
                  <a:lnTo>
                    <a:pt x="194" y="470"/>
                  </a:lnTo>
                  <a:lnTo>
                    <a:pt x="210" y="458"/>
                  </a:lnTo>
                  <a:lnTo>
                    <a:pt x="212" y="454"/>
                  </a:lnTo>
                  <a:lnTo>
                    <a:pt x="222" y="452"/>
                  </a:lnTo>
                  <a:lnTo>
                    <a:pt x="222" y="452"/>
                  </a:lnTo>
                  <a:lnTo>
                    <a:pt x="228" y="446"/>
                  </a:lnTo>
                  <a:lnTo>
                    <a:pt x="236" y="438"/>
                  </a:lnTo>
                  <a:lnTo>
                    <a:pt x="248" y="432"/>
                  </a:lnTo>
                  <a:lnTo>
                    <a:pt x="262" y="426"/>
                  </a:lnTo>
                  <a:lnTo>
                    <a:pt x="264" y="418"/>
                  </a:lnTo>
                  <a:lnTo>
                    <a:pt x="288" y="402"/>
                  </a:lnTo>
                  <a:lnTo>
                    <a:pt x="302" y="382"/>
                  </a:lnTo>
                  <a:lnTo>
                    <a:pt x="320" y="372"/>
                  </a:lnTo>
                  <a:lnTo>
                    <a:pt x="322" y="366"/>
                  </a:lnTo>
                  <a:lnTo>
                    <a:pt x="328" y="352"/>
                  </a:lnTo>
                  <a:lnTo>
                    <a:pt x="328" y="336"/>
                  </a:lnTo>
                  <a:lnTo>
                    <a:pt x="342" y="324"/>
                  </a:lnTo>
                  <a:lnTo>
                    <a:pt x="346" y="316"/>
                  </a:lnTo>
                  <a:lnTo>
                    <a:pt x="352" y="310"/>
                  </a:lnTo>
                  <a:lnTo>
                    <a:pt x="352" y="310"/>
                  </a:lnTo>
                  <a:lnTo>
                    <a:pt x="350" y="296"/>
                  </a:lnTo>
                  <a:lnTo>
                    <a:pt x="348" y="288"/>
                  </a:lnTo>
                  <a:lnTo>
                    <a:pt x="348" y="288"/>
                  </a:lnTo>
                  <a:lnTo>
                    <a:pt x="350" y="278"/>
                  </a:lnTo>
                  <a:lnTo>
                    <a:pt x="356" y="266"/>
                  </a:lnTo>
                  <a:lnTo>
                    <a:pt x="360" y="260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28630440" y="4010040"/>
              <a:ext cx="622080" cy="10033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92" h="632">
                  <a:moveTo>
                    <a:pt x="392" y="462"/>
                  </a:moveTo>
                  <a:lnTo>
                    <a:pt x="392" y="462"/>
                  </a:lnTo>
                  <a:lnTo>
                    <a:pt x="390" y="470"/>
                  </a:lnTo>
                  <a:lnTo>
                    <a:pt x="386" y="480"/>
                  </a:lnTo>
                  <a:lnTo>
                    <a:pt x="380" y="488"/>
                  </a:lnTo>
                  <a:lnTo>
                    <a:pt x="370" y="500"/>
                  </a:lnTo>
                  <a:lnTo>
                    <a:pt x="370" y="500"/>
                  </a:lnTo>
                  <a:lnTo>
                    <a:pt x="362" y="518"/>
                  </a:lnTo>
                  <a:lnTo>
                    <a:pt x="352" y="532"/>
                  </a:lnTo>
                  <a:lnTo>
                    <a:pt x="346" y="532"/>
                  </a:lnTo>
                  <a:lnTo>
                    <a:pt x="332" y="556"/>
                  </a:lnTo>
                  <a:lnTo>
                    <a:pt x="310" y="560"/>
                  </a:lnTo>
                  <a:lnTo>
                    <a:pt x="288" y="574"/>
                  </a:lnTo>
                  <a:lnTo>
                    <a:pt x="276" y="596"/>
                  </a:lnTo>
                  <a:lnTo>
                    <a:pt x="262" y="596"/>
                  </a:lnTo>
                  <a:lnTo>
                    <a:pt x="262" y="596"/>
                  </a:lnTo>
                  <a:lnTo>
                    <a:pt x="252" y="600"/>
                  </a:lnTo>
                  <a:lnTo>
                    <a:pt x="242" y="602"/>
                  </a:lnTo>
                  <a:lnTo>
                    <a:pt x="234" y="612"/>
                  </a:lnTo>
                  <a:lnTo>
                    <a:pt x="234" y="612"/>
                  </a:lnTo>
                  <a:lnTo>
                    <a:pt x="224" y="612"/>
                  </a:lnTo>
                  <a:lnTo>
                    <a:pt x="224" y="612"/>
                  </a:lnTo>
                  <a:lnTo>
                    <a:pt x="216" y="614"/>
                  </a:lnTo>
                  <a:lnTo>
                    <a:pt x="208" y="616"/>
                  </a:lnTo>
                  <a:lnTo>
                    <a:pt x="202" y="624"/>
                  </a:lnTo>
                  <a:lnTo>
                    <a:pt x="194" y="632"/>
                  </a:lnTo>
                  <a:lnTo>
                    <a:pt x="178" y="618"/>
                  </a:lnTo>
                  <a:lnTo>
                    <a:pt x="178" y="618"/>
                  </a:lnTo>
                  <a:lnTo>
                    <a:pt x="162" y="618"/>
                  </a:lnTo>
                  <a:lnTo>
                    <a:pt x="162" y="618"/>
                  </a:lnTo>
                  <a:lnTo>
                    <a:pt x="148" y="616"/>
                  </a:lnTo>
                  <a:lnTo>
                    <a:pt x="136" y="612"/>
                  </a:lnTo>
                  <a:lnTo>
                    <a:pt x="116" y="612"/>
                  </a:lnTo>
                  <a:lnTo>
                    <a:pt x="108" y="606"/>
                  </a:lnTo>
                  <a:lnTo>
                    <a:pt x="108" y="606"/>
                  </a:lnTo>
                  <a:lnTo>
                    <a:pt x="86" y="600"/>
                  </a:lnTo>
                  <a:lnTo>
                    <a:pt x="70" y="594"/>
                  </a:lnTo>
                  <a:lnTo>
                    <a:pt x="58" y="584"/>
                  </a:lnTo>
                  <a:lnTo>
                    <a:pt x="54" y="578"/>
                  </a:lnTo>
                  <a:lnTo>
                    <a:pt x="50" y="570"/>
                  </a:lnTo>
                  <a:lnTo>
                    <a:pt x="50" y="566"/>
                  </a:lnTo>
                  <a:lnTo>
                    <a:pt x="36" y="560"/>
                  </a:lnTo>
                  <a:lnTo>
                    <a:pt x="28" y="540"/>
                  </a:lnTo>
                  <a:lnTo>
                    <a:pt x="14" y="530"/>
                  </a:lnTo>
                  <a:lnTo>
                    <a:pt x="14" y="512"/>
                  </a:lnTo>
                  <a:lnTo>
                    <a:pt x="0" y="458"/>
                  </a:lnTo>
                  <a:lnTo>
                    <a:pt x="0" y="414"/>
                  </a:lnTo>
                  <a:lnTo>
                    <a:pt x="6" y="396"/>
                  </a:lnTo>
                  <a:lnTo>
                    <a:pt x="6" y="370"/>
                  </a:lnTo>
                  <a:lnTo>
                    <a:pt x="12" y="350"/>
                  </a:lnTo>
                  <a:lnTo>
                    <a:pt x="12" y="342"/>
                  </a:lnTo>
                  <a:lnTo>
                    <a:pt x="20" y="328"/>
                  </a:lnTo>
                  <a:lnTo>
                    <a:pt x="18" y="330"/>
                  </a:lnTo>
                  <a:lnTo>
                    <a:pt x="18" y="330"/>
                  </a:lnTo>
                  <a:lnTo>
                    <a:pt x="20" y="318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0" y="272"/>
                  </a:lnTo>
                  <a:lnTo>
                    <a:pt x="20" y="272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30" y="242"/>
                  </a:lnTo>
                  <a:lnTo>
                    <a:pt x="38" y="234"/>
                  </a:lnTo>
                  <a:lnTo>
                    <a:pt x="38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34" y="208"/>
                  </a:lnTo>
                  <a:lnTo>
                    <a:pt x="34" y="20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2" y="172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44" y="162"/>
                  </a:lnTo>
                  <a:lnTo>
                    <a:pt x="50" y="166"/>
                  </a:lnTo>
                  <a:lnTo>
                    <a:pt x="56" y="170"/>
                  </a:lnTo>
                  <a:lnTo>
                    <a:pt x="66" y="170"/>
                  </a:lnTo>
                  <a:lnTo>
                    <a:pt x="68" y="170"/>
                  </a:lnTo>
                  <a:lnTo>
                    <a:pt x="68" y="170"/>
                  </a:lnTo>
                  <a:lnTo>
                    <a:pt x="72" y="164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4" y="144"/>
                  </a:lnTo>
                  <a:lnTo>
                    <a:pt x="90" y="132"/>
                  </a:lnTo>
                  <a:lnTo>
                    <a:pt x="98" y="118"/>
                  </a:lnTo>
                  <a:lnTo>
                    <a:pt x="106" y="108"/>
                  </a:lnTo>
                  <a:lnTo>
                    <a:pt x="110" y="104"/>
                  </a:lnTo>
                  <a:lnTo>
                    <a:pt x="110" y="104"/>
                  </a:lnTo>
                  <a:lnTo>
                    <a:pt x="112" y="94"/>
                  </a:lnTo>
                  <a:lnTo>
                    <a:pt x="118" y="74"/>
                  </a:lnTo>
                  <a:lnTo>
                    <a:pt x="128" y="74"/>
                  </a:lnTo>
                  <a:lnTo>
                    <a:pt x="130" y="6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8" y="32"/>
                  </a:lnTo>
                  <a:lnTo>
                    <a:pt x="186" y="24"/>
                  </a:lnTo>
                  <a:lnTo>
                    <a:pt x="186" y="24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04" y="12"/>
                  </a:lnTo>
                  <a:lnTo>
                    <a:pt x="23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4" y="2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6" y="10"/>
                  </a:lnTo>
                  <a:lnTo>
                    <a:pt x="276" y="10"/>
                  </a:lnTo>
                  <a:lnTo>
                    <a:pt x="290" y="20"/>
                  </a:lnTo>
                  <a:lnTo>
                    <a:pt x="304" y="28"/>
                  </a:lnTo>
                  <a:lnTo>
                    <a:pt x="324" y="44"/>
                  </a:lnTo>
                  <a:lnTo>
                    <a:pt x="324" y="48"/>
                  </a:lnTo>
                  <a:lnTo>
                    <a:pt x="324" y="48"/>
                  </a:lnTo>
                  <a:lnTo>
                    <a:pt x="336" y="60"/>
                  </a:lnTo>
                  <a:lnTo>
                    <a:pt x="346" y="74"/>
                  </a:lnTo>
                  <a:lnTo>
                    <a:pt x="350" y="92"/>
                  </a:lnTo>
                  <a:lnTo>
                    <a:pt x="352" y="110"/>
                  </a:lnTo>
                  <a:lnTo>
                    <a:pt x="348" y="122"/>
                  </a:lnTo>
                  <a:lnTo>
                    <a:pt x="352" y="162"/>
                  </a:lnTo>
                  <a:lnTo>
                    <a:pt x="342" y="170"/>
                  </a:lnTo>
                  <a:lnTo>
                    <a:pt x="330" y="202"/>
                  </a:lnTo>
                  <a:lnTo>
                    <a:pt x="308" y="228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270" y="27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30" y="300"/>
                  </a:lnTo>
                  <a:lnTo>
                    <a:pt x="222" y="304"/>
                  </a:lnTo>
                  <a:lnTo>
                    <a:pt x="212" y="308"/>
                  </a:lnTo>
                  <a:lnTo>
                    <a:pt x="202" y="310"/>
                  </a:lnTo>
                  <a:lnTo>
                    <a:pt x="198" y="310"/>
                  </a:lnTo>
                  <a:lnTo>
                    <a:pt x="176" y="324"/>
                  </a:lnTo>
                  <a:lnTo>
                    <a:pt x="158" y="324"/>
                  </a:lnTo>
                  <a:lnTo>
                    <a:pt x="128" y="336"/>
                  </a:lnTo>
                  <a:lnTo>
                    <a:pt x="108" y="326"/>
                  </a:lnTo>
                  <a:lnTo>
                    <a:pt x="104" y="326"/>
                  </a:lnTo>
                  <a:lnTo>
                    <a:pt x="104" y="326"/>
                  </a:lnTo>
                  <a:lnTo>
                    <a:pt x="100" y="354"/>
                  </a:lnTo>
                  <a:lnTo>
                    <a:pt x="90" y="362"/>
                  </a:lnTo>
                  <a:lnTo>
                    <a:pt x="90" y="376"/>
                  </a:lnTo>
                  <a:lnTo>
                    <a:pt x="82" y="398"/>
                  </a:lnTo>
                  <a:lnTo>
                    <a:pt x="82" y="398"/>
                  </a:lnTo>
                  <a:lnTo>
                    <a:pt x="84" y="436"/>
                  </a:lnTo>
                  <a:lnTo>
                    <a:pt x="80" y="440"/>
                  </a:lnTo>
                  <a:lnTo>
                    <a:pt x="80" y="440"/>
                  </a:lnTo>
                  <a:lnTo>
                    <a:pt x="80" y="462"/>
                  </a:lnTo>
                  <a:lnTo>
                    <a:pt x="80" y="462"/>
                  </a:lnTo>
                  <a:lnTo>
                    <a:pt x="78" y="466"/>
                  </a:lnTo>
                  <a:lnTo>
                    <a:pt x="78" y="466"/>
                  </a:lnTo>
                  <a:lnTo>
                    <a:pt x="78" y="470"/>
                  </a:lnTo>
                  <a:lnTo>
                    <a:pt x="78" y="470"/>
                  </a:lnTo>
                  <a:lnTo>
                    <a:pt x="80" y="474"/>
                  </a:lnTo>
                  <a:lnTo>
                    <a:pt x="80" y="478"/>
                  </a:lnTo>
                  <a:lnTo>
                    <a:pt x="88" y="486"/>
                  </a:lnTo>
                  <a:lnTo>
                    <a:pt x="88" y="486"/>
                  </a:lnTo>
                  <a:lnTo>
                    <a:pt x="92" y="498"/>
                  </a:lnTo>
                  <a:lnTo>
                    <a:pt x="96" y="502"/>
                  </a:lnTo>
                  <a:lnTo>
                    <a:pt x="100" y="504"/>
                  </a:lnTo>
                  <a:lnTo>
                    <a:pt x="108" y="512"/>
                  </a:lnTo>
                  <a:lnTo>
                    <a:pt x="134" y="518"/>
                  </a:lnTo>
                  <a:lnTo>
                    <a:pt x="134" y="522"/>
                  </a:lnTo>
                  <a:lnTo>
                    <a:pt x="144" y="526"/>
                  </a:lnTo>
                  <a:lnTo>
                    <a:pt x="184" y="526"/>
                  </a:lnTo>
                  <a:lnTo>
                    <a:pt x="208" y="522"/>
                  </a:lnTo>
                  <a:lnTo>
                    <a:pt x="220" y="514"/>
                  </a:lnTo>
                  <a:lnTo>
                    <a:pt x="228" y="510"/>
                  </a:lnTo>
                  <a:lnTo>
                    <a:pt x="240" y="492"/>
                  </a:lnTo>
                  <a:lnTo>
                    <a:pt x="246" y="492"/>
                  </a:lnTo>
                  <a:lnTo>
                    <a:pt x="274" y="482"/>
                  </a:lnTo>
                  <a:lnTo>
                    <a:pt x="274" y="482"/>
                  </a:lnTo>
                  <a:lnTo>
                    <a:pt x="282" y="474"/>
                  </a:lnTo>
                  <a:lnTo>
                    <a:pt x="290" y="468"/>
                  </a:lnTo>
                  <a:lnTo>
                    <a:pt x="294" y="462"/>
                  </a:lnTo>
                  <a:lnTo>
                    <a:pt x="294" y="462"/>
                  </a:lnTo>
                  <a:lnTo>
                    <a:pt x="304" y="458"/>
                  </a:lnTo>
                  <a:lnTo>
                    <a:pt x="312" y="452"/>
                  </a:lnTo>
                  <a:lnTo>
                    <a:pt x="318" y="446"/>
                  </a:lnTo>
                  <a:lnTo>
                    <a:pt x="322" y="436"/>
                  </a:lnTo>
                  <a:lnTo>
                    <a:pt x="322" y="436"/>
                  </a:lnTo>
                  <a:lnTo>
                    <a:pt x="330" y="428"/>
                  </a:lnTo>
                  <a:lnTo>
                    <a:pt x="340" y="424"/>
                  </a:lnTo>
                  <a:lnTo>
                    <a:pt x="352" y="420"/>
                  </a:lnTo>
                  <a:lnTo>
                    <a:pt x="364" y="418"/>
                  </a:lnTo>
                  <a:lnTo>
                    <a:pt x="368" y="418"/>
                  </a:lnTo>
                  <a:lnTo>
                    <a:pt x="368" y="418"/>
                  </a:lnTo>
                  <a:lnTo>
                    <a:pt x="378" y="432"/>
                  </a:lnTo>
                  <a:lnTo>
                    <a:pt x="386" y="444"/>
                  </a:lnTo>
                  <a:lnTo>
                    <a:pt x="390" y="454"/>
                  </a:lnTo>
                  <a:lnTo>
                    <a:pt x="392" y="462"/>
                  </a:lnTo>
                  <a:lnTo>
                    <a:pt x="392" y="462"/>
                  </a:lnTo>
                  <a:close/>
                  <a:moveTo>
                    <a:pt x="274" y="112"/>
                  </a:moveTo>
                  <a:lnTo>
                    <a:pt x="274" y="112"/>
                  </a:lnTo>
                  <a:lnTo>
                    <a:pt x="270" y="96"/>
                  </a:lnTo>
                  <a:lnTo>
                    <a:pt x="264" y="96"/>
                  </a:lnTo>
                  <a:lnTo>
                    <a:pt x="262" y="96"/>
                  </a:lnTo>
                  <a:lnTo>
                    <a:pt x="262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98"/>
                  </a:lnTo>
                  <a:lnTo>
                    <a:pt x="252" y="98"/>
                  </a:lnTo>
                  <a:lnTo>
                    <a:pt x="248" y="96"/>
                  </a:lnTo>
                  <a:lnTo>
                    <a:pt x="248" y="96"/>
                  </a:lnTo>
                  <a:lnTo>
                    <a:pt x="246" y="96"/>
                  </a:lnTo>
                  <a:lnTo>
                    <a:pt x="234" y="106"/>
                  </a:lnTo>
                  <a:lnTo>
                    <a:pt x="222" y="106"/>
                  </a:lnTo>
                  <a:lnTo>
                    <a:pt x="216" y="110"/>
                  </a:lnTo>
                  <a:lnTo>
                    <a:pt x="196" y="136"/>
                  </a:lnTo>
                  <a:lnTo>
                    <a:pt x="184" y="146"/>
                  </a:lnTo>
                  <a:lnTo>
                    <a:pt x="164" y="180"/>
                  </a:lnTo>
                  <a:lnTo>
                    <a:pt x="154" y="188"/>
                  </a:lnTo>
                  <a:lnTo>
                    <a:pt x="154" y="188"/>
                  </a:lnTo>
                  <a:lnTo>
                    <a:pt x="152" y="198"/>
                  </a:lnTo>
                  <a:lnTo>
                    <a:pt x="148" y="206"/>
                  </a:lnTo>
                  <a:lnTo>
                    <a:pt x="142" y="214"/>
                  </a:lnTo>
                  <a:lnTo>
                    <a:pt x="136" y="222"/>
                  </a:lnTo>
                  <a:lnTo>
                    <a:pt x="132" y="232"/>
                  </a:lnTo>
                  <a:lnTo>
                    <a:pt x="132" y="232"/>
                  </a:lnTo>
                  <a:lnTo>
                    <a:pt x="146" y="224"/>
                  </a:lnTo>
                  <a:lnTo>
                    <a:pt x="162" y="222"/>
                  </a:lnTo>
                  <a:lnTo>
                    <a:pt x="170" y="218"/>
                  </a:lnTo>
                  <a:lnTo>
                    <a:pt x="174" y="208"/>
                  </a:lnTo>
                  <a:lnTo>
                    <a:pt x="190" y="210"/>
                  </a:lnTo>
                  <a:lnTo>
                    <a:pt x="200" y="194"/>
                  </a:lnTo>
                  <a:lnTo>
                    <a:pt x="208" y="194"/>
                  </a:lnTo>
                  <a:lnTo>
                    <a:pt x="220" y="200"/>
                  </a:lnTo>
                  <a:lnTo>
                    <a:pt x="226" y="182"/>
                  </a:lnTo>
                  <a:lnTo>
                    <a:pt x="234" y="182"/>
                  </a:lnTo>
                  <a:lnTo>
                    <a:pt x="234" y="168"/>
                  </a:lnTo>
                  <a:lnTo>
                    <a:pt x="250" y="164"/>
                  </a:lnTo>
                  <a:lnTo>
                    <a:pt x="254" y="160"/>
                  </a:lnTo>
                  <a:lnTo>
                    <a:pt x="256" y="150"/>
                  </a:lnTo>
                  <a:lnTo>
                    <a:pt x="272" y="126"/>
                  </a:lnTo>
                  <a:lnTo>
                    <a:pt x="272" y="126"/>
                  </a:lnTo>
                  <a:lnTo>
                    <a:pt x="274" y="120"/>
                  </a:lnTo>
                  <a:lnTo>
                    <a:pt x="274" y="112"/>
                  </a:lnTo>
                  <a:lnTo>
                    <a:pt x="274" y="112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29287800" y="4054320"/>
              <a:ext cx="790560" cy="8794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498" h="554">
                  <a:moveTo>
                    <a:pt x="498" y="434"/>
                  </a:moveTo>
                  <a:lnTo>
                    <a:pt x="484" y="452"/>
                  </a:lnTo>
                  <a:lnTo>
                    <a:pt x="470" y="484"/>
                  </a:lnTo>
                  <a:lnTo>
                    <a:pt x="462" y="490"/>
                  </a:lnTo>
                  <a:lnTo>
                    <a:pt x="452" y="508"/>
                  </a:lnTo>
                  <a:lnTo>
                    <a:pt x="428" y="510"/>
                  </a:lnTo>
                  <a:lnTo>
                    <a:pt x="414" y="526"/>
                  </a:lnTo>
                  <a:lnTo>
                    <a:pt x="390" y="526"/>
                  </a:lnTo>
                  <a:lnTo>
                    <a:pt x="376" y="538"/>
                  </a:lnTo>
                  <a:lnTo>
                    <a:pt x="362" y="534"/>
                  </a:lnTo>
                  <a:lnTo>
                    <a:pt x="346" y="538"/>
                  </a:lnTo>
                  <a:lnTo>
                    <a:pt x="346" y="548"/>
                  </a:lnTo>
                  <a:lnTo>
                    <a:pt x="302" y="544"/>
                  </a:lnTo>
                  <a:lnTo>
                    <a:pt x="284" y="544"/>
                  </a:lnTo>
                  <a:lnTo>
                    <a:pt x="270" y="554"/>
                  </a:lnTo>
                  <a:lnTo>
                    <a:pt x="258" y="546"/>
                  </a:lnTo>
                  <a:lnTo>
                    <a:pt x="258" y="546"/>
                  </a:lnTo>
                  <a:lnTo>
                    <a:pt x="276" y="544"/>
                  </a:lnTo>
                  <a:lnTo>
                    <a:pt x="276" y="544"/>
                  </a:lnTo>
                  <a:lnTo>
                    <a:pt x="220" y="548"/>
                  </a:lnTo>
                  <a:lnTo>
                    <a:pt x="216" y="546"/>
                  </a:lnTo>
                  <a:lnTo>
                    <a:pt x="206" y="544"/>
                  </a:lnTo>
                  <a:lnTo>
                    <a:pt x="190" y="554"/>
                  </a:lnTo>
                  <a:lnTo>
                    <a:pt x="190" y="554"/>
                  </a:lnTo>
                  <a:lnTo>
                    <a:pt x="164" y="546"/>
                  </a:lnTo>
                  <a:lnTo>
                    <a:pt x="164" y="546"/>
                  </a:lnTo>
                  <a:lnTo>
                    <a:pt x="130" y="544"/>
                  </a:lnTo>
                  <a:lnTo>
                    <a:pt x="120" y="544"/>
                  </a:lnTo>
                  <a:lnTo>
                    <a:pt x="120" y="544"/>
                  </a:lnTo>
                  <a:lnTo>
                    <a:pt x="112" y="542"/>
                  </a:lnTo>
                  <a:lnTo>
                    <a:pt x="102" y="542"/>
                  </a:lnTo>
                  <a:lnTo>
                    <a:pt x="102" y="542"/>
                  </a:lnTo>
                  <a:lnTo>
                    <a:pt x="94" y="542"/>
                  </a:lnTo>
                  <a:lnTo>
                    <a:pt x="84" y="544"/>
                  </a:lnTo>
                  <a:lnTo>
                    <a:pt x="66" y="534"/>
                  </a:lnTo>
                  <a:lnTo>
                    <a:pt x="58" y="532"/>
                  </a:lnTo>
                  <a:lnTo>
                    <a:pt x="58" y="532"/>
                  </a:lnTo>
                  <a:lnTo>
                    <a:pt x="44" y="528"/>
                  </a:lnTo>
                  <a:lnTo>
                    <a:pt x="44" y="528"/>
                  </a:lnTo>
                  <a:lnTo>
                    <a:pt x="34" y="526"/>
                  </a:lnTo>
                  <a:lnTo>
                    <a:pt x="24" y="522"/>
                  </a:lnTo>
                  <a:lnTo>
                    <a:pt x="18" y="514"/>
                  </a:lnTo>
                  <a:lnTo>
                    <a:pt x="12" y="506"/>
                  </a:lnTo>
                  <a:lnTo>
                    <a:pt x="6" y="496"/>
                  </a:lnTo>
                  <a:lnTo>
                    <a:pt x="2" y="484"/>
                  </a:lnTo>
                  <a:lnTo>
                    <a:pt x="0" y="470"/>
                  </a:lnTo>
                  <a:lnTo>
                    <a:pt x="0" y="452"/>
                  </a:lnTo>
                  <a:lnTo>
                    <a:pt x="0" y="442"/>
                  </a:lnTo>
                  <a:lnTo>
                    <a:pt x="22" y="426"/>
                  </a:lnTo>
                  <a:lnTo>
                    <a:pt x="52" y="414"/>
                  </a:lnTo>
                  <a:lnTo>
                    <a:pt x="72" y="426"/>
                  </a:lnTo>
                  <a:lnTo>
                    <a:pt x="90" y="426"/>
                  </a:lnTo>
                  <a:lnTo>
                    <a:pt x="90" y="428"/>
                  </a:lnTo>
                  <a:lnTo>
                    <a:pt x="90" y="428"/>
                  </a:lnTo>
                  <a:lnTo>
                    <a:pt x="96" y="432"/>
                  </a:lnTo>
                  <a:lnTo>
                    <a:pt x="100" y="436"/>
                  </a:lnTo>
                  <a:lnTo>
                    <a:pt x="108" y="448"/>
                  </a:lnTo>
                  <a:lnTo>
                    <a:pt x="118" y="450"/>
                  </a:lnTo>
                  <a:lnTo>
                    <a:pt x="118" y="466"/>
                  </a:lnTo>
                  <a:lnTo>
                    <a:pt x="134" y="470"/>
                  </a:lnTo>
                  <a:lnTo>
                    <a:pt x="138" y="472"/>
                  </a:lnTo>
                  <a:lnTo>
                    <a:pt x="290" y="462"/>
                  </a:lnTo>
                  <a:lnTo>
                    <a:pt x="326" y="456"/>
                  </a:lnTo>
                  <a:lnTo>
                    <a:pt x="330" y="456"/>
                  </a:lnTo>
                  <a:lnTo>
                    <a:pt x="332" y="450"/>
                  </a:lnTo>
                  <a:lnTo>
                    <a:pt x="350" y="448"/>
                  </a:lnTo>
                  <a:lnTo>
                    <a:pt x="352" y="444"/>
                  </a:lnTo>
                  <a:lnTo>
                    <a:pt x="352" y="444"/>
                  </a:lnTo>
                  <a:lnTo>
                    <a:pt x="376" y="438"/>
                  </a:lnTo>
                  <a:lnTo>
                    <a:pt x="398" y="428"/>
                  </a:lnTo>
                  <a:lnTo>
                    <a:pt x="400" y="422"/>
                  </a:lnTo>
                  <a:lnTo>
                    <a:pt x="400" y="422"/>
                  </a:lnTo>
                  <a:lnTo>
                    <a:pt x="394" y="414"/>
                  </a:lnTo>
                  <a:lnTo>
                    <a:pt x="388" y="416"/>
                  </a:lnTo>
                  <a:lnTo>
                    <a:pt x="372" y="404"/>
                  </a:lnTo>
                  <a:lnTo>
                    <a:pt x="362" y="404"/>
                  </a:lnTo>
                  <a:lnTo>
                    <a:pt x="356" y="394"/>
                  </a:lnTo>
                  <a:lnTo>
                    <a:pt x="360" y="390"/>
                  </a:lnTo>
                  <a:lnTo>
                    <a:pt x="346" y="392"/>
                  </a:lnTo>
                  <a:lnTo>
                    <a:pt x="338" y="382"/>
                  </a:lnTo>
                  <a:lnTo>
                    <a:pt x="338" y="382"/>
                  </a:lnTo>
                  <a:lnTo>
                    <a:pt x="326" y="382"/>
                  </a:lnTo>
                  <a:lnTo>
                    <a:pt x="326" y="382"/>
                  </a:lnTo>
                  <a:lnTo>
                    <a:pt x="310" y="380"/>
                  </a:lnTo>
                  <a:lnTo>
                    <a:pt x="294" y="376"/>
                  </a:lnTo>
                  <a:lnTo>
                    <a:pt x="284" y="376"/>
                  </a:lnTo>
                  <a:lnTo>
                    <a:pt x="276" y="372"/>
                  </a:lnTo>
                  <a:lnTo>
                    <a:pt x="258" y="378"/>
                  </a:lnTo>
                  <a:lnTo>
                    <a:pt x="250" y="368"/>
                  </a:lnTo>
                  <a:lnTo>
                    <a:pt x="246" y="368"/>
                  </a:lnTo>
                  <a:lnTo>
                    <a:pt x="228" y="354"/>
                  </a:lnTo>
                  <a:lnTo>
                    <a:pt x="192" y="340"/>
                  </a:lnTo>
                  <a:lnTo>
                    <a:pt x="180" y="330"/>
                  </a:lnTo>
                  <a:lnTo>
                    <a:pt x="134" y="322"/>
                  </a:lnTo>
                  <a:lnTo>
                    <a:pt x="130" y="312"/>
                  </a:lnTo>
                  <a:lnTo>
                    <a:pt x="96" y="290"/>
                  </a:lnTo>
                  <a:lnTo>
                    <a:pt x="78" y="250"/>
                  </a:lnTo>
                  <a:lnTo>
                    <a:pt x="64" y="230"/>
                  </a:lnTo>
                  <a:lnTo>
                    <a:pt x="60" y="166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6" y="146"/>
                  </a:lnTo>
                  <a:lnTo>
                    <a:pt x="70" y="132"/>
                  </a:lnTo>
                  <a:lnTo>
                    <a:pt x="76" y="122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92" y="104"/>
                  </a:lnTo>
                  <a:lnTo>
                    <a:pt x="96" y="98"/>
                  </a:lnTo>
                  <a:lnTo>
                    <a:pt x="100" y="90"/>
                  </a:lnTo>
                  <a:lnTo>
                    <a:pt x="102" y="82"/>
                  </a:lnTo>
                  <a:lnTo>
                    <a:pt x="120" y="78"/>
                  </a:lnTo>
                  <a:lnTo>
                    <a:pt x="120" y="78"/>
                  </a:lnTo>
                  <a:lnTo>
                    <a:pt x="126" y="70"/>
                  </a:lnTo>
                  <a:lnTo>
                    <a:pt x="138" y="60"/>
                  </a:lnTo>
                  <a:lnTo>
                    <a:pt x="156" y="46"/>
                  </a:lnTo>
                  <a:lnTo>
                    <a:pt x="232" y="16"/>
                  </a:lnTo>
                  <a:lnTo>
                    <a:pt x="244" y="12"/>
                  </a:lnTo>
                  <a:lnTo>
                    <a:pt x="268" y="10"/>
                  </a:lnTo>
                  <a:lnTo>
                    <a:pt x="308" y="0"/>
                  </a:lnTo>
                  <a:lnTo>
                    <a:pt x="382" y="4"/>
                  </a:lnTo>
                  <a:lnTo>
                    <a:pt x="384" y="10"/>
                  </a:lnTo>
                  <a:lnTo>
                    <a:pt x="384" y="10"/>
                  </a:lnTo>
                  <a:lnTo>
                    <a:pt x="396" y="18"/>
                  </a:lnTo>
                  <a:lnTo>
                    <a:pt x="408" y="30"/>
                  </a:lnTo>
                  <a:lnTo>
                    <a:pt x="408" y="36"/>
                  </a:lnTo>
                  <a:lnTo>
                    <a:pt x="428" y="48"/>
                  </a:lnTo>
                  <a:lnTo>
                    <a:pt x="420" y="78"/>
                  </a:lnTo>
                  <a:lnTo>
                    <a:pt x="416" y="88"/>
                  </a:lnTo>
                  <a:lnTo>
                    <a:pt x="416" y="88"/>
                  </a:lnTo>
                  <a:lnTo>
                    <a:pt x="412" y="102"/>
                  </a:lnTo>
                  <a:lnTo>
                    <a:pt x="406" y="112"/>
                  </a:lnTo>
                  <a:lnTo>
                    <a:pt x="396" y="118"/>
                  </a:lnTo>
                  <a:lnTo>
                    <a:pt x="384" y="118"/>
                  </a:lnTo>
                  <a:lnTo>
                    <a:pt x="384" y="118"/>
                  </a:lnTo>
                  <a:lnTo>
                    <a:pt x="374" y="118"/>
                  </a:lnTo>
                  <a:lnTo>
                    <a:pt x="364" y="114"/>
                  </a:lnTo>
                  <a:lnTo>
                    <a:pt x="358" y="108"/>
                  </a:lnTo>
                  <a:lnTo>
                    <a:pt x="352" y="98"/>
                  </a:lnTo>
                  <a:lnTo>
                    <a:pt x="352" y="94"/>
                  </a:lnTo>
                  <a:lnTo>
                    <a:pt x="338" y="94"/>
                  </a:lnTo>
                  <a:lnTo>
                    <a:pt x="320" y="100"/>
                  </a:lnTo>
                  <a:lnTo>
                    <a:pt x="306" y="88"/>
                  </a:lnTo>
                  <a:lnTo>
                    <a:pt x="296" y="94"/>
                  </a:lnTo>
                  <a:lnTo>
                    <a:pt x="296" y="94"/>
                  </a:lnTo>
                  <a:lnTo>
                    <a:pt x="290" y="94"/>
                  </a:lnTo>
                  <a:lnTo>
                    <a:pt x="282" y="96"/>
                  </a:lnTo>
                  <a:lnTo>
                    <a:pt x="274" y="100"/>
                  </a:lnTo>
                  <a:lnTo>
                    <a:pt x="268" y="104"/>
                  </a:lnTo>
                  <a:lnTo>
                    <a:pt x="268" y="104"/>
                  </a:lnTo>
                  <a:lnTo>
                    <a:pt x="260" y="104"/>
                  </a:lnTo>
                  <a:lnTo>
                    <a:pt x="250" y="108"/>
                  </a:lnTo>
                  <a:lnTo>
                    <a:pt x="242" y="112"/>
                  </a:lnTo>
                  <a:lnTo>
                    <a:pt x="234" y="118"/>
                  </a:lnTo>
                  <a:lnTo>
                    <a:pt x="218" y="118"/>
                  </a:lnTo>
                  <a:lnTo>
                    <a:pt x="208" y="126"/>
                  </a:lnTo>
                  <a:lnTo>
                    <a:pt x="190" y="130"/>
                  </a:lnTo>
                  <a:lnTo>
                    <a:pt x="188" y="132"/>
                  </a:lnTo>
                  <a:lnTo>
                    <a:pt x="182" y="136"/>
                  </a:lnTo>
                  <a:lnTo>
                    <a:pt x="170" y="146"/>
                  </a:lnTo>
                  <a:lnTo>
                    <a:pt x="166" y="148"/>
                  </a:lnTo>
                  <a:lnTo>
                    <a:pt x="156" y="166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40" y="188"/>
                  </a:lnTo>
                  <a:lnTo>
                    <a:pt x="138" y="200"/>
                  </a:lnTo>
                  <a:lnTo>
                    <a:pt x="138" y="200"/>
                  </a:lnTo>
                  <a:lnTo>
                    <a:pt x="138" y="214"/>
                  </a:lnTo>
                  <a:lnTo>
                    <a:pt x="142" y="222"/>
                  </a:lnTo>
                  <a:lnTo>
                    <a:pt x="142" y="222"/>
                  </a:lnTo>
                  <a:lnTo>
                    <a:pt x="146" y="228"/>
                  </a:lnTo>
                  <a:lnTo>
                    <a:pt x="158" y="234"/>
                  </a:lnTo>
                  <a:lnTo>
                    <a:pt x="158" y="240"/>
                  </a:lnTo>
                  <a:lnTo>
                    <a:pt x="172" y="248"/>
                  </a:lnTo>
                  <a:lnTo>
                    <a:pt x="172" y="248"/>
                  </a:lnTo>
                  <a:lnTo>
                    <a:pt x="190" y="256"/>
                  </a:lnTo>
                  <a:lnTo>
                    <a:pt x="202" y="264"/>
                  </a:lnTo>
                  <a:lnTo>
                    <a:pt x="226" y="264"/>
                  </a:lnTo>
                  <a:lnTo>
                    <a:pt x="240" y="278"/>
                  </a:lnTo>
                  <a:lnTo>
                    <a:pt x="268" y="282"/>
                  </a:lnTo>
                  <a:lnTo>
                    <a:pt x="278" y="288"/>
                  </a:lnTo>
                  <a:lnTo>
                    <a:pt x="326" y="302"/>
                  </a:lnTo>
                  <a:lnTo>
                    <a:pt x="332" y="316"/>
                  </a:lnTo>
                  <a:lnTo>
                    <a:pt x="336" y="306"/>
                  </a:lnTo>
                  <a:lnTo>
                    <a:pt x="336" y="306"/>
                  </a:lnTo>
                  <a:lnTo>
                    <a:pt x="344" y="308"/>
                  </a:lnTo>
                  <a:lnTo>
                    <a:pt x="354" y="310"/>
                  </a:lnTo>
                  <a:lnTo>
                    <a:pt x="378" y="322"/>
                  </a:lnTo>
                  <a:lnTo>
                    <a:pt x="398" y="326"/>
                  </a:lnTo>
                  <a:lnTo>
                    <a:pt x="402" y="334"/>
                  </a:lnTo>
                  <a:lnTo>
                    <a:pt x="420" y="334"/>
                  </a:lnTo>
                  <a:lnTo>
                    <a:pt x="454" y="354"/>
                  </a:lnTo>
                  <a:lnTo>
                    <a:pt x="454" y="354"/>
                  </a:lnTo>
                  <a:lnTo>
                    <a:pt x="458" y="360"/>
                  </a:lnTo>
                  <a:lnTo>
                    <a:pt x="464" y="368"/>
                  </a:lnTo>
                  <a:lnTo>
                    <a:pt x="470" y="376"/>
                  </a:lnTo>
                  <a:lnTo>
                    <a:pt x="480" y="382"/>
                  </a:lnTo>
                  <a:lnTo>
                    <a:pt x="494" y="390"/>
                  </a:lnTo>
                  <a:lnTo>
                    <a:pt x="490" y="406"/>
                  </a:lnTo>
                  <a:lnTo>
                    <a:pt x="490" y="406"/>
                  </a:lnTo>
                  <a:lnTo>
                    <a:pt x="496" y="418"/>
                  </a:lnTo>
                  <a:lnTo>
                    <a:pt x="498" y="432"/>
                  </a:lnTo>
                  <a:lnTo>
                    <a:pt x="498" y="434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30602160" y="3889440"/>
              <a:ext cx="1346040" cy="10350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848" h="652">
                  <a:moveTo>
                    <a:pt x="848" y="496"/>
                  </a:moveTo>
                  <a:lnTo>
                    <a:pt x="848" y="496"/>
                  </a:lnTo>
                  <a:lnTo>
                    <a:pt x="848" y="504"/>
                  </a:lnTo>
                  <a:lnTo>
                    <a:pt x="844" y="512"/>
                  </a:lnTo>
                  <a:lnTo>
                    <a:pt x="840" y="522"/>
                  </a:lnTo>
                  <a:lnTo>
                    <a:pt x="834" y="532"/>
                  </a:lnTo>
                  <a:lnTo>
                    <a:pt x="834" y="532"/>
                  </a:lnTo>
                  <a:lnTo>
                    <a:pt x="824" y="544"/>
                  </a:lnTo>
                  <a:lnTo>
                    <a:pt x="812" y="554"/>
                  </a:lnTo>
                  <a:lnTo>
                    <a:pt x="800" y="564"/>
                  </a:lnTo>
                  <a:lnTo>
                    <a:pt x="786" y="572"/>
                  </a:lnTo>
                  <a:lnTo>
                    <a:pt x="786" y="572"/>
                  </a:lnTo>
                  <a:lnTo>
                    <a:pt x="776" y="578"/>
                  </a:lnTo>
                  <a:lnTo>
                    <a:pt x="766" y="582"/>
                  </a:lnTo>
                  <a:lnTo>
                    <a:pt x="766" y="582"/>
                  </a:lnTo>
                  <a:lnTo>
                    <a:pt x="756" y="588"/>
                  </a:lnTo>
                  <a:lnTo>
                    <a:pt x="746" y="592"/>
                  </a:lnTo>
                  <a:lnTo>
                    <a:pt x="736" y="596"/>
                  </a:lnTo>
                  <a:lnTo>
                    <a:pt x="724" y="598"/>
                  </a:lnTo>
                  <a:lnTo>
                    <a:pt x="724" y="598"/>
                  </a:lnTo>
                  <a:lnTo>
                    <a:pt x="714" y="606"/>
                  </a:lnTo>
                  <a:lnTo>
                    <a:pt x="696" y="614"/>
                  </a:lnTo>
                  <a:lnTo>
                    <a:pt x="674" y="614"/>
                  </a:lnTo>
                  <a:lnTo>
                    <a:pt x="654" y="630"/>
                  </a:lnTo>
                  <a:lnTo>
                    <a:pt x="630" y="626"/>
                  </a:lnTo>
                  <a:lnTo>
                    <a:pt x="624" y="626"/>
                  </a:lnTo>
                  <a:lnTo>
                    <a:pt x="606" y="630"/>
                  </a:lnTo>
                  <a:lnTo>
                    <a:pt x="606" y="630"/>
                  </a:lnTo>
                  <a:lnTo>
                    <a:pt x="576" y="632"/>
                  </a:lnTo>
                  <a:lnTo>
                    <a:pt x="576" y="632"/>
                  </a:lnTo>
                  <a:lnTo>
                    <a:pt x="568" y="630"/>
                  </a:lnTo>
                  <a:lnTo>
                    <a:pt x="568" y="630"/>
                  </a:lnTo>
                  <a:lnTo>
                    <a:pt x="558" y="630"/>
                  </a:lnTo>
                  <a:lnTo>
                    <a:pt x="542" y="636"/>
                  </a:lnTo>
                  <a:lnTo>
                    <a:pt x="518" y="638"/>
                  </a:lnTo>
                  <a:lnTo>
                    <a:pt x="490" y="638"/>
                  </a:lnTo>
                  <a:lnTo>
                    <a:pt x="478" y="646"/>
                  </a:lnTo>
                  <a:lnTo>
                    <a:pt x="480" y="652"/>
                  </a:lnTo>
                  <a:lnTo>
                    <a:pt x="480" y="652"/>
                  </a:lnTo>
                  <a:lnTo>
                    <a:pt x="438" y="652"/>
                  </a:lnTo>
                  <a:lnTo>
                    <a:pt x="432" y="652"/>
                  </a:lnTo>
                  <a:lnTo>
                    <a:pt x="384" y="646"/>
                  </a:lnTo>
                  <a:lnTo>
                    <a:pt x="314" y="644"/>
                  </a:lnTo>
                  <a:lnTo>
                    <a:pt x="292" y="638"/>
                  </a:lnTo>
                  <a:lnTo>
                    <a:pt x="292" y="638"/>
                  </a:lnTo>
                  <a:lnTo>
                    <a:pt x="280" y="644"/>
                  </a:lnTo>
                  <a:lnTo>
                    <a:pt x="266" y="646"/>
                  </a:lnTo>
                  <a:lnTo>
                    <a:pt x="266" y="646"/>
                  </a:lnTo>
                  <a:lnTo>
                    <a:pt x="258" y="646"/>
                  </a:lnTo>
                  <a:lnTo>
                    <a:pt x="250" y="644"/>
                  </a:lnTo>
                  <a:lnTo>
                    <a:pt x="232" y="636"/>
                  </a:lnTo>
                  <a:lnTo>
                    <a:pt x="210" y="644"/>
                  </a:lnTo>
                  <a:lnTo>
                    <a:pt x="198" y="632"/>
                  </a:lnTo>
                  <a:lnTo>
                    <a:pt x="198" y="632"/>
                  </a:lnTo>
                  <a:lnTo>
                    <a:pt x="174" y="632"/>
                  </a:lnTo>
                  <a:lnTo>
                    <a:pt x="158" y="630"/>
                  </a:lnTo>
                  <a:lnTo>
                    <a:pt x="146" y="626"/>
                  </a:lnTo>
                  <a:lnTo>
                    <a:pt x="140" y="624"/>
                  </a:lnTo>
                  <a:lnTo>
                    <a:pt x="134" y="620"/>
                  </a:lnTo>
                  <a:lnTo>
                    <a:pt x="134" y="620"/>
                  </a:lnTo>
                  <a:lnTo>
                    <a:pt x="114" y="624"/>
                  </a:lnTo>
                  <a:lnTo>
                    <a:pt x="68" y="592"/>
                  </a:lnTo>
                  <a:lnTo>
                    <a:pt x="46" y="586"/>
                  </a:lnTo>
                  <a:lnTo>
                    <a:pt x="46" y="586"/>
                  </a:lnTo>
                  <a:lnTo>
                    <a:pt x="36" y="580"/>
                  </a:lnTo>
                  <a:lnTo>
                    <a:pt x="28" y="574"/>
                  </a:lnTo>
                  <a:lnTo>
                    <a:pt x="20" y="564"/>
                  </a:lnTo>
                  <a:lnTo>
                    <a:pt x="12" y="552"/>
                  </a:lnTo>
                  <a:lnTo>
                    <a:pt x="12" y="552"/>
                  </a:lnTo>
                  <a:lnTo>
                    <a:pt x="6" y="542"/>
                  </a:lnTo>
                  <a:lnTo>
                    <a:pt x="2" y="532"/>
                  </a:lnTo>
                  <a:lnTo>
                    <a:pt x="0" y="522"/>
                  </a:lnTo>
                  <a:lnTo>
                    <a:pt x="0" y="512"/>
                  </a:lnTo>
                  <a:lnTo>
                    <a:pt x="0" y="512"/>
                  </a:lnTo>
                  <a:lnTo>
                    <a:pt x="2" y="494"/>
                  </a:lnTo>
                  <a:lnTo>
                    <a:pt x="12" y="464"/>
                  </a:lnTo>
                  <a:lnTo>
                    <a:pt x="36" y="438"/>
                  </a:lnTo>
                  <a:lnTo>
                    <a:pt x="64" y="438"/>
                  </a:lnTo>
                  <a:lnTo>
                    <a:pt x="64" y="438"/>
                  </a:lnTo>
                  <a:lnTo>
                    <a:pt x="70" y="432"/>
                  </a:lnTo>
                  <a:lnTo>
                    <a:pt x="76" y="428"/>
                  </a:lnTo>
                  <a:lnTo>
                    <a:pt x="82" y="426"/>
                  </a:lnTo>
                  <a:lnTo>
                    <a:pt x="92" y="426"/>
                  </a:lnTo>
                  <a:lnTo>
                    <a:pt x="92" y="426"/>
                  </a:lnTo>
                  <a:lnTo>
                    <a:pt x="100" y="426"/>
                  </a:lnTo>
                  <a:lnTo>
                    <a:pt x="108" y="430"/>
                  </a:lnTo>
                  <a:lnTo>
                    <a:pt x="114" y="434"/>
                  </a:lnTo>
                  <a:lnTo>
                    <a:pt x="120" y="442"/>
                  </a:lnTo>
                  <a:lnTo>
                    <a:pt x="124" y="450"/>
                  </a:lnTo>
                  <a:lnTo>
                    <a:pt x="128" y="460"/>
                  </a:lnTo>
                  <a:lnTo>
                    <a:pt x="128" y="474"/>
                  </a:lnTo>
                  <a:lnTo>
                    <a:pt x="130" y="488"/>
                  </a:lnTo>
                  <a:lnTo>
                    <a:pt x="130" y="488"/>
                  </a:lnTo>
                  <a:lnTo>
                    <a:pt x="110" y="494"/>
                  </a:lnTo>
                  <a:lnTo>
                    <a:pt x="100" y="498"/>
                  </a:lnTo>
                  <a:lnTo>
                    <a:pt x="100" y="498"/>
                  </a:lnTo>
                  <a:lnTo>
                    <a:pt x="92" y="506"/>
                  </a:lnTo>
                  <a:lnTo>
                    <a:pt x="82" y="514"/>
                  </a:lnTo>
                  <a:lnTo>
                    <a:pt x="82" y="518"/>
                  </a:lnTo>
                  <a:lnTo>
                    <a:pt x="92" y="524"/>
                  </a:lnTo>
                  <a:lnTo>
                    <a:pt x="106" y="538"/>
                  </a:lnTo>
                  <a:lnTo>
                    <a:pt x="154" y="536"/>
                  </a:lnTo>
                  <a:lnTo>
                    <a:pt x="192" y="548"/>
                  </a:lnTo>
                  <a:lnTo>
                    <a:pt x="254" y="548"/>
                  </a:lnTo>
                  <a:lnTo>
                    <a:pt x="278" y="564"/>
                  </a:lnTo>
                  <a:lnTo>
                    <a:pt x="288" y="556"/>
                  </a:lnTo>
                  <a:lnTo>
                    <a:pt x="288" y="556"/>
                  </a:lnTo>
                  <a:lnTo>
                    <a:pt x="296" y="558"/>
                  </a:lnTo>
                  <a:lnTo>
                    <a:pt x="306" y="560"/>
                  </a:lnTo>
                  <a:lnTo>
                    <a:pt x="336" y="566"/>
                  </a:lnTo>
                  <a:lnTo>
                    <a:pt x="340" y="574"/>
                  </a:lnTo>
                  <a:lnTo>
                    <a:pt x="358" y="574"/>
                  </a:lnTo>
                  <a:lnTo>
                    <a:pt x="358" y="574"/>
                  </a:lnTo>
                  <a:lnTo>
                    <a:pt x="390" y="564"/>
                  </a:lnTo>
                  <a:lnTo>
                    <a:pt x="390" y="564"/>
                  </a:lnTo>
                  <a:lnTo>
                    <a:pt x="404" y="564"/>
                  </a:lnTo>
                  <a:lnTo>
                    <a:pt x="404" y="564"/>
                  </a:lnTo>
                  <a:lnTo>
                    <a:pt x="430" y="564"/>
                  </a:lnTo>
                  <a:lnTo>
                    <a:pt x="430" y="564"/>
                  </a:lnTo>
                  <a:lnTo>
                    <a:pt x="452" y="564"/>
                  </a:lnTo>
                  <a:lnTo>
                    <a:pt x="452" y="564"/>
                  </a:lnTo>
                  <a:lnTo>
                    <a:pt x="472" y="564"/>
                  </a:lnTo>
                  <a:lnTo>
                    <a:pt x="472" y="564"/>
                  </a:lnTo>
                  <a:lnTo>
                    <a:pt x="494" y="564"/>
                  </a:lnTo>
                  <a:lnTo>
                    <a:pt x="520" y="556"/>
                  </a:lnTo>
                  <a:lnTo>
                    <a:pt x="534" y="542"/>
                  </a:lnTo>
                  <a:lnTo>
                    <a:pt x="578" y="548"/>
                  </a:lnTo>
                  <a:lnTo>
                    <a:pt x="578" y="548"/>
                  </a:lnTo>
                  <a:lnTo>
                    <a:pt x="610" y="540"/>
                  </a:lnTo>
                  <a:lnTo>
                    <a:pt x="634" y="536"/>
                  </a:lnTo>
                  <a:lnTo>
                    <a:pt x="640" y="536"/>
                  </a:lnTo>
                  <a:lnTo>
                    <a:pt x="640" y="536"/>
                  </a:lnTo>
                  <a:lnTo>
                    <a:pt x="646" y="532"/>
                  </a:lnTo>
                  <a:lnTo>
                    <a:pt x="654" y="530"/>
                  </a:lnTo>
                  <a:lnTo>
                    <a:pt x="654" y="530"/>
                  </a:lnTo>
                  <a:lnTo>
                    <a:pt x="662" y="532"/>
                  </a:lnTo>
                  <a:lnTo>
                    <a:pt x="674" y="528"/>
                  </a:lnTo>
                  <a:lnTo>
                    <a:pt x="674" y="518"/>
                  </a:lnTo>
                  <a:lnTo>
                    <a:pt x="698" y="518"/>
                  </a:lnTo>
                  <a:lnTo>
                    <a:pt x="698" y="518"/>
                  </a:lnTo>
                  <a:lnTo>
                    <a:pt x="704" y="514"/>
                  </a:lnTo>
                  <a:lnTo>
                    <a:pt x="710" y="510"/>
                  </a:lnTo>
                  <a:lnTo>
                    <a:pt x="718" y="508"/>
                  </a:lnTo>
                  <a:lnTo>
                    <a:pt x="728" y="506"/>
                  </a:lnTo>
                  <a:lnTo>
                    <a:pt x="728" y="506"/>
                  </a:lnTo>
                  <a:lnTo>
                    <a:pt x="744" y="494"/>
                  </a:lnTo>
                  <a:lnTo>
                    <a:pt x="750" y="490"/>
                  </a:lnTo>
                  <a:lnTo>
                    <a:pt x="756" y="488"/>
                  </a:lnTo>
                  <a:lnTo>
                    <a:pt x="766" y="474"/>
                  </a:lnTo>
                  <a:lnTo>
                    <a:pt x="766" y="474"/>
                  </a:lnTo>
                  <a:lnTo>
                    <a:pt x="764" y="472"/>
                  </a:lnTo>
                  <a:lnTo>
                    <a:pt x="760" y="468"/>
                  </a:lnTo>
                  <a:lnTo>
                    <a:pt x="746" y="456"/>
                  </a:lnTo>
                  <a:lnTo>
                    <a:pt x="722" y="444"/>
                  </a:lnTo>
                  <a:lnTo>
                    <a:pt x="690" y="426"/>
                  </a:lnTo>
                  <a:lnTo>
                    <a:pt x="680" y="420"/>
                  </a:lnTo>
                  <a:lnTo>
                    <a:pt x="680" y="420"/>
                  </a:lnTo>
                  <a:lnTo>
                    <a:pt x="658" y="416"/>
                  </a:lnTo>
                  <a:lnTo>
                    <a:pt x="640" y="410"/>
                  </a:lnTo>
                  <a:lnTo>
                    <a:pt x="640" y="410"/>
                  </a:lnTo>
                  <a:lnTo>
                    <a:pt x="624" y="410"/>
                  </a:lnTo>
                  <a:lnTo>
                    <a:pt x="622" y="410"/>
                  </a:lnTo>
                  <a:lnTo>
                    <a:pt x="622" y="410"/>
                  </a:lnTo>
                  <a:lnTo>
                    <a:pt x="608" y="406"/>
                  </a:lnTo>
                  <a:lnTo>
                    <a:pt x="576" y="394"/>
                  </a:lnTo>
                  <a:lnTo>
                    <a:pt x="576" y="394"/>
                  </a:lnTo>
                  <a:lnTo>
                    <a:pt x="562" y="388"/>
                  </a:lnTo>
                  <a:lnTo>
                    <a:pt x="556" y="386"/>
                  </a:lnTo>
                  <a:lnTo>
                    <a:pt x="548" y="386"/>
                  </a:lnTo>
                  <a:lnTo>
                    <a:pt x="548" y="386"/>
                  </a:lnTo>
                  <a:lnTo>
                    <a:pt x="534" y="388"/>
                  </a:lnTo>
                  <a:lnTo>
                    <a:pt x="510" y="388"/>
                  </a:lnTo>
                  <a:lnTo>
                    <a:pt x="506" y="384"/>
                  </a:lnTo>
                  <a:lnTo>
                    <a:pt x="506" y="384"/>
                  </a:lnTo>
                  <a:lnTo>
                    <a:pt x="490" y="380"/>
                  </a:lnTo>
                  <a:lnTo>
                    <a:pt x="478" y="372"/>
                  </a:lnTo>
                  <a:lnTo>
                    <a:pt x="462" y="378"/>
                  </a:lnTo>
                  <a:lnTo>
                    <a:pt x="426" y="360"/>
                  </a:lnTo>
                  <a:lnTo>
                    <a:pt x="402" y="360"/>
                  </a:lnTo>
                  <a:lnTo>
                    <a:pt x="386" y="350"/>
                  </a:lnTo>
                  <a:lnTo>
                    <a:pt x="362" y="350"/>
                  </a:lnTo>
                  <a:lnTo>
                    <a:pt x="360" y="344"/>
                  </a:lnTo>
                  <a:lnTo>
                    <a:pt x="340" y="344"/>
                  </a:lnTo>
                  <a:lnTo>
                    <a:pt x="324" y="324"/>
                  </a:lnTo>
                  <a:lnTo>
                    <a:pt x="316" y="324"/>
                  </a:lnTo>
                  <a:lnTo>
                    <a:pt x="316" y="324"/>
                  </a:lnTo>
                  <a:lnTo>
                    <a:pt x="298" y="324"/>
                  </a:lnTo>
                  <a:lnTo>
                    <a:pt x="282" y="320"/>
                  </a:lnTo>
                  <a:lnTo>
                    <a:pt x="270" y="316"/>
                  </a:lnTo>
                  <a:lnTo>
                    <a:pt x="258" y="310"/>
                  </a:lnTo>
                  <a:lnTo>
                    <a:pt x="256" y="308"/>
                  </a:lnTo>
                  <a:lnTo>
                    <a:pt x="256" y="308"/>
                  </a:lnTo>
                  <a:lnTo>
                    <a:pt x="244" y="302"/>
                  </a:lnTo>
                  <a:lnTo>
                    <a:pt x="234" y="296"/>
                  </a:lnTo>
                  <a:lnTo>
                    <a:pt x="224" y="290"/>
                  </a:lnTo>
                  <a:lnTo>
                    <a:pt x="218" y="280"/>
                  </a:lnTo>
                  <a:lnTo>
                    <a:pt x="198" y="262"/>
                  </a:lnTo>
                  <a:lnTo>
                    <a:pt x="184" y="230"/>
                  </a:lnTo>
                  <a:lnTo>
                    <a:pt x="170" y="210"/>
                  </a:lnTo>
                  <a:lnTo>
                    <a:pt x="176" y="162"/>
                  </a:lnTo>
                  <a:lnTo>
                    <a:pt x="204" y="128"/>
                  </a:lnTo>
                  <a:lnTo>
                    <a:pt x="204" y="128"/>
                  </a:lnTo>
                  <a:lnTo>
                    <a:pt x="208" y="126"/>
                  </a:lnTo>
                  <a:lnTo>
                    <a:pt x="210" y="122"/>
                  </a:lnTo>
                  <a:lnTo>
                    <a:pt x="216" y="112"/>
                  </a:lnTo>
                  <a:lnTo>
                    <a:pt x="216" y="112"/>
                  </a:lnTo>
                  <a:lnTo>
                    <a:pt x="228" y="106"/>
                  </a:lnTo>
                  <a:lnTo>
                    <a:pt x="288" y="72"/>
                  </a:lnTo>
                  <a:lnTo>
                    <a:pt x="288" y="72"/>
                  </a:lnTo>
                  <a:lnTo>
                    <a:pt x="304" y="72"/>
                  </a:lnTo>
                  <a:lnTo>
                    <a:pt x="304" y="72"/>
                  </a:lnTo>
                  <a:lnTo>
                    <a:pt x="312" y="70"/>
                  </a:lnTo>
                  <a:lnTo>
                    <a:pt x="322" y="68"/>
                  </a:lnTo>
                  <a:lnTo>
                    <a:pt x="330" y="64"/>
                  </a:lnTo>
                  <a:lnTo>
                    <a:pt x="340" y="60"/>
                  </a:lnTo>
                  <a:lnTo>
                    <a:pt x="346" y="60"/>
                  </a:lnTo>
                  <a:lnTo>
                    <a:pt x="346" y="62"/>
                  </a:lnTo>
                  <a:lnTo>
                    <a:pt x="358" y="50"/>
                  </a:lnTo>
                  <a:lnTo>
                    <a:pt x="364" y="50"/>
                  </a:lnTo>
                  <a:lnTo>
                    <a:pt x="364" y="50"/>
                  </a:lnTo>
                  <a:lnTo>
                    <a:pt x="382" y="44"/>
                  </a:lnTo>
                  <a:lnTo>
                    <a:pt x="398" y="40"/>
                  </a:lnTo>
                  <a:lnTo>
                    <a:pt x="414" y="38"/>
                  </a:lnTo>
                  <a:lnTo>
                    <a:pt x="428" y="36"/>
                  </a:lnTo>
                  <a:lnTo>
                    <a:pt x="434" y="36"/>
                  </a:lnTo>
                  <a:lnTo>
                    <a:pt x="444" y="38"/>
                  </a:lnTo>
                  <a:lnTo>
                    <a:pt x="462" y="26"/>
                  </a:lnTo>
                  <a:lnTo>
                    <a:pt x="462" y="26"/>
                  </a:lnTo>
                  <a:lnTo>
                    <a:pt x="480" y="26"/>
                  </a:lnTo>
                  <a:lnTo>
                    <a:pt x="488" y="26"/>
                  </a:lnTo>
                  <a:lnTo>
                    <a:pt x="488" y="26"/>
                  </a:lnTo>
                  <a:lnTo>
                    <a:pt x="518" y="22"/>
                  </a:lnTo>
                  <a:lnTo>
                    <a:pt x="518" y="22"/>
                  </a:lnTo>
                  <a:lnTo>
                    <a:pt x="550" y="20"/>
                  </a:lnTo>
                  <a:lnTo>
                    <a:pt x="572" y="18"/>
                  </a:lnTo>
                  <a:lnTo>
                    <a:pt x="604" y="0"/>
                  </a:lnTo>
                  <a:lnTo>
                    <a:pt x="604" y="0"/>
                  </a:lnTo>
                  <a:lnTo>
                    <a:pt x="618" y="20"/>
                  </a:lnTo>
                  <a:lnTo>
                    <a:pt x="646" y="20"/>
                  </a:lnTo>
                  <a:lnTo>
                    <a:pt x="646" y="20"/>
                  </a:lnTo>
                  <a:lnTo>
                    <a:pt x="656" y="20"/>
                  </a:lnTo>
                  <a:lnTo>
                    <a:pt x="672" y="26"/>
                  </a:lnTo>
                  <a:lnTo>
                    <a:pt x="680" y="26"/>
                  </a:lnTo>
                  <a:lnTo>
                    <a:pt x="680" y="26"/>
                  </a:lnTo>
                  <a:lnTo>
                    <a:pt x="694" y="26"/>
                  </a:lnTo>
                  <a:lnTo>
                    <a:pt x="706" y="28"/>
                  </a:lnTo>
                  <a:lnTo>
                    <a:pt x="718" y="32"/>
                  </a:lnTo>
                  <a:lnTo>
                    <a:pt x="728" y="38"/>
                  </a:lnTo>
                  <a:lnTo>
                    <a:pt x="728" y="38"/>
                  </a:lnTo>
                  <a:lnTo>
                    <a:pt x="742" y="42"/>
                  </a:lnTo>
                  <a:lnTo>
                    <a:pt x="754" y="48"/>
                  </a:lnTo>
                  <a:lnTo>
                    <a:pt x="766" y="54"/>
                  </a:lnTo>
                  <a:lnTo>
                    <a:pt x="774" y="62"/>
                  </a:lnTo>
                  <a:lnTo>
                    <a:pt x="782" y="70"/>
                  </a:lnTo>
                  <a:lnTo>
                    <a:pt x="786" y="80"/>
                  </a:lnTo>
                  <a:lnTo>
                    <a:pt x="790" y="92"/>
                  </a:lnTo>
                  <a:lnTo>
                    <a:pt x="790" y="102"/>
                  </a:lnTo>
                  <a:lnTo>
                    <a:pt x="790" y="102"/>
                  </a:lnTo>
                  <a:lnTo>
                    <a:pt x="790" y="112"/>
                  </a:lnTo>
                  <a:lnTo>
                    <a:pt x="786" y="122"/>
                  </a:lnTo>
                  <a:lnTo>
                    <a:pt x="782" y="130"/>
                  </a:lnTo>
                  <a:lnTo>
                    <a:pt x="774" y="136"/>
                  </a:lnTo>
                  <a:lnTo>
                    <a:pt x="764" y="142"/>
                  </a:lnTo>
                  <a:lnTo>
                    <a:pt x="754" y="148"/>
                  </a:lnTo>
                  <a:lnTo>
                    <a:pt x="740" y="150"/>
                  </a:lnTo>
                  <a:lnTo>
                    <a:pt x="724" y="154"/>
                  </a:lnTo>
                  <a:lnTo>
                    <a:pt x="716" y="138"/>
                  </a:lnTo>
                  <a:lnTo>
                    <a:pt x="716" y="138"/>
                  </a:lnTo>
                  <a:lnTo>
                    <a:pt x="702" y="134"/>
                  </a:lnTo>
                  <a:lnTo>
                    <a:pt x="702" y="134"/>
                  </a:lnTo>
                  <a:lnTo>
                    <a:pt x="690" y="128"/>
                  </a:lnTo>
                  <a:lnTo>
                    <a:pt x="662" y="128"/>
                  </a:lnTo>
                  <a:lnTo>
                    <a:pt x="652" y="116"/>
                  </a:lnTo>
                  <a:lnTo>
                    <a:pt x="632" y="118"/>
                  </a:lnTo>
                  <a:lnTo>
                    <a:pt x="622" y="130"/>
                  </a:lnTo>
                  <a:lnTo>
                    <a:pt x="592" y="110"/>
                  </a:lnTo>
                  <a:lnTo>
                    <a:pt x="562" y="114"/>
                  </a:lnTo>
                  <a:lnTo>
                    <a:pt x="524" y="106"/>
                  </a:lnTo>
                  <a:lnTo>
                    <a:pt x="524" y="106"/>
                  </a:lnTo>
                  <a:lnTo>
                    <a:pt x="508" y="108"/>
                  </a:lnTo>
                  <a:lnTo>
                    <a:pt x="492" y="110"/>
                  </a:lnTo>
                  <a:lnTo>
                    <a:pt x="480" y="114"/>
                  </a:lnTo>
                  <a:lnTo>
                    <a:pt x="466" y="120"/>
                  </a:lnTo>
                  <a:lnTo>
                    <a:pt x="464" y="122"/>
                  </a:lnTo>
                  <a:lnTo>
                    <a:pt x="464" y="122"/>
                  </a:lnTo>
                  <a:lnTo>
                    <a:pt x="456" y="126"/>
                  </a:lnTo>
                  <a:lnTo>
                    <a:pt x="456" y="126"/>
                  </a:lnTo>
                  <a:lnTo>
                    <a:pt x="450" y="128"/>
                  </a:lnTo>
                  <a:lnTo>
                    <a:pt x="434" y="120"/>
                  </a:lnTo>
                  <a:lnTo>
                    <a:pt x="400" y="136"/>
                  </a:lnTo>
                  <a:lnTo>
                    <a:pt x="340" y="154"/>
                  </a:lnTo>
                  <a:lnTo>
                    <a:pt x="324" y="150"/>
                  </a:lnTo>
                  <a:lnTo>
                    <a:pt x="298" y="166"/>
                  </a:lnTo>
                  <a:lnTo>
                    <a:pt x="286" y="166"/>
                  </a:lnTo>
                  <a:lnTo>
                    <a:pt x="280" y="178"/>
                  </a:lnTo>
                  <a:lnTo>
                    <a:pt x="254" y="194"/>
                  </a:lnTo>
                  <a:lnTo>
                    <a:pt x="256" y="202"/>
                  </a:lnTo>
                  <a:lnTo>
                    <a:pt x="270" y="216"/>
                  </a:lnTo>
                  <a:lnTo>
                    <a:pt x="282" y="220"/>
                  </a:lnTo>
                  <a:lnTo>
                    <a:pt x="300" y="232"/>
                  </a:lnTo>
                  <a:lnTo>
                    <a:pt x="338" y="244"/>
                  </a:lnTo>
                  <a:lnTo>
                    <a:pt x="356" y="246"/>
                  </a:lnTo>
                  <a:lnTo>
                    <a:pt x="388" y="266"/>
                  </a:lnTo>
                  <a:lnTo>
                    <a:pt x="398" y="262"/>
                  </a:lnTo>
                  <a:lnTo>
                    <a:pt x="398" y="262"/>
                  </a:lnTo>
                  <a:lnTo>
                    <a:pt x="414" y="266"/>
                  </a:lnTo>
                  <a:lnTo>
                    <a:pt x="426" y="270"/>
                  </a:lnTo>
                  <a:lnTo>
                    <a:pt x="436" y="276"/>
                  </a:lnTo>
                  <a:lnTo>
                    <a:pt x="444" y="282"/>
                  </a:lnTo>
                  <a:lnTo>
                    <a:pt x="448" y="286"/>
                  </a:lnTo>
                  <a:lnTo>
                    <a:pt x="450" y="286"/>
                  </a:lnTo>
                  <a:lnTo>
                    <a:pt x="474" y="300"/>
                  </a:lnTo>
                  <a:lnTo>
                    <a:pt x="482" y="292"/>
                  </a:lnTo>
                  <a:lnTo>
                    <a:pt x="510" y="294"/>
                  </a:lnTo>
                  <a:lnTo>
                    <a:pt x="516" y="294"/>
                  </a:lnTo>
                  <a:lnTo>
                    <a:pt x="532" y="294"/>
                  </a:lnTo>
                  <a:lnTo>
                    <a:pt x="548" y="308"/>
                  </a:lnTo>
                  <a:lnTo>
                    <a:pt x="556" y="308"/>
                  </a:lnTo>
                  <a:lnTo>
                    <a:pt x="556" y="308"/>
                  </a:lnTo>
                  <a:lnTo>
                    <a:pt x="576" y="310"/>
                  </a:lnTo>
                  <a:lnTo>
                    <a:pt x="592" y="314"/>
                  </a:lnTo>
                  <a:lnTo>
                    <a:pt x="592" y="314"/>
                  </a:lnTo>
                  <a:lnTo>
                    <a:pt x="604" y="314"/>
                  </a:lnTo>
                  <a:lnTo>
                    <a:pt x="604" y="314"/>
                  </a:lnTo>
                  <a:lnTo>
                    <a:pt x="616" y="314"/>
                  </a:lnTo>
                  <a:lnTo>
                    <a:pt x="628" y="318"/>
                  </a:lnTo>
                  <a:lnTo>
                    <a:pt x="640" y="324"/>
                  </a:lnTo>
                  <a:lnTo>
                    <a:pt x="652" y="334"/>
                  </a:lnTo>
                  <a:lnTo>
                    <a:pt x="666" y="330"/>
                  </a:lnTo>
                  <a:lnTo>
                    <a:pt x="678" y="334"/>
                  </a:lnTo>
                  <a:lnTo>
                    <a:pt x="698" y="334"/>
                  </a:lnTo>
                  <a:lnTo>
                    <a:pt x="732" y="358"/>
                  </a:lnTo>
                  <a:lnTo>
                    <a:pt x="768" y="362"/>
                  </a:lnTo>
                  <a:lnTo>
                    <a:pt x="782" y="382"/>
                  </a:lnTo>
                  <a:lnTo>
                    <a:pt x="782" y="382"/>
                  </a:lnTo>
                  <a:lnTo>
                    <a:pt x="800" y="394"/>
                  </a:lnTo>
                  <a:lnTo>
                    <a:pt x="816" y="406"/>
                  </a:lnTo>
                  <a:lnTo>
                    <a:pt x="826" y="416"/>
                  </a:lnTo>
                  <a:lnTo>
                    <a:pt x="834" y="426"/>
                  </a:lnTo>
                  <a:lnTo>
                    <a:pt x="834" y="426"/>
                  </a:lnTo>
                  <a:lnTo>
                    <a:pt x="840" y="436"/>
                  </a:lnTo>
                  <a:lnTo>
                    <a:pt x="844" y="450"/>
                  </a:lnTo>
                  <a:lnTo>
                    <a:pt x="846" y="464"/>
                  </a:lnTo>
                  <a:lnTo>
                    <a:pt x="848" y="480"/>
                  </a:lnTo>
                  <a:lnTo>
                    <a:pt x="848" y="480"/>
                  </a:lnTo>
                  <a:lnTo>
                    <a:pt x="848" y="488"/>
                  </a:lnTo>
                  <a:lnTo>
                    <a:pt x="848" y="488"/>
                  </a:lnTo>
                  <a:lnTo>
                    <a:pt x="848" y="496"/>
                  </a:lnTo>
                  <a:lnTo>
                    <a:pt x="848" y="496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32097960" y="3994200"/>
              <a:ext cx="771480" cy="94320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486" h="594">
                  <a:moveTo>
                    <a:pt x="486" y="78"/>
                  </a:moveTo>
                  <a:lnTo>
                    <a:pt x="474" y="94"/>
                  </a:lnTo>
                  <a:lnTo>
                    <a:pt x="482" y="124"/>
                  </a:lnTo>
                  <a:lnTo>
                    <a:pt x="468" y="142"/>
                  </a:lnTo>
                  <a:lnTo>
                    <a:pt x="462" y="168"/>
                  </a:lnTo>
                  <a:lnTo>
                    <a:pt x="458" y="174"/>
                  </a:lnTo>
                  <a:lnTo>
                    <a:pt x="460" y="180"/>
                  </a:lnTo>
                  <a:lnTo>
                    <a:pt x="460" y="180"/>
                  </a:lnTo>
                  <a:lnTo>
                    <a:pt x="458" y="196"/>
                  </a:lnTo>
                  <a:lnTo>
                    <a:pt x="456" y="200"/>
                  </a:lnTo>
                  <a:lnTo>
                    <a:pt x="452" y="206"/>
                  </a:lnTo>
                  <a:lnTo>
                    <a:pt x="450" y="210"/>
                  </a:lnTo>
                  <a:lnTo>
                    <a:pt x="450" y="214"/>
                  </a:lnTo>
                  <a:lnTo>
                    <a:pt x="450" y="214"/>
                  </a:lnTo>
                  <a:lnTo>
                    <a:pt x="452" y="222"/>
                  </a:lnTo>
                  <a:lnTo>
                    <a:pt x="454" y="230"/>
                  </a:lnTo>
                  <a:lnTo>
                    <a:pt x="454" y="230"/>
                  </a:lnTo>
                  <a:lnTo>
                    <a:pt x="452" y="238"/>
                  </a:lnTo>
                  <a:lnTo>
                    <a:pt x="454" y="244"/>
                  </a:lnTo>
                  <a:lnTo>
                    <a:pt x="448" y="256"/>
                  </a:lnTo>
                  <a:lnTo>
                    <a:pt x="452" y="272"/>
                  </a:lnTo>
                  <a:lnTo>
                    <a:pt x="442" y="282"/>
                  </a:lnTo>
                  <a:lnTo>
                    <a:pt x="446" y="298"/>
                  </a:lnTo>
                  <a:lnTo>
                    <a:pt x="454" y="306"/>
                  </a:lnTo>
                  <a:lnTo>
                    <a:pt x="442" y="316"/>
                  </a:lnTo>
                  <a:lnTo>
                    <a:pt x="442" y="336"/>
                  </a:lnTo>
                  <a:lnTo>
                    <a:pt x="434" y="356"/>
                  </a:lnTo>
                  <a:lnTo>
                    <a:pt x="440" y="376"/>
                  </a:lnTo>
                  <a:lnTo>
                    <a:pt x="432" y="386"/>
                  </a:lnTo>
                  <a:lnTo>
                    <a:pt x="444" y="394"/>
                  </a:lnTo>
                  <a:lnTo>
                    <a:pt x="428" y="422"/>
                  </a:lnTo>
                  <a:lnTo>
                    <a:pt x="428" y="426"/>
                  </a:lnTo>
                  <a:lnTo>
                    <a:pt x="438" y="428"/>
                  </a:lnTo>
                  <a:lnTo>
                    <a:pt x="430" y="456"/>
                  </a:lnTo>
                  <a:lnTo>
                    <a:pt x="430" y="460"/>
                  </a:lnTo>
                  <a:lnTo>
                    <a:pt x="430" y="460"/>
                  </a:lnTo>
                  <a:lnTo>
                    <a:pt x="430" y="474"/>
                  </a:lnTo>
                  <a:lnTo>
                    <a:pt x="430" y="478"/>
                  </a:lnTo>
                  <a:lnTo>
                    <a:pt x="450" y="480"/>
                  </a:lnTo>
                  <a:lnTo>
                    <a:pt x="466" y="504"/>
                  </a:lnTo>
                  <a:lnTo>
                    <a:pt x="456" y="522"/>
                  </a:lnTo>
                  <a:lnTo>
                    <a:pt x="470" y="522"/>
                  </a:lnTo>
                  <a:lnTo>
                    <a:pt x="470" y="522"/>
                  </a:lnTo>
                  <a:lnTo>
                    <a:pt x="476" y="536"/>
                  </a:lnTo>
                  <a:lnTo>
                    <a:pt x="478" y="548"/>
                  </a:lnTo>
                  <a:lnTo>
                    <a:pt x="460" y="566"/>
                  </a:lnTo>
                  <a:lnTo>
                    <a:pt x="460" y="566"/>
                  </a:lnTo>
                  <a:lnTo>
                    <a:pt x="450" y="574"/>
                  </a:lnTo>
                  <a:lnTo>
                    <a:pt x="436" y="582"/>
                  </a:lnTo>
                  <a:lnTo>
                    <a:pt x="416" y="594"/>
                  </a:lnTo>
                  <a:lnTo>
                    <a:pt x="410" y="588"/>
                  </a:lnTo>
                  <a:lnTo>
                    <a:pt x="398" y="594"/>
                  </a:lnTo>
                  <a:lnTo>
                    <a:pt x="362" y="550"/>
                  </a:lnTo>
                  <a:lnTo>
                    <a:pt x="362" y="530"/>
                  </a:lnTo>
                  <a:lnTo>
                    <a:pt x="362" y="530"/>
                  </a:lnTo>
                  <a:lnTo>
                    <a:pt x="356" y="506"/>
                  </a:lnTo>
                  <a:lnTo>
                    <a:pt x="354" y="484"/>
                  </a:lnTo>
                  <a:lnTo>
                    <a:pt x="354" y="478"/>
                  </a:lnTo>
                  <a:lnTo>
                    <a:pt x="348" y="406"/>
                  </a:lnTo>
                  <a:lnTo>
                    <a:pt x="356" y="354"/>
                  </a:lnTo>
                  <a:lnTo>
                    <a:pt x="350" y="326"/>
                  </a:lnTo>
                  <a:lnTo>
                    <a:pt x="330" y="360"/>
                  </a:lnTo>
                  <a:lnTo>
                    <a:pt x="318" y="392"/>
                  </a:lnTo>
                  <a:lnTo>
                    <a:pt x="310" y="396"/>
                  </a:lnTo>
                  <a:lnTo>
                    <a:pt x="292" y="424"/>
                  </a:lnTo>
                  <a:lnTo>
                    <a:pt x="262" y="452"/>
                  </a:lnTo>
                  <a:lnTo>
                    <a:pt x="254" y="466"/>
                  </a:lnTo>
                  <a:lnTo>
                    <a:pt x="228" y="490"/>
                  </a:lnTo>
                  <a:lnTo>
                    <a:pt x="222" y="506"/>
                  </a:lnTo>
                  <a:lnTo>
                    <a:pt x="184" y="530"/>
                  </a:lnTo>
                  <a:lnTo>
                    <a:pt x="144" y="576"/>
                  </a:lnTo>
                  <a:lnTo>
                    <a:pt x="120" y="582"/>
                  </a:lnTo>
                  <a:lnTo>
                    <a:pt x="106" y="594"/>
                  </a:lnTo>
                  <a:lnTo>
                    <a:pt x="106" y="594"/>
                  </a:lnTo>
                  <a:lnTo>
                    <a:pt x="92" y="592"/>
                  </a:lnTo>
                  <a:lnTo>
                    <a:pt x="80" y="588"/>
                  </a:lnTo>
                  <a:lnTo>
                    <a:pt x="68" y="580"/>
                  </a:lnTo>
                  <a:lnTo>
                    <a:pt x="60" y="570"/>
                  </a:lnTo>
                  <a:lnTo>
                    <a:pt x="60" y="570"/>
                  </a:lnTo>
                  <a:lnTo>
                    <a:pt x="48" y="564"/>
                  </a:lnTo>
                  <a:lnTo>
                    <a:pt x="36" y="556"/>
                  </a:lnTo>
                  <a:lnTo>
                    <a:pt x="28" y="546"/>
                  </a:lnTo>
                  <a:lnTo>
                    <a:pt x="20" y="538"/>
                  </a:lnTo>
                  <a:lnTo>
                    <a:pt x="14" y="528"/>
                  </a:lnTo>
                  <a:lnTo>
                    <a:pt x="8" y="516"/>
                  </a:lnTo>
                  <a:lnTo>
                    <a:pt x="6" y="506"/>
                  </a:lnTo>
                  <a:lnTo>
                    <a:pt x="4" y="494"/>
                  </a:lnTo>
                  <a:lnTo>
                    <a:pt x="10" y="490"/>
                  </a:lnTo>
                  <a:lnTo>
                    <a:pt x="10" y="482"/>
                  </a:lnTo>
                  <a:lnTo>
                    <a:pt x="8" y="468"/>
                  </a:lnTo>
                  <a:lnTo>
                    <a:pt x="0" y="452"/>
                  </a:lnTo>
                  <a:lnTo>
                    <a:pt x="8" y="434"/>
                  </a:lnTo>
                  <a:lnTo>
                    <a:pt x="10" y="408"/>
                  </a:lnTo>
                  <a:lnTo>
                    <a:pt x="18" y="368"/>
                  </a:lnTo>
                  <a:lnTo>
                    <a:pt x="18" y="368"/>
                  </a:lnTo>
                  <a:lnTo>
                    <a:pt x="18" y="364"/>
                  </a:lnTo>
                  <a:lnTo>
                    <a:pt x="18" y="364"/>
                  </a:lnTo>
                  <a:lnTo>
                    <a:pt x="18" y="358"/>
                  </a:lnTo>
                  <a:lnTo>
                    <a:pt x="18" y="358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18" y="336"/>
                  </a:lnTo>
                  <a:lnTo>
                    <a:pt x="18" y="336"/>
                  </a:lnTo>
                  <a:lnTo>
                    <a:pt x="20" y="326"/>
                  </a:lnTo>
                  <a:lnTo>
                    <a:pt x="26" y="308"/>
                  </a:lnTo>
                  <a:lnTo>
                    <a:pt x="34" y="304"/>
                  </a:lnTo>
                  <a:lnTo>
                    <a:pt x="34" y="304"/>
                  </a:lnTo>
                  <a:lnTo>
                    <a:pt x="28" y="298"/>
                  </a:lnTo>
                  <a:lnTo>
                    <a:pt x="26" y="292"/>
                  </a:lnTo>
                  <a:lnTo>
                    <a:pt x="26" y="292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6" y="276"/>
                  </a:lnTo>
                  <a:lnTo>
                    <a:pt x="26" y="276"/>
                  </a:lnTo>
                  <a:lnTo>
                    <a:pt x="28" y="268"/>
                  </a:lnTo>
                  <a:lnTo>
                    <a:pt x="30" y="262"/>
                  </a:lnTo>
                  <a:lnTo>
                    <a:pt x="34" y="258"/>
                  </a:lnTo>
                  <a:lnTo>
                    <a:pt x="42" y="254"/>
                  </a:lnTo>
                  <a:lnTo>
                    <a:pt x="42" y="254"/>
                  </a:lnTo>
                  <a:lnTo>
                    <a:pt x="46" y="242"/>
                  </a:lnTo>
                  <a:lnTo>
                    <a:pt x="54" y="228"/>
                  </a:lnTo>
                  <a:lnTo>
                    <a:pt x="48" y="220"/>
                  </a:lnTo>
                  <a:lnTo>
                    <a:pt x="62" y="200"/>
                  </a:lnTo>
                  <a:lnTo>
                    <a:pt x="62" y="196"/>
                  </a:lnTo>
                  <a:lnTo>
                    <a:pt x="62" y="196"/>
                  </a:lnTo>
                  <a:lnTo>
                    <a:pt x="64" y="184"/>
                  </a:lnTo>
                  <a:lnTo>
                    <a:pt x="66" y="174"/>
                  </a:lnTo>
                  <a:lnTo>
                    <a:pt x="72" y="164"/>
                  </a:lnTo>
                  <a:lnTo>
                    <a:pt x="78" y="154"/>
                  </a:lnTo>
                  <a:lnTo>
                    <a:pt x="76" y="132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80" y="120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6" y="106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94" y="8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28" y="40"/>
                  </a:lnTo>
                  <a:lnTo>
                    <a:pt x="140" y="20"/>
                  </a:lnTo>
                  <a:lnTo>
                    <a:pt x="146" y="26"/>
                  </a:lnTo>
                  <a:lnTo>
                    <a:pt x="160" y="20"/>
                  </a:lnTo>
                  <a:lnTo>
                    <a:pt x="166" y="18"/>
                  </a:lnTo>
                  <a:lnTo>
                    <a:pt x="204" y="0"/>
                  </a:lnTo>
                  <a:lnTo>
                    <a:pt x="296" y="4"/>
                  </a:lnTo>
                  <a:lnTo>
                    <a:pt x="296" y="12"/>
                  </a:lnTo>
                  <a:lnTo>
                    <a:pt x="324" y="20"/>
                  </a:lnTo>
                  <a:lnTo>
                    <a:pt x="324" y="20"/>
                  </a:lnTo>
                  <a:lnTo>
                    <a:pt x="338" y="20"/>
                  </a:lnTo>
                  <a:lnTo>
                    <a:pt x="348" y="24"/>
                  </a:lnTo>
                  <a:lnTo>
                    <a:pt x="354" y="30"/>
                  </a:lnTo>
                  <a:lnTo>
                    <a:pt x="360" y="38"/>
                  </a:lnTo>
                  <a:lnTo>
                    <a:pt x="360" y="38"/>
                  </a:lnTo>
                  <a:lnTo>
                    <a:pt x="362" y="28"/>
                  </a:lnTo>
                  <a:lnTo>
                    <a:pt x="362" y="28"/>
                  </a:lnTo>
                  <a:lnTo>
                    <a:pt x="362" y="24"/>
                  </a:lnTo>
                  <a:lnTo>
                    <a:pt x="386" y="48"/>
                  </a:lnTo>
                  <a:lnTo>
                    <a:pt x="410" y="52"/>
                  </a:lnTo>
                  <a:lnTo>
                    <a:pt x="452" y="42"/>
                  </a:lnTo>
                  <a:lnTo>
                    <a:pt x="468" y="72"/>
                  </a:lnTo>
                  <a:lnTo>
                    <a:pt x="486" y="78"/>
                  </a:lnTo>
                  <a:close/>
                  <a:moveTo>
                    <a:pt x="372" y="142"/>
                  </a:moveTo>
                  <a:lnTo>
                    <a:pt x="368" y="134"/>
                  </a:lnTo>
                  <a:lnTo>
                    <a:pt x="358" y="132"/>
                  </a:lnTo>
                  <a:lnTo>
                    <a:pt x="322" y="100"/>
                  </a:lnTo>
                  <a:lnTo>
                    <a:pt x="298" y="98"/>
                  </a:lnTo>
                  <a:lnTo>
                    <a:pt x="278" y="98"/>
                  </a:lnTo>
                  <a:lnTo>
                    <a:pt x="276" y="92"/>
                  </a:lnTo>
                  <a:lnTo>
                    <a:pt x="266" y="98"/>
                  </a:lnTo>
                  <a:lnTo>
                    <a:pt x="256" y="92"/>
                  </a:lnTo>
                  <a:lnTo>
                    <a:pt x="224" y="92"/>
                  </a:lnTo>
                  <a:lnTo>
                    <a:pt x="228" y="98"/>
                  </a:lnTo>
                  <a:lnTo>
                    <a:pt x="200" y="106"/>
                  </a:lnTo>
                  <a:lnTo>
                    <a:pt x="196" y="114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174" y="132"/>
                  </a:lnTo>
                  <a:lnTo>
                    <a:pt x="162" y="144"/>
                  </a:lnTo>
                  <a:lnTo>
                    <a:pt x="154" y="174"/>
                  </a:lnTo>
                  <a:lnTo>
                    <a:pt x="150" y="186"/>
                  </a:lnTo>
                  <a:lnTo>
                    <a:pt x="162" y="202"/>
                  </a:lnTo>
                  <a:lnTo>
                    <a:pt x="142" y="218"/>
                  </a:lnTo>
                  <a:lnTo>
                    <a:pt x="144" y="222"/>
                  </a:lnTo>
                  <a:lnTo>
                    <a:pt x="144" y="222"/>
                  </a:lnTo>
                  <a:lnTo>
                    <a:pt x="138" y="234"/>
                  </a:lnTo>
                  <a:lnTo>
                    <a:pt x="134" y="246"/>
                  </a:lnTo>
                  <a:lnTo>
                    <a:pt x="132" y="256"/>
                  </a:lnTo>
                  <a:lnTo>
                    <a:pt x="130" y="268"/>
                  </a:lnTo>
                  <a:lnTo>
                    <a:pt x="122" y="280"/>
                  </a:lnTo>
                  <a:lnTo>
                    <a:pt x="120" y="302"/>
                  </a:lnTo>
                  <a:lnTo>
                    <a:pt x="112" y="314"/>
                  </a:lnTo>
                  <a:lnTo>
                    <a:pt x="110" y="324"/>
                  </a:lnTo>
                  <a:lnTo>
                    <a:pt x="106" y="326"/>
                  </a:lnTo>
                  <a:lnTo>
                    <a:pt x="106" y="344"/>
                  </a:lnTo>
                  <a:lnTo>
                    <a:pt x="102" y="350"/>
                  </a:lnTo>
                  <a:lnTo>
                    <a:pt x="102" y="350"/>
                  </a:lnTo>
                  <a:lnTo>
                    <a:pt x="102" y="362"/>
                  </a:lnTo>
                  <a:lnTo>
                    <a:pt x="100" y="372"/>
                  </a:lnTo>
                  <a:lnTo>
                    <a:pt x="102" y="380"/>
                  </a:lnTo>
                  <a:lnTo>
                    <a:pt x="92" y="402"/>
                  </a:lnTo>
                  <a:lnTo>
                    <a:pt x="96" y="410"/>
                  </a:lnTo>
                  <a:lnTo>
                    <a:pt x="88" y="422"/>
                  </a:lnTo>
                  <a:lnTo>
                    <a:pt x="96" y="444"/>
                  </a:lnTo>
                  <a:lnTo>
                    <a:pt x="82" y="462"/>
                  </a:lnTo>
                  <a:lnTo>
                    <a:pt x="86" y="486"/>
                  </a:lnTo>
                  <a:lnTo>
                    <a:pt x="86" y="488"/>
                  </a:lnTo>
                  <a:lnTo>
                    <a:pt x="90" y="492"/>
                  </a:lnTo>
                  <a:lnTo>
                    <a:pt x="96" y="490"/>
                  </a:lnTo>
                  <a:lnTo>
                    <a:pt x="96" y="490"/>
                  </a:lnTo>
                  <a:lnTo>
                    <a:pt x="108" y="478"/>
                  </a:lnTo>
                  <a:lnTo>
                    <a:pt x="106" y="470"/>
                  </a:lnTo>
                  <a:lnTo>
                    <a:pt x="122" y="466"/>
                  </a:lnTo>
                  <a:lnTo>
                    <a:pt x="126" y="458"/>
                  </a:lnTo>
                  <a:lnTo>
                    <a:pt x="196" y="400"/>
                  </a:lnTo>
                  <a:lnTo>
                    <a:pt x="202" y="398"/>
                  </a:lnTo>
                  <a:lnTo>
                    <a:pt x="212" y="376"/>
                  </a:lnTo>
                  <a:lnTo>
                    <a:pt x="212" y="376"/>
                  </a:lnTo>
                  <a:lnTo>
                    <a:pt x="232" y="366"/>
                  </a:lnTo>
                  <a:lnTo>
                    <a:pt x="238" y="348"/>
                  </a:lnTo>
                  <a:lnTo>
                    <a:pt x="248" y="348"/>
                  </a:lnTo>
                  <a:lnTo>
                    <a:pt x="244" y="326"/>
                  </a:lnTo>
                  <a:lnTo>
                    <a:pt x="262" y="324"/>
                  </a:lnTo>
                  <a:lnTo>
                    <a:pt x="262" y="324"/>
                  </a:lnTo>
                  <a:lnTo>
                    <a:pt x="270" y="312"/>
                  </a:lnTo>
                  <a:lnTo>
                    <a:pt x="270" y="312"/>
                  </a:lnTo>
                  <a:lnTo>
                    <a:pt x="280" y="298"/>
                  </a:lnTo>
                  <a:lnTo>
                    <a:pt x="342" y="216"/>
                  </a:lnTo>
                  <a:lnTo>
                    <a:pt x="350" y="198"/>
                  </a:lnTo>
                  <a:lnTo>
                    <a:pt x="350" y="192"/>
                  </a:lnTo>
                  <a:lnTo>
                    <a:pt x="358" y="178"/>
                  </a:lnTo>
                  <a:lnTo>
                    <a:pt x="360" y="166"/>
                  </a:lnTo>
                  <a:lnTo>
                    <a:pt x="372" y="156"/>
                  </a:lnTo>
                  <a:lnTo>
                    <a:pt x="372" y="142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33098040" y="3695400"/>
              <a:ext cx="514080" cy="12193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24" h="768">
                  <a:moveTo>
                    <a:pt x="324" y="628"/>
                  </a:moveTo>
                  <a:lnTo>
                    <a:pt x="324" y="628"/>
                  </a:lnTo>
                  <a:lnTo>
                    <a:pt x="322" y="634"/>
                  </a:lnTo>
                  <a:lnTo>
                    <a:pt x="320" y="640"/>
                  </a:lnTo>
                  <a:lnTo>
                    <a:pt x="318" y="646"/>
                  </a:lnTo>
                  <a:lnTo>
                    <a:pt x="314" y="650"/>
                  </a:lnTo>
                  <a:lnTo>
                    <a:pt x="314" y="650"/>
                  </a:lnTo>
                  <a:lnTo>
                    <a:pt x="302" y="664"/>
                  </a:lnTo>
                  <a:lnTo>
                    <a:pt x="282" y="680"/>
                  </a:lnTo>
                  <a:lnTo>
                    <a:pt x="272" y="688"/>
                  </a:lnTo>
                  <a:lnTo>
                    <a:pt x="260" y="704"/>
                  </a:lnTo>
                  <a:lnTo>
                    <a:pt x="250" y="708"/>
                  </a:lnTo>
                  <a:lnTo>
                    <a:pt x="234" y="720"/>
                  </a:lnTo>
                  <a:lnTo>
                    <a:pt x="222" y="720"/>
                  </a:lnTo>
                  <a:lnTo>
                    <a:pt x="216" y="726"/>
                  </a:lnTo>
                  <a:lnTo>
                    <a:pt x="216" y="726"/>
                  </a:lnTo>
                  <a:lnTo>
                    <a:pt x="206" y="730"/>
                  </a:lnTo>
                  <a:lnTo>
                    <a:pt x="196" y="736"/>
                  </a:lnTo>
                  <a:lnTo>
                    <a:pt x="186" y="742"/>
                  </a:lnTo>
                  <a:lnTo>
                    <a:pt x="180" y="750"/>
                  </a:lnTo>
                  <a:lnTo>
                    <a:pt x="180" y="750"/>
                  </a:lnTo>
                  <a:lnTo>
                    <a:pt x="172" y="754"/>
                  </a:lnTo>
                  <a:lnTo>
                    <a:pt x="164" y="756"/>
                  </a:lnTo>
                  <a:lnTo>
                    <a:pt x="164" y="756"/>
                  </a:lnTo>
                  <a:lnTo>
                    <a:pt x="156" y="754"/>
                  </a:lnTo>
                  <a:lnTo>
                    <a:pt x="156" y="754"/>
                  </a:lnTo>
                  <a:lnTo>
                    <a:pt x="146" y="760"/>
                  </a:lnTo>
                  <a:lnTo>
                    <a:pt x="132" y="764"/>
                  </a:lnTo>
                  <a:lnTo>
                    <a:pt x="120" y="766"/>
                  </a:lnTo>
                  <a:lnTo>
                    <a:pt x="104" y="768"/>
                  </a:lnTo>
                  <a:lnTo>
                    <a:pt x="104" y="768"/>
                  </a:lnTo>
                  <a:lnTo>
                    <a:pt x="82" y="766"/>
                  </a:lnTo>
                  <a:lnTo>
                    <a:pt x="74" y="764"/>
                  </a:lnTo>
                  <a:lnTo>
                    <a:pt x="68" y="762"/>
                  </a:lnTo>
                  <a:lnTo>
                    <a:pt x="48" y="750"/>
                  </a:lnTo>
                  <a:lnTo>
                    <a:pt x="40" y="738"/>
                  </a:lnTo>
                  <a:lnTo>
                    <a:pt x="40" y="734"/>
                  </a:lnTo>
                  <a:lnTo>
                    <a:pt x="40" y="734"/>
                  </a:lnTo>
                  <a:lnTo>
                    <a:pt x="40" y="726"/>
                  </a:lnTo>
                  <a:lnTo>
                    <a:pt x="36" y="720"/>
                  </a:lnTo>
                  <a:lnTo>
                    <a:pt x="32" y="714"/>
                  </a:lnTo>
                  <a:lnTo>
                    <a:pt x="26" y="708"/>
                  </a:lnTo>
                  <a:lnTo>
                    <a:pt x="22" y="684"/>
                  </a:lnTo>
                  <a:lnTo>
                    <a:pt x="12" y="674"/>
                  </a:lnTo>
                  <a:lnTo>
                    <a:pt x="6" y="628"/>
                  </a:lnTo>
                  <a:lnTo>
                    <a:pt x="6" y="602"/>
                  </a:lnTo>
                  <a:lnTo>
                    <a:pt x="6" y="582"/>
                  </a:lnTo>
                  <a:lnTo>
                    <a:pt x="8" y="574"/>
                  </a:lnTo>
                  <a:lnTo>
                    <a:pt x="8" y="574"/>
                  </a:lnTo>
                  <a:lnTo>
                    <a:pt x="6" y="566"/>
                  </a:lnTo>
                  <a:lnTo>
                    <a:pt x="6" y="558"/>
                  </a:lnTo>
                  <a:lnTo>
                    <a:pt x="6" y="558"/>
                  </a:lnTo>
                  <a:lnTo>
                    <a:pt x="10" y="516"/>
                  </a:lnTo>
                  <a:lnTo>
                    <a:pt x="12" y="494"/>
                  </a:lnTo>
                  <a:lnTo>
                    <a:pt x="0" y="472"/>
                  </a:lnTo>
                  <a:lnTo>
                    <a:pt x="12" y="454"/>
                  </a:lnTo>
                  <a:lnTo>
                    <a:pt x="14" y="422"/>
                  </a:lnTo>
                  <a:lnTo>
                    <a:pt x="12" y="402"/>
                  </a:lnTo>
                  <a:lnTo>
                    <a:pt x="20" y="384"/>
                  </a:lnTo>
                  <a:lnTo>
                    <a:pt x="12" y="360"/>
                  </a:lnTo>
                  <a:lnTo>
                    <a:pt x="26" y="342"/>
                  </a:lnTo>
                  <a:lnTo>
                    <a:pt x="26" y="332"/>
                  </a:lnTo>
                  <a:lnTo>
                    <a:pt x="26" y="288"/>
                  </a:lnTo>
                  <a:lnTo>
                    <a:pt x="26" y="280"/>
                  </a:lnTo>
                  <a:lnTo>
                    <a:pt x="26" y="230"/>
                  </a:lnTo>
                  <a:lnTo>
                    <a:pt x="30" y="176"/>
                  </a:lnTo>
                  <a:lnTo>
                    <a:pt x="26" y="166"/>
                  </a:lnTo>
                  <a:lnTo>
                    <a:pt x="26" y="130"/>
                  </a:lnTo>
                  <a:lnTo>
                    <a:pt x="26" y="98"/>
                  </a:lnTo>
                  <a:lnTo>
                    <a:pt x="26" y="8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68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4" y="4"/>
                  </a:lnTo>
                  <a:lnTo>
                    <a:pt x="100" y="12"/>
                  </a:lnTo>
                  <a:lnTo>
                    <a:pt x="108" y="20"/>
                  </a:lnTo>
                  <a:lnTo>
                    <a:pt x="110" y="30"/>
                  </a:lnTo>
                  <a:lnTo>
                    <a:pt x="126" y="48"/>
                  </a:lnTo>
                  <a:lnTo>
                    <a:pt x="122" y="74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18" y="98"/>
                  </a:lnTo>
                  <a:lnTo>
                    <a:pt x="114" y="110"/>
                  </a:lnTo>
                  <a:lnTo>
                    <a:pt x="118" y="136"/>
                  </a:lnTo>
                  <a:lnTo>
                    <a:pt x="122" y="158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2" y="204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6" y="242"/>
                  </a:lnTo>
                  <a:lnTo>
                    <a:pt x="104" y="248"/>
                  </a:lnTo>
                  <a:lnTo>
                    <a:pt x="114" y="262"/>
                  </a:lnTo>
                  <a:lnTo>
                    <a:pt x="110" y="276"/>
                  </a:lnTo>
                  <a:lnTo>
                    <a:pt x="110" y="276"/>
                  </a:lnTo>
                  <a:lnTo>
                    <a:pt x="114" y="288"/>
                  </a:lnTo>
                  <a:lnTo>
                    <a:pt x="114" y="288"/>
                  </a:lnTo>
                  <a:lnTo>
                    <a:pt x="112" y="298"/>
                  </a:lnTo>
                  <a:lnTo>
                    <a:pt x="108" y="308"/>
                  </a:lnTo>
                  <a:lnTo>
                    <a:pt x="110" y="320"/>
                  </a:lnTo>
                  <a:lnTo>
                    <a:pt x="104" y="358"/>
                  </a:lnTo>
                  <a:lnTo>
                    <a:pt x="104" y="384"/>
                  </a:lnTo>
                  <a:lnTo>
                    <a:pt x="94" y="410"/>
                  </a:lnTo>
                  <a:lnTo>
                    <a:pt x="100" y="432"/>
                  </a:lnTo>
                  <a:lnTo>
                    <a:pt x="94" y="486"/>
                  </a:lnTo>
                  <a:lnTo>
                    <a:pt x="98" y="492"/>
                  </a:lnTo>
                  <a:lnTo>
                    <a:pt x="92" y="520"/>
                  </a:lnTo>
                  <a:lnTo>
                    <a:pt x="90" y="554"/>
                  </a:lnTo>
                  <a:lnTo>
                    <a:pt x="90" y="554"/>
                  </a:lnTo>
                  <a:lnTo>
                    <a:pt x="88" y="564"/>
                  </a:lnTo>
                  <a:lnTo>
                    <a:pt x="88" y="564"/>
                  </a:lnTo>
                  <a:lnTo>
                    <a:pt x="86" y="598"/>
                  </a:lnTo>
                  <a:lnTo>
                    <a:pt x="90" y="614"/>
                  </a:lnTo>
                  <a:lnTo>
                    <a:pt x="90" y="632"/>
                  </a:lnTo>
                  <a:lnTo>
                    <a:pt x="98" y="648"/>
                  </a:lnTo>
                  <a:lnTo>
                    <a:pt x="96" y="654"/>
                  </a:lnTo>
                  <a:lnTo>
                    <a:pt x="96" y="654"/>
                  </a:lnTo>
                  <a:lnTo>
                    <a:pt x="102" y="662"/>
                  </a:lnTo>
                  <a:lnTo>
                    <a:pt x="108" y="674"/>
                  </a:lnTo>
                  <a:lnTo>
                    <a:pt x="120" y="674"/>
                  </a:lnTo>
                  <a:lnTo>
                    <a:pt x="134" y="680"/>
                  </a:lnTo>
                  <a:lnTo>
                    <a:pt x="142" y="670"/>
                  </a:lnTo>
                  <a:lnTo>
                    <a:pt x="152" y="668"/>
                  </a:lnTo>
                  <a:lnTo>
                    <a:pt x="152" y="668"/>
                  </a:lnTo>
                  <a:lnTo>
                    <a:pt x="164" y="666"/>
                  </a:lnTo>
                  <a:lnTo>
                    <a:pt x="166" y="666"/>
                  </a:lnTo>
                  <a:lnTo>
                    <a:pt x="166" y="666"/>
                  </a:lnTo>
                  <a:lnTo>
                    <a:pt x="178" y="662"/>
                  </a:lnTo>
                  <a:lnTo>
                    <a:pt x="186" y="654"/>
                  </a:lnTo>
                  <a:lnTo>
                    <a:pt x="192" y="650"/>
                  </a:lnTo>
                  <a:lnTo>
                    <a:pt x="192" y="650"/>
                  </a:lnTo>
                  <a:lnTo>
                    <a:pt x="198" y="644"/>
                  </a:lnTo>
                  <a:lnTo>
                    <a:pt x="204" y="638"/>
                  </a:lnTo>
                  <a:lnTo>
                    <a:pt x="212" y="634"/>
                  </a:lnTo>
                  <a:lnTo>
                    <a:pt x="220" y="632"/>
                  </a:lnTo>
                  <a:lnTo>
                    <a:pt x="220" y="632"/>
                  </a:lnTo>
                  <a:lnTo>
                    <a:pt x="242" y="612"/>
                  </a:lnTo>
                  <a:lnTo>
                    <a:pt x="242" y="612"/>
                  </a:lnTo>
                  <a:lnTo>
                    <a:pt x="244" y="604"/>
                  </a:lnTo>
                  <a:lnTo>
                    <a:pt x="248" y="598"/>
                  </a:lnTo>
                  <a:lnTo>
                    <a:pt x="254" y="592"/>
                  </a:lnTo>
                  <a:lnTo>
                    <a:pt x="262" y="586"/>
                  </a:lnTo>
                  <a:lnTo>
                    <a:pt x="262" y="586"/>
                  </a:lnTo>
                  <a:lnTo>
                    <a:pt x="278" y="584"/>
                  </a:lnTo>
                  <a:lnTo>
                    <a:pt x="282" y="584"/>
                  </a:lnTo>
                  <a:lnTo>
                    <a:pt x="286" y="580"/>
                  </a:lnTo>
                  <a:lnTo>
                    <a:pt x="286" y="580"/>
                  </a:lnTo>
                  <a:lnTo>
                    <a:pt x="298" y="582"/>
                  </a:lnTo>
                  <a:lnTo>
                    <a:pt x="306" y="586"/>
                  </a:lnTo>
                  <a:lnTo>
                    <a:pt x="312" y="588"/>
                  </a:lnTo>
                  <a:lnTo>
                    <a:pt x="316" y="594"/>
                  </a:lnTo>
                  <a:lnTo>
                    <a:pt x="316" y="594"/>
                  </a:lnTo>
                  <a:lnTo>
                    <a:pt x="320" y="598"/>
                  </a:lnTo>
                  <a:lnTo>
                    <a:pt x="322" y="606"/>
                  </a:lnTo>
                  <a:lnTo>
                    <a:pt x="324" y="628"/>
                  </a:lnTo>
                  <a:lnTo>
                    <a:pt x="324" y="628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33679080" y="4010040"/>
              <a:ext cx="622080" cy="10033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92" h="632">
                  <a:moveTo>
                    <a:pt x="392" y="462"/>
                  </a:moveTo>
                  <a:lnTo>
                    <a:pt x="392" y="462"/>
                  </a:lnTo>
                  <a:lnTo>
                    <a:pt x="390" y="470"/>
                  </a:lnTo>
                  <a:lnTo>
                    <a:pt x="386" y="480"/>
                  </a:lnTo>
                  <a:lnTo>
                    <a:pt x="380" y="488"/>
                  </a:lnTo>
                  <a:lnTo>
                    <a:pt x="370" y="500"/>
                  </a:lnTo>
                  <a:lnTo>
                    <a:pt x="370" y="500"/>
                  </a:lnTo>
                  <a:lnTo>
                    <a:pt x="362" y="518"/>
                  </a:lnTo>
                  <a:lnTo>
                    <a:pt x="352" y="532"/>
                  </a:lnTo>
                  <a:lnTo>
                    <a:pt x="346" y="532"/>
                  </a:lnTo>
                  <a:lnTo>
                    <a:pt x="332" y="556"/>
                  </a:lnTo>
                  <a:lnTo>
                    <a:pt x="310" y="560"/>
                  </a:lnTo>
                  <a:lnTo>
                    <a:pt x="288" y="574"/>
                  </a:lnTo>
                  <a:lnTo>
                    <a:pt x="276" y="596"/>
                  </a:lnTo>
                  <a:lnTo>
                    <a:pt x="264" y="596"/>
                  </a:lnTo>
                  <a:lnTo>
                    <a:pt x="264" y="596"/>
                  </a:lnTo>
                  <a:lnTo>
                    <a:pt x="252" y="600"/>
                  </a:lnTo>
                  <a:lnTo>
                    <a:pt x="242" y="602"/>
                  </a:lnTo>
                  <a:lnTo>
                    <a:pt x="234" y="612"/>
                  </a:lnTo>
                  <a:lnTo>
                    <a:pt x="234" y="612"/>
                  </a:lnTo>
                  <a:lnTo>
                    <a:pt x="224" y="612"/>
                  </a:lnTo>
                  <a:lnTo>
                    <a:pt x="224" y="612"/>
                  </a:lnTo>
                  <a:lnTo>
                    <a:pt x="216" y="614"/>
                  </a:lnTo>
                  <a:lnTo>
                    <a:pt x="208" y="616"/>
                  </a:lnTo>
                  <a:lnTo>
                    <a:pt x="202" y="624"/>
                  </a:lnTo>
                  <a:lnTo>
                    <a:pt x="194" y="632"/>
                  </a:lnTo>
                  <a:lnTo>
                    <a:pt x="178" y="618"/>
                  </a:lnTo>
                  <a:lnTo>
                    <a:pt x="178" y="618"/>
                  </a:lnTo>
                  <a:lnTo>
                    <a:pt x="164" y="618"/>
                  </a:lnTo>
                  <a:lnTo>
                    <a:pt x="164" y="618"/>
                  </a:lnTo>
                  <a:lnTo>
                    <a:pt x="148" y="616"/>
                  </a:lnTo>
                  <a:lnTo>
                    <a:pt x="138" y="612"/>
                  </a:lnTo>
                  <a:lnTo>
                    <a:pt x="116" y="612"/>
                  </a:lnTo>
                  <a:lnTo>
                    <a:pt x="108" y="606"/>
                  </a:lnTo>
                  <a:lnTo>
                    <a:pt x="108" y="606"/>
                  </a:lnTo>
                  <a:lnTo>
                    <a:pt x="86" y="600"/>
                  </a:lnTo>
                  <a:lnTo>
                    <a:pt x="70" y="594"/>
                  </a:lnTo>
                  <a:lnTo>
                    <a:pt x="58" y="584"/>
                  </a:lnTo>
                  <a:lnTo>
                    <a:pt x="54" y="578"/>
                  </a:lnTo>
                  <a:lnTo>
                    <a:pt x="50" y="570"/>
                  </a:lnTo>
                  <a:lnTo>
                    <a:pt x="50" y="566"/>
                  </a:lnTo>
                  <a:lnTo>
                    <a:pt x="36" y="560"/>
                  </a:lnTo>
                  <a:lnTo>
                    <a:pt x="28" y="540"/>
                  </a:lnTo>
                  <a:lnTo>
                    <a:pt x="14" y="530"/>
                  </a:lnTo>
                  <a:lnTo>
                    <a:pt x="14" y="512"/>
                  </a:lnTo>
                  <a:lnTo>
                    <a:pt x="0" y="458"/>
                  </a:lnTo>
                  <a:lnTo>
                    <a:pt x="0" y="414"/>
                  </a:lnTo>
                  <a:lnTo>
                    <a:pt x="8" y="396"/>
                  </a:lnTo>
                  <a:lnTo>
                    <a:pt x="8" y="370"/>
                  </a:lnTo>
                  <a:lnTo>
                    <a:pt x="14" y="350"/>
                  </a:lnTo>
                  <a:lnTo>
                    <a:pt x="12" y="342"/>
                  </a:lnTo>
                  <a:lnTo>
                    <a:pt x="20" y="328"/>
                  </a:lnTo>
                  <a:lnTo>
                    <a:pt x="18" y="330"/>
                  </a:lnTo>
                  <a:lnTo>
                    <a:pt x="18" y="330"/>
                  </a:lnTo>
                  <a:lnTo>
                    <a:pt x="20" y="318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0" y="272"/>
                  </a:lnTo>
                  <a:lnTo>
                    <a:pt x="20" y="272"/>
                  </a:lnTo>
                  <a:lnTo>
                    <a:pt x="22" y="262"/>
                  </a:lnTo>
                  <a:lnTo>
                    <a:pt x="24" y="252"/>
                  </a:lnTo>
                  <a:lnTo>
                    <a:pt x="30" y="242"/>
                  </a:lnTo>
                  <a:lnTo>
                    <a:pt x="38" y="234"/>
                  </a:lnTo>
                  <a:lnTo>
                    <a:pt x="38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32" y="186"/>
                  </a:lnTo>
                  <a:lnTo>
                    <a:pt x="32" y="186"/>
                  </a:lnTo>
                  <a:lnTo>
                    <a:pt x="32" y="172"/>
                  </a:lnTo>
                  <a:lnTo>
                    <a:pt x="38" y="156"/>
                  </a:lnTo>
                  <a:lnTo>
                    <a:pt x="38" y="156"/>
                  </a:lnTo>
                  <a:lnTo>
                    <a:pt x="44" y="162"/>
                  </a:lnTo>
                  <a:lnTo>
                    <a:pt x="50" y="166"/>
                  </a:lnTo>
                  <a:lnTo>
                    <a:pt x="58" y="170"/>
                  </a:lnTo>
                  <a:lnTo>
                    <a:pt x="66" y="170"/>
                  </a:lnTo>
                  <a:lnTo>
                    <a:pt x="70" y="170"/>
                  </a:lnTo>
                  <a:lnTo>
                    <a:pt x="70" y="170"/>
                  </a:lnTo>
                  <a:lnTo>
                    <a:pt x="74" y="164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6" y="144"/>
                  </a:lnTo>
                  <a:lnTo>
                    <a:pt x="92" y="132"/>
                  </a:lnTo>
                  <a:lnTo>
                    <a:pt x="98" y="118"/>
                  </a:lnTo>
                  <a:lnTo>
                    <a:pt x="106" y="108"/>
                  </a:lnTo>
                  <a:lnTo>
                    <a:pt x="110" y="104"/>
                  </a:lnTo>
                  <a:lnTo>
                    <a:pt x="110" y="104"/>
                  </a:lnTo>
                  <a:lnTo>
                    <a:pt x="112" y="94"/>
                  </a:lnTo>
                  <a:lnTo>
                    <a:pt x="118" y="74"/>
                  </a:lnTo>
                  <a:lnTo>
                    <a:pt x="128" y="74"/>
                  </a:lnTo>
                  <a:lnTo>
                    <a:pt x="130" y="68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78" y="32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04" y="12"/>
                  </a:lnTo>
                  <a:lnTo>
                    <a:pt x="23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4" y="2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6" y="10"/>
                  </a:lnTo>
                  <a:lnTo>
                    <a:pt x="276" y="10"/>
                  </a:lnTo>
                  <a:lnTo>
                    <a:pt x="290" y="20"/>
                  </a:lnTo>
                  <a:lnTo>
                    <a:pt x="304" y="28"/>
                  </a:lnTo>
                  <a:lnTo>
                    <a:pt x="326" y="44"/>
                  </a:lnTo>
                  <a:lnTo>
                    <a:pt x="326" y="48"/>
                  </a:lnTo>
                  <a:lnTo>
                    <a:pt x="326" y="48"/>
                  </a:lnTo>
                  <a:lnTo>
                    <a:pt x="338" y="60"/>
                  </a:lnTo>
                  <a:lnTo>
                    <a:pt x="346" y="74"/>
                  </a:lnTo>
                  <a:lnTo>
                    <a:pt x="350" y="92"/>
                  </a:lnTo>
                  <a:lnTo>
                    <a:pt x="352" y="110"/>
                  </a:lnTo>
                  <a:lnTo>
                    <a:pt x="350" y="122"/>
                  </a:lnTo>
                  <a:lnTo>
                    <a:pt x="352" y="162"/>
                  </a:lnTo>
                  <a:lnTo>
                    <a:pt x="342" y="170"/>
                  </a:lnTo>
                  <a:lnTo>
                    <a:pt x="330" y="202"/>
                  </a:lnTo>
                  <a:lnTo>
                    <a:pt x="308" y="228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270" y="272"/>
                  </a:lnTo>
                  <a:lnTo>
                    <a:pt x="236" y="292"/>
                  </a:lnTo>
                  <a:lnTo>
                    <a:pt x="236" y="292"/>
                  </a:lnTo>
                  <a:lnTo>
                    <a:pt x="230" y="300"/>
                  </a:lnTo>
                  <a:lnTo>
                    <a:pt x="222" y="304"/>
                  </a:lnTo>
                  <a:lnTo>
                    <a:pt x="214" y="308"/>
                  </a:lnTo>
                  <a:lnTo>
                    <a:pt x="202" y="310"/>
                  </a:lnTo>
                  <a:lnTo>
                    <a:pt x="198" y="310"/>
                  </a:lnTo>
                  <a:lnTo>
                    <a:pt x="176" y="324"/>
                  </a:lnTo>
                  <a:lnTo>
                    <a:pt x="158" y="324"/>
                  </a:lnTo>
                  <a:lnTo>
                    <a:pt x="128" y="336"/>
                  </a:lnTo>
                  <a:lnTo>
                    <a:pt x="108" y="326"/>
                  </a:lnTo>
                  <a:lnTo>
                    <a:pt x="104" y="326"/>
                  </a:lnTo>
                  <a:lnTo>
                    <a:pt x="104" y="326"/>
                  </a:lnTo>
                  <a:lnTo>
                    <a:pt x="100" y="354"/>
                  </a:lnTo>
                  <a:lnTo>
                    <a:pt x="90" y="362"/>
                  </a:lnTo>
                  <a:lnTo>
                    <a:pt x="90" y="376"/>
                  </a:lnTo>
                  <a:lnTo>
                    <a:pt x="82" y="398"/>
                  </a:lnTo>
                  <a:lnTo>
                    <a:pt x="82" y="398"/>
                  </a:lnTo>
                  <a:lnTo>
                    <a:pt x="84" y="436"/>
                  </a:lnTo>
                  <a:lnTo>
                    <a:pt x="80" y="440"/>
                  </a:lnTo>
                  <a:lnTo>
                    <a:pt x="80" y="440"/>
                  </a:lnTo>
                  <a:lnTo>
                    <a:pt x="80" y="462"/>
                  </a:lnTo>
                  <a:lnTo>
                    <a:pt x="80" y="462"/>
                  </a:lnTo>
                  <a:lnTo>
                    <a:pt x="78" y="466"/>
                  </a:lnTo>
                  <a:lnTo>
                    <a:pt x="78" y="466"/>
                  </a:lnTo>
                  <a:lnTo>
                    <a:pt x="78" y="470"/>
                  </a:lnTo>
                  <a:lnTo>
                    <a:pt x="78" y="470"/>
                  </a:lnTo>
                  <a:lnTo>
                    <a:pt x="80" y="474"/>
                  </a:lnTo>
                  <a:lnTo>
                    <a:pt x="82" y="478"/>
                  </a:lnTo>
                  <a:lnTo>
                    <a:pt x="88" y="486"/>
                  </a:lnTo>
                  <a:lnTo>
                    <a:pt x="88" y="486"/>
                  </a:lnTo>
                  <a:lnTo>
                    <a:pt x="94" y="498"/>
                  </a:lnTo>
                  <a:lnTo>
                    <a:pt x="96" y="502"/>
                  </a:lnTo>
                  <a:lnTo>
                    <a:pt x="100" y="504"/>
                  </a:lnTo>
                  <a:lnTo>
                    <a:pt x="108" y="512"/>
                  </a:lnTo>
                  <a:lnTo>
                    <a:pt x="134" y="518"/>
                  </a:lnTo>
                  <a:lnTo>
                    <a:pt x="134" y="522"/>
                  </a:lnTo>
                  <a:lnTo>
                    <a:pt x="144" y="526"/>
                  </a:lnTo>
                  <a:lnTo>
                    <a:pt x="184" y="526"/>
                  </a:lnTo>
                  <a:lnTo>
                    <a:pt x="208" y="522"/>
                  </a:lnTo>
                  <a:lnTo>
                    <a:pt x="220" y="514"/>
                  </a:lnTo>
                  <a:lnTo>
                    <a:pt x="228" y="510"/>
                  </a:lnTo>
                  <a:lnTo>
                    <a:pt x="240" y="492"/>
                  </a:lnTo>
                  <a:lnTo>
                    <a:pt x="246" y="492"/>
                  </a:lnTo>
                  <a:lnTo>
                    <a:pt x="276" y="482"/>
                  </a:lnTo>
                  <a:lnTo>
                    <a:pt x="276" y="482"/>
                  </a:lnTo>
                  <a:lnTo>
                    <a:pt x="282" y="474"/>
                  </a:lnTo>
                  <a:lnTo>
                    <a:pt x="290" y="468"/>
                  </a:lnTo>
                  <a:lnTo>
                    <a:pt x="294" y="462"/>
                  </a:lnTo>
                  <a:lnTo>
                    <a:pt x="294" y="462"/>
                  </a:lnTo>
                  <a:lnTo>
                    <a:pt x="304" y="458"/>
                  </a:lnTo>
                  <a:lnTo>
                    <a:pt x="312" y="452"/>
                  </a:lnTo>
                  <a:lnTo>
                    <a:pt x="318" y="446"/>
                  </a:lnTo>
                  <a:lnTo>
                    <a:pt x="322" y="436"/>
                  </a:lnTo>
                  <a:lnTo>
                    <a:pt x="322" y="436"/>
                  </a:lnTo>
                  <a:lnTo>
                    <a:pt x="330" y="428"/>
                  </a:lnTo>
                  <a:lnTo>
                    <a:pt x="340" y="424"/>
                  </a:lnTo>
                  <a:lnTo>
                    <a:pt x="352" y="420"/>
                  </a:lnTo>
                  <a:lnTo>
                    <a:pt x="364" y="418"/>
                  </a:lnTo>
                  <a:lnTo>
                    <a:pt x="370" y="418"/>
                  </a:lnTo>
                  <a:lnTo>
                    <a:pt x="370" y="418"/>
                  </a:lnTo>
                  <a:lnTo>
                    <a:pt x="380" y="432"/>
                  </a:lnTo>
                  <a:lnTo>
                    <a:pt x="386" y="444"/>
                  </a:lnTo>
                  <a:lnTo>
                    <a:pt x="390" y="454"/>
                  </a:lnTo>
                  <a:lnTo>
                    <a:pt x="392" y="462"/>
                  </a:lnTo>
                  <a:lnTo>
                    <a:pt x="392" y="462"/>
                  </a:lnTo>
                  <a:close/>
                  <a:moveTo>
                    <a:pt x="274" y="112"/>
                  </a:moveTo>
                  <a:lnTo>
                    <a:pt x="274" y="112"/>
                  </a:lnTo>
                  <a:lnTo>
                    <a:pt x="270" y="96"/>
                  </a:lnTo>
                  <a:lnTo>
                    <a:pt x="264" y="96"/>
                  </a:lnTo>
                  <a:lnTo>
                    <a:pt x="262" y="96"/>
                  </a:lnTo>
                  <a:lnTo>
                    <a:pt x="262" y="96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98"/>
                  </a:lnTo>
                  <a:lnTo>
                    <a:pt x="252" y="98"/>
                  </a:lnTo>
                  <a:lnTo>
                    <a:pt x="250" y="96"/>
                  </a:lnTo>
                  <a:lnTo>
                    <a:pt x="250" y="96"/>
                  </a:lnTo>
                  <a:lnTo>
                    <a:pt x="246" y="96"/>
                  </a:lnTo>
                  <a:lnTo>
                    <a:pt x="234" y="106"/>
                  </a:lnTo>
                  <a:lnTo>
                    <a:pt x="222" y="106"/>
                  </a:lnTo>
                  <a:lnTo>
                    <a:pt x="216" y="110"/>
                  </a:lnTo>
                  <a:lnTo>
                    <a:pt x="196" y="136"/>
                  </a:lnTo>
                  <a:lnTo>
                    <a:pt x="184" y="146"/>
                  </a:lnTo>
                  <a:lnTo>
                    <a:pt x="164" y="180"/>
                  </a:lnTo>
                  <a:lnTo>
                    <a:pt x="154" y="188"/>
                  </a:lnTo>
                  <a:lnTo>
                    <a:pt x="154" y="188"/>
                  </a:lnTo>
                  <a:lnTo>
                    <a:pt x="152" y="198"/>
                  </a:lnTo>
                  <a:lnTo>
                    <a:pt x="148" y="206"/>
                  </a:lnTo>
                  <a:lnTo>
                    <a:pt x="144" y="214"/>
                  </a:lnTo>
                  <a:lnTo>
                    <a:pt x="138" y="222"/>
                  </a:lnTo>
                  <a:lnTo>
                    <a:pt x="132" y="232"/>
                  </a:lnTo>
                  <a:lnTo>
                    <a:pt x="132" y="232"/>
                  </a:lnTo>
                  <a:lnTo>
                    <a:pt x="146" y="224"/>
                  </a:lnTo>
                  <a:lnTo>
                    <a:pt x="162" y="222"/>
                  </a:lnTo>
                  <a:lnTo>
                    <a:pt x="170" y="218"/>
                  </a:lnTo>
                  <a:lnTo>
                    <a:pt x="174" y="208"/>
                  </a:lnTo>
                  <a:lnTo>
                    <a:pt x="190" y="210"/>
                  </a:lnTo>
                  <a:lnTo>
                    <a:pt x="200" y="194"/>
                  </a:lnTo>
                  <a:lnTo>
                    <a:pt x="208" y="194"/>
                  </a:lnTo>
                  <a:lnTo>
                    <a:pt x="220" y="200"/>
                  </a:lnTo>
                  <a:lnTo>
                    <a:pt x="226" y="182"/>
                  </a:lnTo>
                  <a:lnTo>
                    <a:pt x="234" y="182"/>
                  </a:lnTo>
                  <a:lnTo>
                    <a:pt x="234" y="168"/>
                  </a:lnTo>
                  <a:lnTo>
                    <a:pt x="250" y="164"/>
                  </a:lnTo>
                  <a:lnTo>
                    <a:pt x="254" y="160"/>
                  </a:lnTo>
                  <a:lnTo>
                    <a:pt x="256" y="150"/>
                  </a:lnTo>
                  <a:lnTo>
                    <a:pt x="272" y="126"/>
                  </a:lnTo>
                  <a:lnTo>
                    <a:pt x="272" y="126"/>
                  </a:lnTo>
                  <a:lnTo>
                    <a:pt x="274" y="120"/>
                  </a:lnTo>
                  <a:lnTo>
                    <a:pt x="274" y="112"/>
                  </a:lnTo>
                  <a:lnTo>
                    <a:pt x="274" y="112"/>
                  </a:lnTo>
                  <a:close/>
                </a:path>
              </a:pathLst>
            </a:custGeom>
            <a:solidFill>
              <a:srgbClr val="a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49"/>
          <p:cNvGrpSpPr/>
          <p:nvPr/>
        </p:nvGrpSpPr>
        <p:grpSpPr>
          <a:xfrm>
            <a:off x="1328760" y="1047600"/>
            <a:ext cx="8264520" cy="1168560"/>
            <a:chOff x="1328760" y="1047600"/>
            <a:chExt cx="8264520" cy="1168560"/>
          </a:xfrm>
        </p:grpSpPr>
        <p:sp>
          <p:nvSpPr>
            <p:cNvPr id="83" name="Freeform 39"/>
            <p:cNvSpPr/>
            <p:nvPr/>
          </p:nvSpPr>
          <p:spPr>
            <a:xfrm>
              <a:off x="1328760" y="1076040"/>
              <a:ext cx="809640" cy="8827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10" h="556">
                  <a:moveTo>
                    <a:pt x="494" y="10"/>
                  </a:moveTo>
                  <a:lnTo>
                    <a:pt x="510" y="196"/>
                  </a:lnTo>
                  <a:lnTo>
                    <a:pt x="430" y="208"/>
                  </a:lnTo>
                  <a:lnTo>
                    <a:pt x="430" y="208"/>
                  </a:lnTo>
                  <a:lnTo>
                    <a:pt x="420" y="182"/>
                  </a:lnTo>
                  <a:lnTo>
                    <a:pt x="404" y="158"/>
                  </a:lnTo>
                  <a:lnTo>
                    <a:pt x="386" y="136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42" y="104"/>
                  </a:lnTo>
                  <a:lnTo>
                    <a:pt x="316" y="92"/>
                  </a:lnTo>
                  <a:lnTo>
                    <a:pt x="290" y="86"/>
                  </a:lnTo>
                  <a:lnTo>
                    <a:pt x="262" y="84"/>
                  </a:lnTo>
                  <a:lnTo>
                    <a:pt x="262" y="84"/>
                  </a:lnTo>
                  <a:lnTo>
                    <a:pt x="236" y="86"/>
                  </a:lnTo>
                  <a:lnTo>
                    <a:pt x="224" y="88"/>
                  </a:lnTo>
                  <a:lnTo>
                    <a:pt x="214" y="92"/>
                  </a:lnTo>
                  <a:lnTo>
                    <a:pt x="214" y="92"/>
                  </a:lnTo>
                  <a:lnTo>
                    <a:pt x="204" y="96"/>
                  </a:lnTo>
                  <a:lnTo>
                    <a:pt x="196" y="102"/>
                  </a:lnTo>
                  <a:lnTo>
                    <a:pt x="190" y="108"/>
                  </a:lnTo>
                  <a:lnTo>
                    <a:pt x="184" y="114"/>
                  </a:lnTo>
                  <a:lnTo>
                    <a:pt x="184" y="114"/>
                  </a:lnTo>
                  <a:lnTo>
                    <a:pt x="176" y="128"/>
                  </a:lnTo>
                  <a:lnTo>
                    <a:pt x="174" y="134"/>
                  </a:lnTo>
                  <a:lnTo>
                    <a:pt x="174" y="140"/>
                  </a:lnTo>
                  <a:lnTo>
                    <a:pt x="174" y="140"/>
                  </a:lnTo>
                  <a:lnTo>
                    <a:pt x="174" y="150"/>
                  </a:lnTo>
                  <a:lnTo>
                    <a:pt x="178" y="158"/>
                  </a:lnTo>
                  <a:lnTo>
                    <a:pt x="184" y="166"/>
                  </a:lnTo>
                  <a:lnTo>
                    <a:pt x="192" y="176"/>
                  </a:lnTo>
                  <a:lnTo>
                    <a:pt x="192" y="176"/>
                  </a:lnTo>
                  <a:lnTo>
                    <a:pt x="202" y="182"/>
                  </a:lnTo>
                  <a:lnTo>
                    <a:pt x="218" y="190"/>
                  </a:lnTo>
                  <a:lnTo>
                    <a:pt x="240" y="198"/>
                  </a:lnTo>
                  <a:lnTo>
                    <a:pt x="264" y="206"/>
                  </a:lnTo>
                  <a:lnTo>
                    <a:pt x="264" y="206"/>
                  </a:lnTo>
                  <a:lnTo>
                    <a:pt x="308" y="218"/>
                  </a:lnTo>
                  <a:lnTo>
                    <a:pt x="346" y="230"/>
                  </a:lnTo>
                  <a:lnTo>
                    <a:pt x="376" y="242"/>
                  </a:lnTo>
                  <a:lnTo>
                    <a:pt x="400" y="254"/>
                  </a:lnTo>
                  <a:lnTo>
                    <a:pt x="400" y="254"/>
                  </a:lnTo>
                  <a:lnTo>
                    <a:pt x="420" y="264"/>
                  </a:lnTo>
                  <a:lnTo>
                    <a:pt x="438" y="278"/>
                  </a:lnTo>
                  <a:lnTo>
                    <a:pt x="454" y="292"/>
                  </a:lnTo>
                  <a:lnTo>
                    <a:pt x="466" y="306"/>
                  </a:lnTo>
                  <a:lnTo>
                    <a:pt x="466" y="306"/>
                  </a:lnTo>
                  <a:lnTo>
                    <a:pt x="476" y="322"/>
                  </a:lnTo>
                  <a:lnTo>
                    <a:pt x="484" y="340"/>
                  </a:lnTo>
                  <a:lnTo>
                    <a:pt x="488" y="360"/>
                  </a:lnTo>
                  <a:lnTo>
                    <a:pt x="488" y="380"/>
                  </a:lnTo>
                  <a:lnTo>
                    <a:pt x="488" y="380"/>
                  </a:lnTo>
                  <a:lnTo>
                    <a:pt x="488" y="400"/>
                  </a:lnTo>
                  <a:lnTo>
                    <a:pt x="484" y="416"/>
                  </a:lnTo>
                  <a:lnTo>
                    <a:pt x="480" y="434"/>
                  </a:lnTo>
                  <a:lnTo>
                    <a:pt x="472" y="450"/>
                  </a:lnTo>
                  <a:lnTo>
                    <a:pt x="462" y="466"/>
                  </a:lnTo>
                  <a:lnTo>
                    <a:pt x="452" y="480"/>
                  </a:lnTo>
                  <a:lnTo>
                    <a:pt x="438" y="494"/>
                  </a:lnTo>
                  <a:lnTo>
                    <a:pt x="422" y="508"/>
                  </a:lnTo>
                  <a:lnTo>
                    <a:pt x="422" y="508"/>
                  </a:lnTo>
                  <a:lnTo>
                    <a:pt x="406" y="518"/>
                  </a:lnTo>
                  <a:lnTo>
                    <a:pt x="390" y="528"/>
                  </a:lnTo>
                  <a:lnTo>
                    <a:pt x="372" y="538"/>
                  </a:lnTo>
                  <a:lnTo>
                    <a:pt x="354" y="544"/>
                  </a:lnTo>
                  <a:lnTo>
                    <a:pt x="334" y="550"/>
                  </a:lnTo>
                  <a:lnTo>
                    <a:pt x="312" y="552"/>
                  </a:lnTo>
                  <a:lnTo>
                    <a:pt x="292" y="556"/>
                  </a:lnTo>
                  <a:lnTo>
                    <a:pt x="268" y="556"/>
                  </a:lnTo>
                  <a:lnTo>
                    <a:pt x="268" y="556"/>
                  </a:lnTo>
                  <a:lnTo>
                    <a:pt x="242" y="554"/>
                  </a:lnTo>
                  <a:lnTo>
                    <a:pt x="216" y="552"/>
                  </a:lnTo>
                  <a:lnTo>
                    <a:pt x="192" y="548"/>
                  </a:lnTo>
                  <a:lnTo>
                    <a:pt x="170" y="540"/>
                  </a:lnTo>
                  <a:lnTo>
                    <a:pt x="170" y="540"/>
                  </a:lnTo>
                  <a:lnTo>
                    <a:pt x="148" y="532"/>
                  </a:lnTo>
                  <a:lnTo>
                    <a:pt x="128" y="522"/>
                  </a:lnTo>
                  <a:lnTo>
                    <a:pt x="108" y="508"/>
                  </a:lnTo>
                  <a:lnTo>
                    <a:pt x="90" y="494"/>
                  </a:lnTo>
                  <a:lnTo>
                    <a:pt x="56" y="546"/>
                  </a:lnTo>
                  <a:lnTo>
                    <a:pt x="0" y="546"/>
                  </a:lnTo>
                  <a:lnTo>
                    <a:pt x="0" y="33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86" y="346"/>
                  </a:lnTo>
                  <a:lnTo>
                    <a:pt x="96" y="364"/>
                  </a:lnTo>
                  <a:lnTo>
                    <a:pt x="108" y="384"/>
                  </a:lnTo>
                  <a:lnTo>
                    <a:pt x="122" y="400"/>
                  </a:lnTo>
                  <a:lnTo>
                    <a:pt x="122" y="400"/>
                  </a:lnTo>
                  <a:lnTo>
                    <a:pt x="138" y="418"/>
                  </a:lnTo>
                  <a:lnTo>
                    <a:pt x="156" y="432"/>
                  </a:lnTo>
                  <a:lnTo>
                    <a:pt x="174" y="444"/>
                  </a:lnTo>
                  <a:lnTo>
                    <a:pt x="192" y="454"/>
                  </a:lnTo>
                  <a:lnTo>
                    <a:pt x="192" y="454"/>
                  </a:lnTo>
                  <a:lnTo>
                    <a:pt x="212" y="462"/>
                  </a:lnTo>
                  <a:lnTo>
                    <a:pt x="232" y="468"/>
                  </a:lnTo>
                  <a:lnTo>
                    <a:pt x="252" y="470"/>
                  </a:lnTo>
                  <a:lnTo>
                    <a:pt x="272" y="472"/>
                  </a:lnTo>
                  <a:lnTo>
                    <a:pt x="272" y="472"/>
                  </a:lnTo>
                  <a:lnTo>
                    <a:pt x="292" y="470"/>
                  </a:lnTo>
                  <a:lnTo>
                    <a:pt x="312" y="468"/>
                  </a:lnTo>
                  <a:lnTo>
                    <a:pt x="328" y="462"/>
                  </a:lnTo>
                  <a:lnTo>
                    <a:pt x="342" y="454"/>
                  </a:lnTo>
                  <a:lnTo>
                    <a:pt x="342" y="454"/>
                  </a:lnTo>
                  <a:lnTo>
                    <a:pt x="352" y="444"/>
                  </a:lnTo>
                  <a:lnTo>
                    <a:pt x="360" y="434"/>
                  </a:lnTo>
                  <a:lnTo>
                    <a:pt x="364" y="422"/>
                  </a:lnTo>
                  <a:lnTo>
                    <a:pt x="366" y="408"/>
                  </a:lnTo>
                  <a:lnTo>
                    <a:pt x="366" y="408"/>
                  </a:lnTo>
                  <a:lnTo>
                    <a:pt x="364" y="400"/>
                  </a:lnTo>
                  <a:lnTo>
                    <a:pt x="362" y="390"/>
                  </a:lnTo>
                  <a:lnTo>
                    <a:pt x="358" y="382"/>
                  </a:lnTo>
                  <a:lnTo>
                    <a:pt x="350" y="374"/>
                  </a:lnTo>
                  <a:lnTo>
                    <a:pt x="350" y="374"/>
                  </a:lnTo>
                  <a:lnTo>
                    <a:pt x="340" y="366"/>
                  </a:lnTo>
                  <a:lnTo>
                    <a:pt x="328" y="360"/>
                  </a:lnTo>
                  <a:lnTo>
                    <a:pt x="310" y="352"/>
                  </a:lnTo>
                  <a:lnTo>
                    <a:pt x="288" y="346"/>
                  </a:lnTo>
                  <a:lnTo>
                    <a:pt x="288" y="346"/>
                  </a:lnTo>
                  <a:lnTo>
                    <a:pt x="208" y="320"/>
                  </a:lnTo>
                  <a:lnTo>
                    <a:pt x="154" y="300"/>
                  </a:lnTo>
                  <a:lnTo>
                    <a:pt x="154" y="300"/>
                  </a:lnTo>
                  <a:lnTo>
                    <a:pt x="136" y="292"/>
                  </a:lnTo>
                  <a:lnTo>
                    <a:pt x="120" y="284"/>
                  </a:lnTo>
                  <a:lnTo>
                    <a:pt x="108" y="274"/>
                  </a:lnTo>
                  <a:lnTo>
                    <a:pt x="96" y="264"/>
                  </a:lnTo>
                  <a:lnTo>
                    <a:pt x="96" y="264"/>
                  </a:lnTo>
                  <a:lnTo>
                    <a:pt x="86" y="254"/>
                  </a:lnTo>
                  <a:lnTo>
                    <a:pt x="78" y="244"/>
                  </a:lnTo>
                  <a:lnTo>
                    <a:pt x="70" y="232"/>
                  </a:lnTo>
                  <a:lnTo>
                    <a:pt x="64" y="218"/>
                  </a:lnTo>
                  <a:lnTo>
                    <a:pt x="64" y="218"/>
                  </a:lnTo>
                  <a:lnTo>
                    <a:pt x="58" y="206"/>
                  </a:lnTo>
                  <a:lnTo>
                    <a:pt x="56" y="192"/>
                  </a:lnTo>
                  <a:lnTo>
                    <a:pt x="54" y="178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4" y="144"/>
                  </a:lnTo>
                  <a:lnTo>
                    <a:pt x="58" y="124"/>
                  </a:lnTo>
                  <a:lnTo>
                    <a:pt x="66" y="10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92" y="66"/>
                  </a:lnTo>
                  <a:lnTo>
                    <a:pt x="108" y="50"/>
                  </a:lnTo>
                  <a:lnTo>
                    <a:pt x="128" y="36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78" y="14"/>
                  </a:lnTo>
                  <a:lnTo>
                    <a:pt x="206" y="6"/>
                  </a:lnTo>
                  <a:lnTo>
                    <a:pt x="234" y="2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88" y="2"/>
                  </a:lnTo>
                  <a:lnTo>
                    <a:pt x="312" y="4"/>
                  </a:lnTo>
                  <a:lnTo>
                    <a:pt x="334" y="10"/>
                  </a:lnTo>
                  <a:lnTo>
                    <a:pt x="354" y="16"/>
                  </a:lnTo>
                  <a:lnTo>
                    <a:pt x="354" y="16"/>
                  </a:lnTo>
                  <a:lnTo>
                    <a:pt x="370" y="22"/>
                  </a:lnTo>
                  <a:lnTo>
                    <a:pt x="384" y="28"/>
                  </a:lnTo>
                  <a:lnTo>
                    <a:pt x="400" y="38"/>
                  </a:lnTo>
                  <a:lnTo>
                    <a:pt x="414" y="48"/>
                  </a:lnTo>
                  <a:lnTo>
                    <a:pt x="438" y="10"/>
                  </a:lnTo>
                  <a:lnTo>
                    <a:pt x="494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0"/>
            <p:cNvSpPr/>
            <p:nvPr/>
          </p:nvSpPr>
          <p:spPr>
            <a:xfrm>
              <a:off x="2109600" y="1091880"/>
              <a:ext cx="1117440" cy="85104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704" h="536">
                  <a:moveTo>
                    <a:pt x="126" y="0"/>
                  </a:moveTo>
                  <a:lnTo>
                    <a:pt x="382" y="0"/>
                  </a:lnTo>
                  <a:lnTo>
                    <a:pt x="364" y="74"/>
                  </a:lnTo>
                  <a:lnTo>
                    <a:pt x="342" y="74"/>
                  </a:lnTo>
                  <a:lnTo>
                    <a:pt x="342" y="74"/>
                  </a:lnTo>
                  <a:lnTo>
                    <a:pt x="324" y="76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04" y="84"/>
                  </a:lnTo>
                  <a:lnTo>
                    <a:pt x="298" y="92"/>
                  </a:lnTo>
                  <a:lnTo>
                    <a:pt x="298" y="92"/>
                  </a:lnTo>
                  <a:lnTo>
                    <a:pt x="294" y="106"/>
                  </a:lnTo>
                  <a:lnTo>
                    <a:pt x="288" y="130"/>
                  </a:lnTo>
                  <a:lnTo>
                    <a:pt x="268" y="218"/>
                  </a:lnTo>
                  <a:lnTo>
                    <a:pt x="460" y="218"/>
                  </a:lnTo>
                  <a:lnTo>
                    <a:pt x="482" y="120"/>
                  </a:lnTo>
                  <a:lnTo>
                    <a:pt x="482" y="120"/>
                  </a:lnTo>
                  <a:lnTo>
                    <a:pt x="484" y="106"/>
                  </a:lnTo>
                  <a:lnTo>
                    <a:pt x="486" y="96"/>
                  </a:lnTo>
                  <a:lnTo>
                    <a:pt x="486" y="96"/>
                  </a:lnTo>
                  <a:lnTo>
                    <a:pt x="484" y="86"/>
                  </a:lnTo>
                  <a:lnTo>
                    <a:pt x="478" y="78"/>
                  </a:lnTo>
                  <a:lnTo>
                    <a:pt x="478" y="78"/>
                  </a:lnTo>
                  <a:lnTo>
                    <a:pt x="468" y="76"/>
                  </a:lnTo>
                  <a:lnTo>
                    <a:pt x="452" y="74"/>
                  </a:lnTo>
                  <a:lnTo>
                    <a:pt x="430" y="74"/>
                  </a:lnTo>
                  <a:lnTo>
                    <a:pt x="448" y="0"/>
                  </a:lnTo>
                  <a:lnTo>
                    <a:pt x="704" y="0"/>
                  </a:lnTo>
                  <a:lnTo>
                    <a:pt x="688" y="74"/>
                  </a:lnTo>
                  <a:lnTo>
                    <a:pt x="672" y="74"/>
                  </a:lnTo>
                  <a:lnTo>
                    <a:pt x="672" y="74"/>
                  </a:lnTo>
                  <a:lnTo>
                    <a:pt x="648" y="76"/>
                  </a:lnTo>
                  <a:lnTo>
                    <a:pt x="634" y="80"/>
                  </a:lnTo>
                  <a:lnTo>
                    <a:pt x="634" y="80"/>
                  </a:lnTo>
                  <a:lnTo>
                    <a:pt x="626" y="86"/>
                  </a:lnTo>
                  <a:lnTo>
                    <a:pt x="620" y="96"/>
                  </a:lnTo>
                  <a:lnTo>
                    <a:pt x="620" y="96"/>
                  </a:lnTo>
                  <a:lnTo>
                    <a:pt x="616" y="108"/>
                  </a:lnTo>
                  <a:lnTo>
                    <a:pt x="610" y="130"/>
                  </a:lnTo>
                  <a:lnTo>
                    <a:pt x="546" y="418"/>
                  </a:lnTo>
                  <a:lnTo>
                    <a:pt x="546" y="418"/>
                  </a:lnTo>
                  <a:lnTo>
                    <a:pt x="542" y="436"/>
                  </a:lnTo>
                  <a:lnTo>
                    <a:pt x="540" y="446"/>
                  </a:lnTo>
                  <a:lnTo>
                    <a:pt x="540" y="446"/>
                  </a:lnTo>
                  <a:lnTo>
                    <a:pt x="540" y="450"/>
                  </a:lnTo>
                  <a:lnTo>
                    <a:pt x="542" y="454"/>
                  </a:lnTo>
                  <a:lnTo>
                    <a:pt x="544" y="458"/>
                  </a:lnTo>
                  <a:lnTo>
                    <a:pt x="548" y="460"/>
                  </a:lnTo>
                  <a:lnTo>
                    <a:pt x="548" y="460"/>
                  </a:lnTo>
                  <a:lnTo>
                    <a:pt x="560" y="462"/>
                  </a:lnTo>
                  <a:lnTo>
                    <a:pt x="578" y="462"/>
                  </a:lnTo>
                  <a:lnTo>
                    <a:pt x="598" y="462"/>
                  </a:lnTo>
                  <a:lnTo>
                    <a:pt x="582" y="536"/>
                  </a:lnTo>
                  <a:lnTo>
                    <a:pt x="324" y="536"/>
                  </a:lnTo>
                  <a:lnTo>
                    <a:pt x="340" y="462"/>
                  </a:lnTo>
                  <a:lnTo>
                    <a:pt x="364" y="462"/>
                  </a:lnTo>
                  <a:lnTo>
                    <a:pt x="364" y="462"/>
                  </a:lnTo>
                  <a:lnTo>
                    <a:pt x="380" y="462"/>
                  </a:lnTo>
                  <a:lnTo>
                    <a:pt x="392" y="458"/>
                  </a:lnTo>
                  <a:lnTo>
                    <a:pt x="392" y="458"/>
                  </a:lnTo>
                  <a:lnTo>
                    <a:pt x="400" y="452"/>
                  </a:lnTo>
                  <a:lnTo>
                    <a:pt x="406" y="446"/>
                  </a:lnTo>
                  <a:lnTo>
                    <a:pt x="406" y="446"/>
                  </a:lnTo>
                  <a:lnTo>
                    <a:pt x="412" y="432"/>
                  </a:lnTo>
                  <a:lnTo>
                    <a:pt x="416" y="410"/>
                  </a:lnTo>
                  <a:lnTo>
                    <a:pt x="442" y="298"/>
                  </a:lnTo>
                  <a:lnTo>
                    <a:pt x="250" y="298"/>
                  </a:lnTo>
                  <a:lnTo>
                    <a:pt x="220" y="424"/>
                  </a:lnTo>
                  <a:lnTo>
                    <a:pt x="220" y="424"/>
                  </a:lnTo>
                  <a:lnTo>
                    <a:pt x="216" y="446"/>
                  </a:lnTo>
                  <a:lnTo>
                    <a:pt x="216" y="446"/>
                  </a:lnTo>
                  <a:lnTo>
                    <a:pt x="218" y="450"/>
                  </a:lnTo>
                  <a:lnTo>
                    <a:pt x="220" y="454"/>
                  </a:lnTo>
                  <a:lnTo>
                    <a:pt x="228" y="460"/>
                  </a:lnTo>
                  <a:lnTo>
                    <a:pt x="228" y="460"/>
                  </a:lnTo>
                  <a:lnTo>
                    <a:pt x="238" y="462"/>
                  </a:lnTo>
                  <a:lnTo>
                    <a:pt x="258" y="462"/>
                  </a:lnTo>
                  <a:lnTo>
                    <a:pt x="272" y="462"/>
                  </a:lnTo>
                  <a:lnTo>
                    <a:pt x="256" y="536"/>
                  </a:lnTo>
                  <a:lnTo>
                    <a:pt x="0" y="536"/>
                  </a:lnTo>
                  <a:lnTo>
                    <a:pt x="18" y="462"/>
                  </a:lnTo>
                  <a:lnTo>
                    <a:pt x="34" y="462"/>
                  </a:lnTo>
                  <a:lnTo>
                    <a:pt x="34" y="462"/>
                  </a:lnTo>
                  <a:lnTo>
                    <a:pt x="54" y="462"/>
                  </a:lnTo>
                  <a:lnTo>
                    <a:pt x="70" y="458"/>
                  </a:lnTo>
                  <a:lnTo>
                    <a:pt x="70" y="458"/>
                  </a:lnTo>
                  <a:lnTo>
                    <a:pt x="78" y="454"/>
                  </a:lnTo>
                  <a:lnTo>
                    <a:pt x="84" y="448"/>
                  </a:lnTo>
                  <a:lnTo>
                    <a:pt x="84" y="448"/>
                  </a:lnTo>
                  <a:lnTo>
                    <a:pt x="88" y="436"/>
                  </a:lnTo>
                  <a:lnTo>
                    <a:pt x="94" y="414"/>
                  </a:lnTo>
                  <a:lnTo>
                    <a:pt x="160" y="120"/>
                  </a:lnTo>
                  <a:lnTo>
                    <a:pt x="160" y="120"/>
                  </a:lnTo>
                  <a:lnTo>
                    <a:pt x="164" y="96"/>
                  </a:lnTo>
                  <a:lnTo>
                    <a:pt x="164" y="96"/>
                  </a:lnTo>
                  <a:lnTo>
                    <a:pt x="162" y="86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52" y="76"/>
                  </a:lnTo>
                  <a:lnTo>
                    <a:pt x="146" y="76"/>
                  </a:lnTo>
                  <a:lnTo>
                    <a:pt x="126" y="74"/>
                  </a:lnTo>
                  <a:lnTo>
                    <a:pt x="108" y="7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1"/>
            <p:cNvSpPr/>
            <p:nvPr/>
          </p:nvSpPr>
          <p:spPr>
            <a:xfrm>
              <a:off x="3205080" y="1076040"/>
              <a:ext cx="895320" cy="88272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64" h="556">
                  <a:moveTo>
                    <a:pt x="316" y="0"/>
                  </a:moveTo>
                  <a:lnTo>
                    <a:pt x="316" y="0"/>
                  </a:lnTo>
                  <a:lnTo>
                    <a:pt x="350" y="2"/>
                  </a:lnTo>
                  <a:lnTo>
                    <a:pt x="384" y="8"/>
                  </a:lnTo>
                  <a:lnTo>
                    <a:pt x="414" y="18"/>
                  </a:lnTo>
                  <a:lnTo>
                    <a:pt x="444" y="34"/>
                  </a:lnTo>
                  <a:lnTo>
                    <a:pt x="444" y="34"/>
                  </a:lnTo>
                  <a:lnTo>
                    <a:pt x="470" y="50"/>
                  </a:lnTo>
                  <a:lnTo>
                    <a:pt x="494" y="72"/>
                  </a:lnTo>
                  <a:lnTo>
                    <a:pt x="516" y="94"/>
                  </a:lnTo>
                  <a:lnTo>
                    <a:pt x="532" y="120"/>
                  </a:lnTo>
                  <a:lnTo>
                    <a:pt x="532" y="120"/>
                  </a:lnTo>
                  <a:lnTo>
                    <a:pt x="546" y="148"/>
                  </a:lnTo>
                  <a:lnTo>
                    <a:pt x="556" y="178"/>
                  </a:lnTo>
                  <a:lnTo>
                    <a:pt x="562" y="210"/>
                  </a:lnTo>
                  <a:lnTo>
                    <a:pt x="564" y="244"/>
                  </a:lnTo>
                  <a:lnTo>
                    <a:pt x="564" y="244"/>
                  </a:lnTo>
                  <a:lnTo>
                    <a:pt x="564" y="266"/>
                  </a:lnTo>
                  <a:lnTo>
                    <a:pt x="562" y="286"/>
                  </a:lnTo>
                  <a:lnTo>
                    <a:pt x="558" y="306"/>
                  </a:lnTo>
                  <a:lnTo>
                    <a:pt x="554" y="326"/>
                  </a:lnTo>
                  <a:lnTo>
                    <a:pt x="548" y="344"/>
                  </a:lnTo>
                  <a:lnTo>
                    <a:pt x="540" y="364"/>
                  </a:lnTo>
                  <a:lnTo>
                    <a:pt x="532" y="382"/>
                  </a:lnTo>
                  <a:lnTo>
                    <a:pt x="522" y="402"/>
                  </a:lnTo>
                  <a:lnTo>
                    <a:pt x="522" y="402"/>
                  </a:lnTo>
                  <a:lnTo>
                    <a:pt x="512" y="418"/>
                  </a:lnTo>
                  <a:lnTo>
                    <a:pt x="500" y="436"/>
                  </a:lnTo>
                  <a:lnTo>
                    <a:pt x="488" y="452"/>
                  </a:lnTo>
                  <a:lnTo>
                    <a:pt x="474" y="466"/>
                  </a:lnTo>
                  <a:lnTo>
                    <a:pt x="458" y="480"/>
                  </a:lnTo>
                  <a:lnTo>
                    <a:pt x="444" y="492"/>
                  </a:lnTo>
                  <a:lnTo>
                    <a:pt x="426" y="504"/>
                  </a:lnTo>
                  <a:lnTo>
                    <a:pt x="410" y="516"/>
                  </a:lnTo>
                  <a:lnTo>
                    <a:pt x="410" y="516"/>
                  </a:lnTo>
                  <a:lnTo>
                    <a:pt x="392" y="524"/>
                  </a:lnTo>
                  <a:lnTo>
                    <a:pt x="372" y="532"/>
                  </a:lnTo>
                  <a:lnTo>
                    <a:pt x="354" y="540"/>
                  </a:lnTo>
                  <a:lnTo>
                    <a:pt x="334" y="546"/>
                  </a:lnTo>
                  <a:lnTo>
                    <a:pt x="314" y="550"/>
                  </a:lnTo>
                  <a:lnTo>
                    <a:pt x="294" y="554"/>
                  </a:lnTo>
                  <a:lnTo>
                    <a:pt x="272" y="556"/>
                  </a:lnTo>
                  <a:lnTo>
                    <a:pt x="250" y="556"/>
                  </a:lnTo>
                  <a:lnTo>
                    <a:pt x="250" y="556"/>
                  </a:lnTo>
                  <a:lnTo>
                    <a:pt x="220" y="554"/>
                  </a:lnTo>
                  <a:lnTo>
                    <a:pt x="192" y="550"/>
                  </a:lnTo>
                  <a:lnTo>
                    <a:pt x="166" y="544"/>
                  </a:lnTo>
                  <a:lnTo>
                    <a:pt x="140" y="534"/>
                  </a:lnTo>
                  <a:lnTo>
                    <a:pt x="118" y="524"/>
                  </a:lnTo>
                  <a:lnTo>
                    <a:pt x="96" y="508"/>
                  </a:lnTo>
                  <a:lnTo>
                    <a:pt x="76" y="492"/>
                  </a:lnTo>
                  <a:lnTo>
                    <a:pt x="56" y="472"/>
                  </a:lnTo>
                  <a:lnTo>
                    <a:pt x="56" y="472"/>
                  </a:lnTo>
                  <a:lnTo>
                    <a:pt x="44" y="454"/>
                  </a:lnTo>
                  <a:lnTo>
                    <a:pt x="32" y="436"/>
                  </a:lnTo>
                  <a:lnTo>
                    <a:pt x="22" y="418"/>
                  </a:lnTo>
                  <a:lnTo>
                    <a:pt x="14" y="398"/>
                  </a:lnTo>
                  <a:lnTo>
                    <a:pt x="8" y="378"/>
                  </a:lnTo>
                  <a:lnTo>
                    <a:pt x="4" y="356"/>
                  </a:lnTo>
                  <a:lnTo>
                    <a:pt x="2" y="334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290"/>
                  </a:lnTo>
                  <a:lnTo>
                    <a:pt x="2" y="270"/>
                  </a:lnTo>
                  <a:lnTo>
                    <a:pt x="6" y="250"/>
                  </a:lnTo>
                  <a:lnTo>
                    <a:pt x="10" y="232"/>
                  </a:lnTo>
                  <a:lnTo>
                    <a:pt x="16" y="212"/>
                  </a:lnTo>
                  <a:lnTo>
                    <a:pt x="24" y="192"/>
                  </a:lnTo>
                  <a:lnTo>
                    <a:pt x="32" y="174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54" y="138"/>
                  </a:lnTo>
                  <a:lnTo>
                    <a:pt x="66" y="120"/>
                  </a:lnTo>
                  <a:lnTo>
                    <a:pt x="78" y="104"/>
                  </a:lnTo>
                  <a:lnTo>
                    <a:pt x="92" y="90"/>
                  </a:lnTo>
                  <a:lnTo>
                    <a:pt x="106" y="76"/>
                  </a:lnTo>
                  <a:lnTo>
                    <a:pt x="122" y="64"/>
                  </a:lnTo>
                  <a:lnTo>
                    <a:pt x="138" y="5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74" y="32"/>
                  </a:lnTo>
                  <a:lnTo>
                    <a:pt x="192" y="24"/>
                  </a:lnTo>
                  <a:lnTo>
                    <a:pt x="212" y="16"/>
                  </a:lnTo>
                  <a:lnTo>
                    <a:pt x="232" y="10"/>
                  </a:lnTo>
                  <a:lnTo>
                    <a:pt x="252" y="6"/>
                  </a:lnTo>
                  <a:lnTo>
                    <a:pt x="274" y="4"/>
                  </a:lnTo>
                  <a:lnTo>
                    <a:pt x="294" y="2"/>
                  </a:lnTo>
                  <a:lnTo>
                    <a:pt x="316" y="0"/>
                  </a:lnTo>
                  <a:lnTo>
                    <a:pt x="316" y="0"/>
                  </a:lnTo>
                  <a:close/>
                  <a:moveTo>
                    <a:pt x="310" y="82"/>
                  </a:moveTo>
                  <a:lnTo>
                    <a:pt x="310" y="82"/>
                  </a:lnTo>
                  <a:lnTo>
                    <a:pt x="290" y="84"/>
                  </a:lnTo>
                  <a:lnTo>
                    <a:pt x="270" y="90"/>
                  </a:lnTo>
                  <a:lnTo>
                    <a:pt x="252" y="9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16" y="124"/>
                  </a:lnTo>
                  <a:lnTo>
                    <a:pt x="200" y="144"/>
                  </a:lnTo>
                  <a:lnTo>
                    <a:pt x="186" y="168"/>
                  </a:lnTo>
                  <a:lnTo>
                    <a:pt x="172" y="198"/>
                  </a:lnTo>
                  <a:lnTo>
                    <a:pt x="172" y="198"/>
                  </a:lnTo>
                  <a:lnTo>
                    <a:pt x="160" y="230"/>
                  </a:lnTo>
                  <a:lnTo>
                    <a:pt x="152" y="262"/>
                  </a:lnTo>
                  <a:lnTo>
                    <a:pt x="146" y="296"/>
                  </a:lnTo>
                  <a:lnTo>
                    <a:pt x="144" y="330"/>
                  </a:lnTo>
                  <a:lnTo>
                    <a:pt x="144" y="330"/>
                  </a:lnTo>
                  <a:lnTo>
                    <a:pt x="146" y="352"/>
                  </a:lnTo>
                  <a:lnTo>
                    <a:pt x="148" y="372"/>
                  </a:lnTo>
                  <a:lnTo>
                    <a:pt x="154" y="392"/>
                  </a:lnTo>
                  <a:lnTo>
                    <a:pt x="160" y="410"/>
                  </a:lnTo>
                  <a:lnTo>
                    <a:pt x="160" y="410"/>
                  </a:lnTo>
                  <a:lnTo>
                    <a:pt x="168" y="424"/>
                  </a:lnTo>
                  <a:lnTo>
                    <a:pt x="176" y="438"/>
                  </a:lnTo>
                  <a:lnTo>
                    <a:pt x="186" y="450"/>
                  </a:lnTo>
                  <a:lnTo>
                    <a:pt x="198" y="458"/>
                  </a:lnTo>
                  <a:lnTo>
                    <a:pt x="198" y="458"/>
                  </a:lnTo>
                  <a:lnTo>
                    <a:pt x="210" y="464"/>
                  </a:lnTo>
                  <a:lnTo>
                    <a:pt x="224" y="470"/>
                  </a:lnTo>
                  <a:lnTo>
                    <a:pt x="240" y="472"/>
                  </a:lnTo>
                  <a:lnTo>
                    <a:pt x="256" y="474"/>
                  </a:lnTo>
                  <a:lnTo>
                    <a:pt x="256" y="474"/>
                  </a:lnTo>
                  <a:lnTo>
                    <a:pt x="276" y="472"/>
                  </a:lnTo>
                  <a:lnTo>
                    <a:pt x="296" y="466"/>
                  </a:lnTo>
                  <a:lnTo>
                    <a:pt x="316" y="460"/>
                  </a:lnTo>
                  <a:lnTo>
                    <a:pt x="332" y="448"/>
                  </a:lnTo>
                  <a:lnTo>
                    <a:pt x="332" y="448"/>
                  </a:lnTo>
                  <a:lnTo>
                    <a:pt x="348" y="434"/>
                  </a:lnTo>
                  <a:lnTo>
                    <a:pt x="364" y="412"/>
                  </a:lnTo>
                  <a:lnTo>
                    <a:pt x="378" y="388"/>
                  </a:lnTo>
                  <a:lnTo>
                    <a:pt x="392" y="356"/>
                  </a:lnTo>
                  <a:lnTo>
                    <a:pt x="392" y="356"/>
                  </a:lnTo>
                  <a:lnTo>
                    <a:pt x="404" y="324"/>
                  </a:lnTo>
                  <a:lnTo>
                    <a:pt x="412" y="290"/>
                  </a:lnTo>
                  <a:lnTo>
                    <a:pt x="416" y="254"/>
                  </a:lnTo>
                  <a:lnTo>
                    <a:pt x="418" y="218"/>
                  </a:lnTo>
                  <a:lnTo>
                    <a:pt x="418" y="218"/>
                  </a:lnTo>
                  <a:lnTo>
                    <a:pt x="418" y="200"/>
                  </a:lnTo>
                  <a:lnTo>
                    <a:pt x="414" y="180"/>
                  </a:lnTo>
                  <a:lnTo>
                    <a:pt x="410" y="162"/>
                  </a:lnTo>
                  <a:lnTo>
                    <a:pt x="404" y="146"/>
                  </a:lnTo>
                  <a:lnTo>
                    <a:pt x="404" y="146"/>
                  </a:lnTo>
                  <a:lnTo>
                    <a:pt x="396" y="130"/>
                  </a:lnTo>
                  <a:lnTo>
                    <a:pt x="386" y="118"/>
                  </a:lnTo>
                  <a:lnTo>
                    <a:pt x="376" y="106"/>
                  </a:lnTo>
                  <a:lnTo>
                    <a:pt x="366" y="98"/>
                  </a:lnTo>
                  <a:lnTo>
                    <a:pt x="366" y="98"/>
                  </a:lnTo>
                  <a:lnTo>
                    <a:pt x="352" y="92"/>
                  </a:lnTo>
                  <a:lnTo>
                    <a:pt x="340" y="86"/>
                  </a:lnTo>
                  <a:lnTo>
                    <a:pt x="326" y="84"/>
                  </a:lnTo>
                  <a:lnTo>
                    <a:pt x="310" y="82"/>
                  </a:lnTo>
                  <a:lnTo>
                    <a:pt x="310" y="82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2"/>
            <p:cNvSpPr/>
            <p:nvPr/>
          </p:nvSpPr>
          <p:spPr>
            <a:xfrm>
              <a:off x="4062240" y="1091880"/>
              <a:ext cx="961920" cy="851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606" h="536">
                  <a:moveTo>
                    <a:pt x="106" y="74"/>
                  </a:moveTo>
                  <a:lnTo>
                    <a:pt x="122" y="0"/>
                  </a:lnTo>
                  <a:lnTo>
                    <a:pt x="554" y="0"/>
                  </a:lnTo>
                  <a:lnTo>
                    <a:pt x="606" y="162"/>
                  </a:lnTo>
                  <a:lnTo>
                    <a:pt x="530" y="184"/>
                  </a:lnTo>
                  <a:lnTo>
                    <a:pt x="530" y="184"/>
                  </a:lnTo>
                  <a:lnTo>
                    <a:pt x="520" y="160"/>
                  </a:lnTo>
                  <a:lnTo>
                    <a:pt x="510" y="140"/>
                  </a:lnTo>
                  <a:lnTo>
                    <a:pt x="510" y="140"/>
                  </a:lnTo>
                  <a:lnTo>
                    <a:pt x="500" y="130"/>
                  </a:lnTo>
                  <a:lnTo>
                    <a:pt x="492" y="120"/>
                  </a:lnTo>
                  <a:lnTo>
                    <a:pt x="482" y="112"/>
                  </a:lnTo>
                  <a:lnTo>
                    <a:pt x="472" y="106"/>
                  </a:lnTo>
                  <a:lnTo>
                    <a:pt x="472" y="106"/>
                  </a:lnTo>
                  <a:lnTo>
                    <a:pt x="450" y="96"/>
                  </a:lnTo>
                  <a:lnTo>
                    <a:pt x="426" y="88"/>
                  </a:lnTo>
                  <a:lnTo>
                    <a:pt x="426" y="88"/>
                  </a:lnTo>
                  <a:lnTo>
                    <a:pt x="402" y="86"/>
                  </a:lnTo>
                  <a:lnTo>
                    <a:pt x="372" y="84"/>
                  </a:lnTo>
                  <a:lnTo>
                    <a:pt x="296" y="84"/>
                  </a:lnTo>
                  <a:lnTo>
                    <a:pt x="264" y="222"/>
                  </a:lnTo>
                  <a:lnTo>
                    <a:pt x="282" y="222"/>
                  </a:lnTo>
                  <a:lnTo>
                    <a:pt x="282" y="222"/>
                  </a:lnTo>
                  <a:lnTo>
                    <a:pt x="310" y="220"/>
                  </a:lnTo>
                  <a:lnTo>
                    <a:pt x="328" y="218"/>
                  </a:lnTo>
                  <a:lnTo>
                    <a:pt x="328" y="218"/>
                  </a:lnTo>
                  <a:lnTo>
                    <a:pt x="344" y="212"/>
                  </a:lnTo>
                  <a:lnTo>
                    <a:pt x="354" y="204"/>
                  </a:lnTo>
                  <a:lnTo>
                    <a:pt x="354" y="204"/>
                  </a:lnTo>
                  <a:lnTo>
                    <a:pt x="362" y="192"/>
                  </a:lnTo>
                  <a:lnTo>
                    <a:pt x="370" y="176"/>
                  </a:lnTo>
                  <a:lnTo>
                    <a:pt x="370" y="176"/>
                  </a:lnTo>
                  <a:lnTo>
                    <a:pt x="374" y="164"/>
                  </a:lnTo>
                  <a:lnTo>
                    <a:pt x="378" y="144"/>
                  </a:lnTo>
                  <a:lnTo>
                    <a:pt x="450" y="144"/>
                  </a:lnTo>
                  <a:lnTo>
                    <a:pt x="398" y="372"/>
                  </a:lnTo>
                  <a:lnTo>
                    <a:pt x="326" y="372"/>
                  </a:lnTo>
                  <a:lnTo>
                    <a:pt x="326" y="372"/>
                  </a:lnTo>
                  <a:lnTo>
                    <a:pt x="332" y="344"/>
                  </a:lnTo>
                  <a:lnTo>
                    <a:pt x="334" y="328"/>
                  </a:lnTo>
                  <a:lnTo>
                    <a:pt x="334" y="328"/>
                  </a:lnTo>
                  <a:lnTo>
                    <a:pt x="334" y="320"/>
                  </a:lnTo>
                  <a:lnTo>
                    <a:pt x="330" y="312"/>
                  </a:lnTo>
                  <a:lnTo>
                    <a:pt x="326" y="306"/>
                  </a:lnTo>
                  <a:lnTo>
                    <a:pt x="320" y="300"/>
                  </a:lnTo>
                  <a:lnTo>
                    <a:pt x="320" y="300"/>
                  </a:lnTo>
                  <a:lnTo>
                    <a:pt x="312" y="298"/>
                  </a:lnTo>
                  <a:lnTo>
                    <a:pt x="302" y="296"/>
                  </a:lnTo>
                  <a:lnTo>
                    <a:pt x="272" y="294"/>
                  </a:lnTo>
                  <a:lnTo>
                    <a:pt x="248" y="294"/>
                  </a:lnTo>
                  <a:lnTo>
                    <a:pt x="220" y="420"/>
                  </a:lnTo>
                  <a:lnTo>
                    <a:pt x="218" y="432"/>
                  </a:lnTo>
                  <a:lnTo>
                    <a:pt x="218" y="432"/>
                  </a:lnTo>
                  <a:lnTo>
                    <a:pt x="216" y="444"/>
                  </a:lnTo>
                  <a:lnTo>
                    <a:pt x="216" y="444"/>
                  </a:lnTo>
                  <a:lnTo>
                    <a:pt x="218" y="448"/>
                  </a:lnTo>
                  <a:lnTo>
                    <a:pt x="222" y="452"/>
                  </a:lnTo>
                  <a:lnTo>
                    <a:pt x="222" y="452"/>
                  </a:lnTo>
                  <a:lnTo>
                    <a:pt x="248" y="452"/>
                  </a:lnTo>
                  <a:lnTo>
                    <a:pt x="292" y="452"/>
                  </a:lnTo>
                  <a:lnTo>
                    <a:pt x="292" y="452"/>
                  </a:lnTo>
                  <a:lnTo>
                    <a:pt x="320" y="452"/>
                  </a:lnTo>
                  <a:lnTo>
                    <a:pt x="344" y="450"/>
                  </a:lnTo>
                  <a:lnTo>
                    <a:pt x="366" y="446"/>
                  </a:lnTo>
                  <a:lnTo>
                    <a:pt x="384" y="442"/>
                  </a:lnTo>
                  <a:lnTo>
                    <a:pt x="384" y="442"/>
                  </a:lnTo>
                  <a:lnTo>
                    <a:pt x="406" y="434"/>
                  </a:lnTo>
                  <a:lnTo>
                    <a:pt x="426" y="422"/>
                  </a:lnTo>
                  <a:lnTo>
                    <a:pt x="446" y="410"/>
                  </a:lnTo>
                  <a:lnTo>
                    <a:pt x="462" y="394"/>
                  </a:lnTo>
                  <a:lnTo>
                    <a:pt x="462" y="394"/>
                  </a:lnTo>
                  <a:lnTo>
                    <a:pt x="478" y="376"/>
                  </a:lnTo>
                  <a:lnTo>
                    <a:pt x="492" y="358"/>
                  </a:lnTo>
                  <a:lnTo>
                    <a:pt x="506" y="336"/>
                  </a:lnTo>
                  <a:lnTo>
                    <a:pt x="516" y="314"/>
                  </a:lnTo>
                  <a:lnTo>
                    <a:pt x="590" y="344"/>
                  </a:lnTo>
                  <a:lnTo>
                    <a:pt x="488" y="536"/>
                  </a:lnTo>
                  <a:lnTo>
                    <a:pt x="0" y="536"/>
                  </a:lnTo>
                  <a:lnTo>
                    <a:pt x="16" y="462"/>
                  </a:lnTo>
                  <a:lnTo>
                    <a:pt x="36" y="462"/>
                  </a:lnTo>
                  <a:lnTo>
                    <a:pt x="36" y="462"/>
                  </a:lnTo>
                  <a:lnTo>
                    <a:pt x="48" y="462"/>
                  </a:lnTo>
                  <a:lnTo>
                    <a:pt x="60" y="460"/>
                  </a:lnTo>
                  <a:lnTo>
                    <a:pt x="68" y="458"/>
                  </a:lnTo>
                  <a:lnTo>
                    <a:pt x="74" y="454"/>
                  </a:lnTo>
                  <a:lnTo>
                    <a:pt x="74" y="454"/>
                  </a:lnTo>
                  <a:lnTo>
                    <a:pt x="80" y="446"/>
                  </a:lnTo>
                  <a:lnTo>
                    <a:pt x="84" y="438"/>
                  </a:lnTo>
                  <a:lnTo>
                    <a:pt x="88" y="426"/>
                  </a:lnTo>
                  <a:lnTo>
                    <a:pt x="92" y="410"/>
                  </a:lnTo>
                  <a:lnTo>
                    <a:pt x="158" y="122"/>
                  </a:lnTo>
                  <a:lnTo>
                    <a:pt x="158" y="122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0" y="90"/>
                  </a:lnTo>
                  <a:lnTo>
                    <a:pt x="158" y="84"/>
                  </a:lnTo>
                  <a:lnTo>
                    <a:pt x="158" y="84"/>
                  </a:lnTo>
                  <a:lnTo>
                    <a:pt x="154" y="80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42" y="74"/>
                  </a:lnTo>
                  <a:lnTo>
                    <a:pt x="130" y="74"/>
                  </a:lnTo>
                  <a:lnTo>
                    <a:pt x="106" y="74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3"/>
            <p:cNvSpPr/>
            <p:nvPr/>
          </p:nvSpPr>
          <p:spPr>
            <a:xfrm>
              <a:off x="5056200" y="1076040"/>
              <a:ext cx="806400" cy="8827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08" h="556">
                  <a:moveTo>
                    <a:pt x="494" y="10"/>
                  </a:moveTo>
                  <a:lnTo>
                    <a:pt x="508" y="196"/>
                  </a:lnTo>
                  <a:lnTo>
                    <a:pt x="430" y="208"/>
                  </a:lnTo>
                  <a:lnTo>
                    <a:pt x="430" y="208"/>
                  </a:lnTo>
                  <a:lnTo>
                    <a:pt x="418" y="182"/>
                  </a:lnTo>
                  <a:lnTo>
                    <a:pt x="404" y="158"/>
                  </a:lnTo>
                  <a:lnTo>
                    <a:pt x="386" y="136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40" y="104"/>
                  </a:lnTo>
                  <a:lnTo>
                    <a:pt x="316" y="92"/>
                  </a:lnTo>
                  <a:lnTo>
                    <a:pt x="290" y="86"/>
                  </a:lnTo>
                  <a:lnTo>
                    <a:pt x="262" y="84"/>
                  </a:lnTo>
                  <a:lnTo>
                    <a:pt x="262" y="84"/>
                  </a:lnTo>
                  <a:lnTo>
                    <a:pt x="236" y="86"/>
                  </a:lnTo>
                  <a:lnTo>
                    <a:pt x="224" y="88"/>
                  </a:lnTo>
                  <a:lnTo>
                    <a:pt x="214" y="92"/>
                  </a:lnTo>
                  <a:lnTo>
                    <a:pt x="214" y="92"/>
                  </a:lnTo>
                  <a:lnTo>
                    <a:pt x="204" y="96"/>
                  </a:lnTo>
                  <a:lnTo>
                    <a:pt x="196" y="102"/>
                  </a:lnTo>
                  <a:lnTo>
                    <a:pt x="188" y="108"/>
                  </a:lnTo>
                  <a:lnTo>
                    <a:pt x="182" y="114"/>
                  </a:lnTo>
                  <a:lnTo>
                    <a:pt x="182" y="114"/>
                  </a:lnTo>
                  <a:lnTo>
                    <a:pt x="176" y="128"/>
                  </a:lnTo>
                  <a:lnTo>
                    <a:pt x="174" y="134"/>
                  </a:lnTo>
                  <a:lnTo>
                    <a:pt x="172" y="140"/>
                  </a:lnTo>
                  <a:lnTo>
                    <a:pt x="172" y="140"/>
                  </a:lnTo>
                  <a:lnTo>
                    <a:pt x="174" y="150"/>
                  </a:lnTo>
                  <a:lnTo>
                    <a:pt x="178" y="158"/>
                  </a:lnTo>
                  <a:lnTo>
                    <a:pt x="182" y="166"/>
                  </a:lnTo>
                  <a:lnTo>
                    <a:pt x="190" y="176"/>
                  </a:lnTo>
                  <a:lnTo>
                    <a:pt x="190" y="176"/>
                  </a:lnTo>
                  <a:lnTo>
                    <a:pt x="202" y="182"/>
                  </a:lnTo>
                  <a:lnTo>
                    <a:pt x="218" y="190"/>
                  </a:lnTo>
                  <a:lnTo>
                    <a:pt x="238" y="198"/>
                  </a:lnTo>
                  <a:lnTo>
                    <a:pt x="264" y="206"/>
                  </a:lnTo>
                  <a:lnTo>
                    <a:pt x="264" y="206"/>
                  </a:lnTo>
                  <a:lnTo>
                    <a:pt x="306" y="218"/>
                  </a:lnTo>
                  <a:lnTo>
                    <a:pt x="344" y="230"/>
                  </a:lnTo>
                  <a:lnTo>
                    <a:pt x="376" y="242"/>
                  </a:lnTo>
                  <a:lnTo>
                    <a:pt x="400" y="254"/>
                  </a:lnTo>
                  <a:lnTo>
                    <a:pt x="400" y="254"/>
                  </a:lnTo>
                  <a:lnTo>
                    <a:pt x="420" y="264"/>
                  </a:lnTo>
                  <a:lnTo>
                    <a:pt x="438" y="278"/>
                  </a:lnTo>
                  <a:lnTo>
                    <a:pt x="452" y="292"/>
                  </a:lnTo>
                  <a:lnTo>
                    <a:pt x="466" y="306"/>
                  </a:lnTo>
                  <a:lnTo>
                    <a:pt x="466" y="306"/>
                  </a:lnTo>
                  <a:lnTo>
                    <a:pt x="476" y="322"/>
                  </a:lnTo>
                  <a:lnTo>
                    <a:pt x="482" y="340"/>
                  </a:lnTo>
                  <a:lnTo>
                    <a:pt x="486" y="360"/>
                  </a:lnTo>
                  <a:lnTo>
                    <a:pt x="488" y="380"/>
                  </a:lnTo>
                  <a:lnTo>
                    <a:pt x="488" y="380"/>
                  </a:lnTo>
                  <a:lnTo>
                    <a:pt x="486" y="400"/>
                  </a:lnTo>
                  <a:lnTo>
                    <a:pt x="484" y="416"/>
                  </a:lnTo>
                  <a:lnTo>
                    <a:pt x="478" y="434"/>
                  </a:lnTo>
                  <a:lnTo>
                    <a:pt x="472" y="450"/>
                  </a:lnTo>
                  <a:lnTo>
                    <a:pt x="462" y="466"/>
                  </a:lnTo>
                  <a:lnTo>
                    <a:pt x="450" y="480"/>
                  </a:lnTo>
                  <a:lnTo>
                    <a:pt x="436" y="494"/>
                  </a:lnTo>
                  <a:lnTo>
                    <a:pt x="422" y="508"/>
                  </a:lnTo>
                  <a:lnTo>
                    <a:pt x="422" y="508"/>
                  </a:lnTo>
                  <a:lnTo>
                    <a:pt x="406" y="518"/>
                  </a:lnTo>
                  <a:lnTo>
                    <a:pt x="388" y="528"/>
                  </a:lnTo>
                  <a:lnTo>
                    <a:pt x="372" y="538"/>
                  </a:lnTo>
                  <a:lnTo>
                    <a:pt x="352" y="544"/>
                  </a:lnTo>
                  <a:lnTo>
                    <a:pt x="332" y="550"/>
                  </a:lnTo>
                  <a:lnTo>
                    <a:pt x="312" y="552"/>
                  </a:lnTo>
                  <a:lnTo>
                    <a:pt x="290" y="556"/>
                  </a:lnTo>
                  <a:lnTo>
                    <a:pt x="268" y="556"/>
                  </a:lnTo>
                  <a:lnTo>
                    <a:pt x="268" y="556"/>
                  </a:lnTo>
                  <a:lnTo>
                    <a:pt x="240" y="554"/>
                  </a:lnTo>
                  <a:lnTo>
                    <a:pt x="216" y="552"/>
                  </a:lnTo>
                  <a:lnTo>
                    <a:pt x="192" y="548"/>
                  </a:lnTo>
                  <a:lnTo>
                    <a:pt x="170" y="540"/>
                  </a:lnTo>
                  <a:lnTo>
                    <a:pt x="170" y="540"/>
                  </a:lnTo>
                  <a:lnTo>
                    <a:pt x="148" y="532"/>
                  </a:lnTo>
                  <a:lnTo>
                    <a:pt x="128" y="522"/>
                  </a:lnTo>
                  <a:lnTo>
                    <a:pt x="108" y="508"/>
                  </a:lnTo>
                  <a:lnTo>
                    <a:pt x="88" y="494"/>
                  </a:lnTo>
                  <a:lnTo>
                    <a:pt x="56" y="546"/>
                  </a:lnTo>
                  <a:lnTo>
                    <a:pt x="0" y="546"/>
                  </a:lnTo>
                  <a:lnTo>
                    <a:pt x="0" y="33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86" y="346"/>
                  </a:lnTo>
                  <a:lnTo>
                    <a:pt x="96" y="364"/>
                  </a:lnTo>
                  <a:lnTo>
                    <a:pt x="108" y="384"/>
                  </a:lnTo>
                  <a:lnTo>
                    <a:pt x="122" y="400"/>
                  </a:lnTo>
                  <a:lnTo>
                    <a:pt x="122" y="400"/>
                  </a:lnTo>
                  <a:lnTo>
                    <a:pt x="138" y="418"/>
                  </a:lnTo>
                  <a:lnTo>
                    <a:pt x="154" y="432"/>
                  </a:lnTo>
                  <a:lnTo>
                    <a:pt x="172" y="444"/>
                  </a:lnTo>
                  <a:lnTo>
                    <a:pt x="192" y="454"/>
                  </a:lnTo>
                  <a:lnTo>
                    <a:pt x="192" y="454"/>
                  </a:lnTo>
                  <a:lnTo>
                    <a:pt x="210" y="462"/>
                  </a:lnTo>
                  <a:lnTo>
                    <a:pt x="230" y="468"/>
                  </a:lnTo>
                  <a:lnTo>
                    <a:pt x="250" y="470"/>
                  </a:lnTo>
                  <a:lnTo>
                    <a:pt x="270" y="472"/>
                  </a:lnTo>
                  <a:lnTo>
                    <a:pt x="270" y="472"/>
                  </a:lnTo>
                  <a:lnTo>
                    <a:pt x="292" y="470"/>
                  </a:lnTo>
                  <a:lnTo>
                    <a:pt x="310" y="468"/>
                  </a:lnTo>
                  <a:lnTo>
                    <a:pt x="326" y="462"/>
                  </a:lnTo>
                  <a:lnTo>
                    <a:pt x="340" y="454"/>
                  </a:lnTo>
                  <a:lnTo>
                    <a:pt x="340" y="454"/>
                  </a:lnTo>
                  <a:lnTo>
                    <a:pt x="352" y="444"/>
                  </a:lnTo>
                  <a:lnTo>
                    <a:pt x="358" y="434"/>
                  </a:lnTo>
                  <a:lnTo>
                    <a:pt x="364" y="422"/>
                  </a:lnTo>
                  <a:lnTo>
                    <a:pt x="364" y="408"/>
                  </a:lnTo>
                  <a:lnTo>
                    <a:pt x="364" y="408"/>
                  </a:lnTo>
                  <a:lnTo>
                    <a:pt x="364" y="400"/>
                  </a:lnTo>
                  <a:lnTo>
                    <a:pt x="362" y="390"/>
                  </a:lnTo>
                  <a:lnTo>
                    <a:pt x="356" y="382"/>
                  </a:lnTo>
                  <a:lnTo>
                    <a:pt x="350" y="374"/>
                  </a:lnTo>
                  <a:lnTo>
                    <a:pt x="350" y="374"/>
                  </a:lnTo>
                  <a:lnTo>
                    <a:pt x="340" y="366"/>
                  </a:lnTo>
                  <a:lnTo>
                    <a:pt x="326" y="360"/>
                  </a:lnTo>
                  <a:lnTo>
                    <a:pt x="310" y="352"/>
                  </a:lnTo>
                  <a:lnTo>
                    <a:pt x="288" y="346"/>
                  </a:lnTo>
                  <a:lnTo>
                    <a:pt x="288" y="346"/>
                  </a:lnTo>
                  <a:lnTo>
                    <a:pt x="206" y="320"/>
                  </a:lnTo>
                  <a:lnTo>
                    <a:pt x="154" y="300"/>
                  </a:lnTo>
                  <a:lnTo>
                    <a:pt x="154" y="300"/>
                  </a:lnTo>
                  <a:lnTo>
                    <a:pt x="136" y="292"/>
                  </a:lnTo>
                  <a:lnTo>
                    <a:pt x="120" y="284"/>
                  </a:lnTo>
                  <a:lnTo>
                    <a:pt x="106" y="274"/>
                  </a:lnTo>
                  <a:lnTo>
                    <a:pt x="94" y="264"/>
                  </a:lnTo>
                  <a:lnTo>
                    <a:pt x="94" y="264"/>
                  </a:lnTo>
                  <a:lnTo>
                    <a:pt x="86" y="254"/>
                  </a:lnTo>
                  <a:lnTo>
                    <a:pt x="76" y="244"/>
                  </a:lnTo>
                  <a:lnTo>
                    <a:pt x="70" y="232"/>
                  </a:lnTo>
                  <a:lnTo>
                    <a:pt x="64" y="218"/>
                  </a:lnTo>
                  <a:lnTo>
                    <a:pt x="64" y="218"/>
                  </a:lnTo>
                  <a:lnTo>
                    <a:pt x="58" y="206"/>
                  </a:lnTo>
                  <a:lnTo>
                    <a:pt x="54" y="192"/>
                  </a:lnTo>
                  <a:lnTo>
                    <a:pt x="52" y="178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4" y="144"/>
                  </a:lnTo>
                  <a:lnTo>
                    <a:pt x="58" y="124"/>
                  </a:lnTo>
                  <a:lnTo>
                    <a:pt x="66" y="104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90" y="66"/>
                  </a:lnTo>
                  <a:lnTo>
                    <a:pt x="108" y="50"/>
                  </a:lnTo>
                  <a:lnTo>
                    <a:pt x="128" y="36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78" y="14"/>
                  </a:lnTo>
                  <a:lnTo>
                    <a:pt x="204" y="6"/>
                  </a:lnTo>
                  <a:lnTo>
                    <a:pt x="234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88" y="2"/>
                  </a:lnTo>
                  <a:lnTo>
                    <a:pt x="310" y="4"/>
                  </a:lnTo>
                  <a:lnTo>
                    <a:pt x="332" y="10"/>
                  </a:lnTo>
                  <a:lnTo>
                    <a:pt x="354" y="16"/>
                  </a:lnTo>
                  <a:lnTo>
                    <a:pt x="354" y="16"/>
                  </a:lnTo>
                  <a:lnTo>
                    <a:pt x="368" y="22"/>
                  </a:lnTo>
                  <a:lnTo>
                    <a:pt x="384" y="28"/>
                  </a:lnTo>
                  <a:lnTo>
                    <a:pt x="398" y="38"/>
                  </a:lnTo>
                  <a:lnTo>
                    <a:pt x="414" y="48"/>
                  </a:lnTo>
                  <a:lnTo>
                    <a:pt x="438" y="10"/>
                  </a:lnTo>
                  <a:lnTo>
                    <a:pt x="494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4"/>
            <p:cNvSpPr/>
            <p:nvPr/>
          </p:nvSpPr>
          <p:spPr>
            <a:xfrm>
              <a:off x="6357960" y="1076040"/>
              <a:ext cx="806400" cy="8827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08" h="556">
                  <a:moveTo>
                    <a:pt x="492" y="10"/>
                  </a:moveTo>
                  <a:lnTo>
                    <a:pt x="508" y="196"/>
                  </a:lnTo>
                  <a:lnTo>
                    <a:pt x="430" y="208"/>
                  </a:lnTo>
                  <a:lnTo>
                    <a:pt x="430" y="208"/>
                  </a:lnTo>
                  <a:lnTo>
                    <a:pt x="418" y="182"/>
                  </a:lnTo>
                  <a:lnTo>
                    <a:pt x="402" y="158"/>
                  </a:lnTo>
                  <a:lnTo>
                    <a:pt x="384" y="136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40" y="104"/>
                  </a:lnTo>
                  <a:lnTo>
                    <a:pt x="314" y="92"/>
                  </a:lnTo>
                  <a:lnTo>
                    <a:pt x="288" y="86"/>
                  </a:lnTo>
                  <a:lnTo>
                    <a:pt x="262" y="84"/>
                  </a:lnTo>
                  <a:lnTo>
                    <a:pt x="262" y="84"/>
                  </a:lnTo>
                  <a:lnTo>
                    <a:pt x="234" y="86"/>
                  </a:lnTo>
                  <a:lnTo>
                    <a:pt x="222" y="88"/>
                  </a:lnTo>
                  <a:lnTo>
                    <a:pt x="212" y="92"/>
                  </a:lnTo>
                  <a:lnTo>
                    <a:pt x="212" y="92"/>
                  </a:lnTo>
                  <a:lnTo>
                    <a:pt x="202" y="96"/>
                  </a:lnTo>
                  <a:lnTo>
                    <a:pt x="194" y="102"/>
                  </a:lnTo>
                  <a:lnTo>
                    <a:pt x="188" y="108"/>
                  </a:lnTo>
                  <a:lnTo>
                    <a:pt x="182" y="114"/>
                  </a:lnTo>
                  <a:lnTo>
                    <a:pt x="182" y="114"/>
                  </a:lnTo>
                  <a:lnTo>
                    <a:pt x="174" y="128"/>
                  </a:lnTo>
                  <a:lnTo>
                    <a:pt x="172" y="134"/>
                  </a:lnTo>
                  <a:lnTo>
                    <a:pt x="172" y="140"/>
                  </a:lnTo>
                  <a:lnTo>
                    <a:pt x="172" y="140"/>
                  </a:lnTo>
                  <a:lnTo>
                    <a:pt x="174" y="150"/>
                  </a:lnTo>
                  <a:lnTo>
                    <a:pt x="176" y="158"/>
                  </a:lnTo>
                  <a:lnTo>
                    <a:pt x="182" y="166"/>
                  </a:lnTo>
                  <a:lnTo>
                    <a:pt x="190" y="176"/>
                  </a:lnTo>
                  <a:lnTo>
                    <a:pt x="190" y="176"/>
                  </a:lnTo>
                  <a:lnTo>
                    <a:pt x="202" y="182"/>
                  </a:lnTo>
                  <a:lnTo>
                    <a:pt x="216" y="190"/>
                  </a:lnTo>
                  <a:lnTo>
                    <a:pt x="238" y="198"/>
                  </a:lnTo>
                  <a:lnTo>
                    <a:pt x="262" y="206"/>
                  </a:lnTo>
                  <a:lnTo>
                    <a:pt x="262" y="206"/>
                  </a:lnTo>
                  <a:lnTo>
                    <a:pt x="306" y="218"/>
                  </a:lnTo>
                  <a:lnTo>
                    <a:pt x="344" y="230"/>
                  </a:lnTo>
                  <a:lnTo>
                    <a:pt x="374" y="242"/>
                  </a:lnTo>
                  <a:lnTo>
                    <a:pt x="398" y="254"/>
                  </a:lnTo>
                  <a:lnTo>
                    <a:pt x="398" y="254"/>
                  </a:lnTo>
                  <a:lnTo>
                    <a:pt x="420" y="264"/>
                  </a:lnTo>
                  <a:lnTo>
                    <a:pt x="436" y="278"/>
                  </a:lnTo>
                  <a:lnTo>
                    <a:pt x="452" y="292"/>
                  </a:lnTo>
                  <a:lnTo>
                    <a:pt x="464" y="306"/>
                  </a:lnTo>
                  <a:lnTo>
                    <a:pt x="464" y="306"/>
                  </a:lnTo>
                  <a:lnTo>
                    <a:pt x="474" y="322"/>
                  </a:lnTo>
                  <a:lnTo>
                    <a:pt x="482" y="340"/>
                  </a:lnTo>
                  <a:lnTo>
                    <a:pt x="486" y="360"/>
                  </a:lnTo>
                  <a:lnTo>
                    <a:pt x="488" y="380"/>
                  </a:lnTo>
                  <a:lnTo>
                    <a:pt x="488" y="380"/>
                  </a:lnTo>
                  <a:lnTo>
                    <a:pt x="486" y="400"/>
                  </a:lnTo>
                  <a:lnTo>
                    <a:pt x="482" y="416"/>
                  </a:lnTo>
                  <a:lnTo>
                    <a:pt x="478" y="434"/>
                  </a:lnTo>
                  <a:lnTo>
                    <a:pt x="470" y="450"/>
                  </a:lnTo>
                  <a:lnTo>
                    <a:pt x="462" y="466"/>
                  </a:lnTo>
                  <a:lnTo>
                    <a:pt x="450" y="480"/>
                  </a:lnTo>
                  <a:lnTo>
                    <a:pt x="436" y="494"/>
                  </a:lnTo>
                  <a:lnTo>
                    <a:pt x="420" y="508"/>
                  </a:lnTo>
                  <a:lnTo>
                    <a:pt x="420" y="508"/>
                  </a:lnTo>
                  <a:lnTo>
                    <a:pt x="404" y="518"/>
                  </a:lnTo>
                  <a:lnTo>
                    <a:pt x="388" y="528"/>
                  </a:lnTo>
                  <a:lnTo>
                    <a:pt x="370" y="538"/>
                  </a:lnTo>
                  <a:lnTo>
                    <a:pt x="352" y="544"/>
                  </a:lnTo>
                  <a:lnTo>
                    <a:pt x="332" y="550"/>
                  </a:lnTo>
                  <a:lnTo>
                    <a:pt x="312" y="552"/>
                  </a:lnTo>
                  <a:lnTo>
                    <a:pt x="290" y="556"/>
                  </a:lnTo>
                  <a:lnTo>
                    <a:pt x="266" y="556"/>
                  </a:lnTo>
                  <a:lnTo>
                    <a:pt x="266" y="556"/>
                  </a:lnTo>
                  <a:lnTo>
                    <a:pt x="240" y="554"/>
                  </a:lnTo>
                  <a:lnTo>
                    <a:pt x="214" y="552"/>
                  </a:lnTo>
                  <a:lnTo>
                    <a:pt x="190" y="548"/>
                  </a:lnTo>
                  <a:lnTo>
                    <a:pt x="168" y="540"/>
                  </a:lnTo>
                  <a:lnTo>
                    <a:pt x="168" y="540"/>
                  </a:lnTo>
                  <a:lnTo>
                    <a:pt x="148" y="532"/>
                  </a:lnTo>
                  <a:lnTo>
                    <a:pt x="126" y="522"/>
                  </a:lnTo>
                  <a:lnTo>
                    <a:pt x="108" y="508"/>
                  </a:lnTo>
                  <a:lnTo>
                    <a:pt x="88" y="494"/>
                  </a:lnTo>
                  <a:lnTo>
                    <a:pt x="54" y="546"/>
                  </a:lnTo>
                  <a:lnTo>
                    <a:pt x="0" y="546"/>
                  </a:lnTo>
                  <a:lnTo>
                    <a:pt x="0" y="330"/>
                  </a:lnTo>
                  <a:lnTo>
                    <a:pt x="78" y="326"/>
                  </a:lnTo>
                  <a:lnTo>
                    <a:pt x="78" y="326"/>
                  </a:lnTo>
                  <a:lnTo>
                    <a:pt x="84" y="346"/>
                  </a:lnTo>
                  <a:lnTo>
                    <a:pt x="94" y="364"/>
                  </a:lnTo>
                  <a:lnTo>
                    <a:pt x="106" y="384"/>
                  </a:lnTo>
                  <a:lnTo>
                    <a:pt x="122" y="400"/>
                  </a:lnTo>
                  <a:lnTo>
                    <a:pt x="122" y="400"/>
                  </a:lnTo>
                  <a:lnTo>
                    <a:pt x="138" y="418"/>
                  </a:lnTo>
                  <a:lnTo>
                    <a:pt x="154" y="432"/>
                  </a:lnTo>
                  <a:lnTo>
                    <a:pt x="172" y="444"/>
                  </a:lnTo>
                  <a:lnTo>
                    <a:pt x="190" y="454"/>
                  </a:lnTo>
                  <a:lnTo>
                    <a:pt x="190" y="454"/>
                  </a:lnTo>
                  <a:lnTo>
                    <a:pt x="210" y="462"/>
                  </a:lnTo>
                  <a:lnTo>
                    <a:pt x="230" y="468"/>
                  </a:lnTo>
                  <a:lnTo>
                    <a:pt x="250" y="470"/>
                  </a:lnTo>
                  <a:lnTo>
                    <a:pt x="270" y="472"/>
                  </a:lnTo>
                  <a:lnTo>
                    <a:pt x="270" y="472"/>
                  </a:lnTo>
                  <a:lnTo>
                    <a:pt x="290" y="470"/>
                  </a:lnTo>
                  <a:lnTo>
                    <a:pt x="310" y="468"/>
                  </a:lnTo>
                  <a:lnTo>
                    <a:pt x="326" y="462"/>
                  </a:lnTo>
                  <a:lnTo>
                    <a:pt x="340" y="454"/>
                  </a:lnTo>
                  <a:lnTo>
                    <a:pt x="340" y="454"/>
                  </a:lnTo>
                  <a:lnTo>
                    <a:pt x="350" y="444"/>
                  </a:lnTo>
                  <a:lnTo>
                    <a:pt x="358" y="434"/>
                  </a:lnTo>
                  <a:lnTo>
                    <a:pt x="362" y="422"/>
                  </a:lnTo>
                  <a:lnTo>
                    <a:pt x="364" y="408"/>
                  </a:lnTo>
                  <a:lnTo>
                    <a:pt x="364" y="408"/>
                  </a:lnTo>
                  <a:lnTo>
                    <a:pt x="364" y="400"/>
                  </a:lnTo>
                  <a:lnTo>
                    <a:pt x="360" y="390"/>
                  </a:lnTo>
                  <a:lnTo>
                    <a:pt x="356" y="382"/>
                  </a:lnTo>
                  <a:lnTo>
                    <a:pt x="348" y="374"/>
                  </a:lnTo>
                  <a:lnTo>
                    <a:pt x="348" y="374"/>
                  </a:lnTo>
                  <a:lnTo>
                    <a:pt x="340" y="366"/>
                  </a:lnTo>
                  <a:lnTo>
                    <a:pt x="326" y="360"/>
                  </a:lnTo>
                  <a:lnTo>
                    <a:pt x="308" y="352"/>
                  </a:lnTo>
                  <a:lnTo>
                    <a:pt x="288" y="346"/>
                  </a:lnTo>
                  <a:lnTo>
                    <a:pt x="288" y="346"/>
                  </a:lnTo>
                  <a:lnTo>
                    <a:pt x="206" y="320"/>
                  </a:lnTo>
                  <a:lnTo>
                    <a:pt x="154" y="300"/>
                  </a:lnTo>
                  <a:lnTo>
                    <a:pt x="154" y="300"/>
                  </a:lnTo>
                  <a:lnTo>
                    <a:pt x="134" y="292"/>
                  </a:lnTo>
                  <a:lnTo>
                    <a:pt x="120" y="284"/>
                  </a:lnTo>
                  <a:lnTo>
                    <a:pt x="106" y="274"/>
                  </a:lnTo>
                  <a:lnTo>
                    <a:pt x="94" y="264"/>
                  </a:lnTo>
                  <a:lnTo>
                    <a:pt x="94" y="264"/>
                  </a:lnTo>
                  <a:lnTo>
                    <a:pt x="84" y="254"/>
                  </a:lnTo>
                  <a:lnTo>
                    <a:pt x="76" y="244"/>
                  </a:lnTo>
                  <a:lnTo>
                    <a:pt x="68" y="232"/>
                  </a:lnTo>
                  <a:lnTo>
                    <a:pt x="62" y="218"/>
                  </a:lnTo>
                  <a:lnTo>
                    <a:pt x="62" y="218"/>
                  </a:lnTo>
                  <a:lnTo>
                    <a:pt x="58" y="206"/>
                  </a:lnTo>
                  <a:lnTo>
                    <a:pt x="54" y="192"/>
                  </a:lnTo>
                  <a:lnTo>
                    <a:pt x="52" y="178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52" y="144"/>
                  </a:lnTo>
                  <a:lnTo>
                    <a:pt x="56" y="124"/>
                  </a:lnTo>
                  <a:lnTo>
                    <a:pt x="64" y="104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90" y="66"/>
                  </a:lnTo>
                  <a:lnTo>
                    <a:pt x="106" y="50"/>
                  </a:lnTo>
                  <a:lnTo>
                    <a:pt x="128" y="36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76" y="14"/>
                  </a:lnTo>
                  <a:lnTo>
                    <a:pt x="204" y="6"/>
                  </a:lnTo>
                  <a:lnTo>
                    <a:pt x="234" y="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86" y="2"/>
                  </a:lnTo>
                  <a:lnTo>
                    <a:pt x="310" y="4"/>
                  </a:lnTo>
                  <a:lnTo>
                    <a:pt x="332" y="10"/>
                  </a:lnTo>
                  <a:lnTo>
                    <a:pt x="352" y="16"/>
                  </a:lnTo>
                  <a:lnTo>
                    <a:pt x="352" y="16"/>
                  </a:lnTo>
                  <a:lnTo>
                    <a:pt x="368" y="22"/>
                  </a:lnTo>
                  <a:lnTo>
                    <a:pt x="382" y="28"/>
                  </a:lnTo>
                  <a:lnTo>
                    <a:pt x="398" y="38"/>
                  </a:lnTo>
                  <a:lnTo>
                    <a:pt x="412" y="48"/>
                  </a:lnTo>
                  <a:lnTo>
                    <a:pt x="436" y="10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5"/>
            <p:cNvSpPr/>
            <p:nvPr/>
          </p:nvSpPr>
          <p:spPr>
            <a:xfrm>
              <a:off x="7231320" y="1047600"/>
              <a:ext cx="838080" cy="911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528" h="574">
                  <a:moveTo>
                    <a:pt x="212" y="0"/>
                  </a:moveTo>
                  <a:lnTo>
                    <a:pt x="248" y="0"/>
                  </a:lnTo>
                  <a:lnTo>
                    <a:pt x="192" y="248"/>
                  </a:lnTo>
                  <a:lnTo>
                    <a:pt x="192" y="248"/>
                  </a:lnTo>
                  <a:lnTo>
                    <a:pt x="218" y="222"/>
                  </a:lnTo>
                  <a:lnTo>
                    <a:pt x="240" y="202"/>
                  </a:lnTo>
                  <a:lnTo>
                    <a:pt x="240" y="202"/>
                  </a:lnTo>
                  <a:lnTo>
                    <a:pt x="264" y="190"/>
                  </a:lnTo>
                  <a:lnTo>
                    <a:pt x="290" y="180"/>
                  </a:lnTo>
                  <a:lnTo>
                    <a:pt x="290" y="180"/>
                  </a:lnTo>
                  <a:lnTo>
                    <a:pt x="316" y="174"/>
                  </a:lnTo>
                  <a:lnTo>
                    <a:pt x="344" y="172"/>
                  </a:lnTo>
                  <a:lnTo>
                    <a:pt x="344" y="172"/>
                  </a:lnTo>
                  <a:lnTo>
                    <a:pt x="360" y="172"/>
                  </a:lnTo>
                  <a:lnTo>
                    <a:pt x="376" y="174"/>
                  </a:lnTo>
                  <a:lnTo>
                    <a:pt x="390" y="178"/>
                  </a:lnTo>
                  <a:lnTo>
                    <a:pt x="404" y="184"/>
                  </a:lnTo>
                  <a:lnTo>
                    <a:pt x="404" y="184"/>
                  </a:lnTo>
                  <a:lnTo>
                    <a:pt x="416" y="190"/>
                  </a:lnTo>
                  <a:lnTo>
                    <a:pt x="426" y="198"/>
                  </a:lnTo>
                  <a:lnTo>
                    <a:pt x="436" y="206"/>
                  </a:lnTo>
                  <a:lnTo>
                    <a:pt x="444" y="218"/>
                  </a:lnTo>
                  <a:lnTo>
                    <a:pt x="444" y="218"/>
                  </a:lnTo>
                  <a:lnTo>
                    <a:pt x="450" y="228"/>
                  </a:lnTo>
                  <a:lnTo>
                    <a:pt x="456" y="240"/>
                  </a:lnTo>
                  <a:lnTo>
                    <a:pt x="458" y="252"/>
                  </a:lnTo>
                  <a:lnTo>
                    <a:pt x="458" y="264"/>
                  </a:lnTo>
                  <a:lnTo>
                    <a:pt x="458" y="264"/>
                  </a:lnTo>
                  <a:lnTo>
                    <a:pt x="458" y="282"/>
                  </a:lnTo>
                  <a:lnTo>
                    <a:pt x="458" y="282"/>
                  </a:lnTo>
                  <a:lnTo>
                    <a:pt x="452" y="304"/>
                  </a:lnTo>
                  <a:lnTo>
                    <a:pt x="422" y="442"/>
                  </a:lnTo>
                  <a:lnTo>
                    <a:pt x="422" y="442"/>
                  </a:lnTo>
                  <a:lnTo>
                    <a:pt x="418" y="472"/>
                  </a:lnTo>
                  <a:lnTo>
                    <a:pt x="418" y="472"/>
                  </a:lnTo>
                  <a:lnTo>
                    <a:pt x="418" y="478"/>
                  </a:lnTo>
                  <a:lnTo>
                    <a:pt x="422" y="484"/>
                  </a:lnTo>
                  <a:lnTo>
                    <a:pt x="422" y="484"/>
                  </a:lnTo>
                  <a:lnTo>
                    <a:pt x="428" y="486"/>
                  </a:lnTo>
                  <a:lnTo>
                    <a:pt x="434" y="488"/>
                  </a:lnTo>
                  <a:lnTo>
                    <a:pt x="434" y="488"/>
                  </a:lnTo>
                  <a:lnTo>
                    <a:pt x="442" y="486"/>
                  </a:lnTo>
                  <a:lnTo>
                    <a:pt x="452" y="482"/>
                  </a:lnTo>
                  <a:lnTo>
                    <a:pt x="452" y="482"/>
                  </a:lnTo>
                  <a:lnTo>
                    <a:pt x="466" y="474"/>
                  </a:lnTo>
                  <a:lnTo>
                    <a:pt x="484" y="460"/>
                  </a:lnTo>
                  <a:lnTo>
                    <a:pt x="528" y="512"/>
                  </a:lnTo>
                  <a:lnTo>
                    <a:pt x="528" y="512"/>
                  </a:lnTo>
                  <a:lnTo>
                    <a:pt x="508" y="528"/>
                  </a:lnTo>
                  <a:lnTo>
                    <a:pt x="490" y="540"/>
                  </a:lnTo>
                  <a:lnTo>
                    <a:pt x="472" y="552"/>
                  </a:lnTo>
                  <a:lnTo>
                    <a:pt x="456" y="560"/>
                  </a:lnTo>
                  <a:lnTo>
                    <a:pt x="456" y="560"/>
                  </a:lnTo>
                  <a:lnTo>
                    <a:pt x="440" y="566"/>
                  </a:lnTo>
                  <a:lnTo>
                    <a:pt x="426" y="570"/>
                  </a:lnTo>
                  <a:lnTo>
                    <a:pt x="410" y="572"/>
                  </a:lnTo>
                  <a:lnTo>
                    <a:pt x="394" y="574"/>
                  </a:lnTo>
                  <a:lnTo>
                    <a:pt x="394" y="574"/>
                  </a:lnTo>
                  <a:lnTo>
                    <a:pt x="374" y="572"/>
                  </a:lnTo>
                  <a:lnTo>
                    <a:pt x="356" y="568"/>
                  </a:lnTo>
                  <a:lnTo>
                    <a:pt x="338" y="560"/>
                  </a:lnTo>
                  <a:lnTo>
                    <a:pt x="324" y="550"/>
                  </a:lnTo>
                  <a:lnTo>
                    <a:pt x="324" y="550"/>
                  </a:lnTo>
                  <a:lnTo>
                    <a:pt x="312" y="536"/>
                  </a:lnTo>
                  <a:lnTo>
                    <a:pt x="304" y="522"/>
                  </a:lnTo>
                  <a:lnTo>
                    <a:pt x="298" y="508"/>
                  </a:lnTo>
                  <a:lnTo>
                    <a:pt x="296" y="492"/>
                  </a:lnTo>
                  <a:lnTo>
                    <a:pt x="296" y="492"/>
                  </a:lnTo>
                  <a:lnTo>
                    <a:pt x="298" y="468"/>
                  </a:lnTo>
                  <a:lnTo>
                    <a:pt x="304" y="438"/>
                  </a:lnTo>
                  <a:lnTo>
                    <a:pt x="328" y="328"/>
                  </a:lnTo>
                  <a:lnTo>
                    <a:pt x="328" y="328"/>
                  </a:lnTo>
                  <a:lnTo>
                    <a:pt x="334" y="304"/>
                  </a:lnTo>
                  <a:lnTo>
                    <a:pt x="334" y="288"/>
                  </a:lnTo>
                  <a:lnTo>
                    <a:pt x="334" y="288"/>
                  </a:lnTo>
                  <a:lnTo>
                    <a:pt x="334" y="280"/>
                  </a:lnTo>
                  <a:lnTo>
                    <a:pt x="328" y="272"/>
                  </a:lnTo>
                  <a:lnTo>
                    <a:pt x="328" y="272"/>
                  </a:lnTo>
                  <a:lnTo>
                    <a:pt x="318" y="266"/>
                  </a:lnTo>
                  <a:lnTo>
                    <a:pt x="306" y="264"/>
                  </a:lnTo>
                  <a:lnTo>
                    <a:pt x="306" y="264"/>
                  </a:lnTo>
                  <a:lnTo>
                    <a:pt x="292" y="266"/>
                  </a:lnTo>
                  <a:lnTo>
                    <a:pt x="278" y="272"/>
                  </a:lnTo>
                  <a:lnTo>
                    <a:pt x="264" y="280"/>
                  </a:lnTo>
                  <a:lnTo>
                    <a:pt x="248" y="290"/>
                  </a:lnTo>
                  <a:lnTo>
                    <a:pt x="248" y="290"/>
                  </a:lnTo>
                  <a:lnTo>
                    <a:pt x="230" y="308"/>
                  </a:lnTo>
                  <a:lnTo>
                    <a:pt x="212" y="330"/>
                  </a:lnTo>
                  <a:lnTo>
                    <a:pt x="194" y="356"/>
                  </a:lnTo>
                  <a:lnTo>
                    <a:pt x="178" y="388"/>
                  </a:lnTo>
                  <a:lnTo>
                    <a:pt x="178" y="388"/>
                  </a:lnTo>
                  <a:lnTo>
                    <a:pt x="164" y="416"/>
                  </a:lnTo>
                  <a:lnTo>
                    <a:pt x="154" y="446"/>
                  </a:lnTo>
                  <a:lnTo>
                    <a:pt x="142" y="476"/>
                  </a:lnTo>
                  <a:lnTo>
                    <a:pt x="134" y="508"/>
                  </a:lnTo>
                  <a:lnTo>
                    <a:pt x="120" y="564"/>
                  </a:lnTo>
                  <a:lnTo>
                    <a:pt x="0" y="564"/>
                  </a:lnTo>
                  <a:lnTo>
                    <a:pt x="102" y="108"/>
                  </a:lnTo>
                  <a:lnTo>
                    <a:pt x="42" y="108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96" y="30"/>
                  </a:lnTo>
                  <a:lnTo>
                    <a:pt x="134" y="22"/>
                  </a:lnTo>
                  <a:lnTo>
                    <a:pt x="172" y="14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6"/>
            <p:cNvSpPr/>
            <p:nvPr/>
          </p:nvSpPr>
          <p:spPr>
            <a:xfrm>
              <a:off x="8088480" y="1320480"/>
              <a:ext cx="679320" cy="6382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428" h="402">
                  <a:moveTo>
                    <a:pt x="242" y="0"/>
                  </a:moveTo>
                  <a:lnTo>
                    <a:pt x="242" y="0"/>
                  </a:lnTo>
                  <a:lnTo>
                    <a:pt x="262" y="0"/>
                  </a:lnTo>
                  <a:lnTo>
                    <a:pt x="280" y="2"/>
                  </a:lnTo>
                  <a:lnTo>
                    <a:pt x="298" y="6"/>
                  </a:lnTo>
                  <a:lnTo>
                    <a:pt x="316" y="10"/>
                  </a:lnTo>
                  <a:lnTo>
                    <a:pt x="332" y="16"/>
                  </a:lnTo>
                  <a:lnTo>
                    <a:pt x="346" y="24"/>
                  </a:lnTo>
                  <a:lnTo>
                    <a:pt x="362" y="34"/>
                  </a:lnTo>
                  <a:lnTo>
                    <a:pt x="376" y="44"/>
                  </a:lnTo>
                  <a:lnTo>
                    <a:pt x="376" y="44"/>
                  </a:lnTo>
                  <a:lnTo>
                    <a:pt x="388" y="56"/>
                  </a:lnTo>
                  <a:lnTo>
                    <a:pt x="398" y="68"/>
                  </a:lnTo>
                  <a:lnTo>
                    <a:pt x="408" y="82"/>
                  </a:lnTo>
                  <a:lnTo>
                    <a:pt x="416" y="96"/>
                  </a:lnTo>
                  <a:lnTo>
                    <a:pt x="422" y="112"/>
                  </a:lnTo>
                  <a:lnTo>
                    <a:pt x="426" y="128"/>
                  </a:lnTo>
                  <a:lnTo>
                    <a:pt x="428" y="146"/>
                  </a:lnTo>
                  <a:lnTo>
                    <a:pt x="428" y="164"/>
                  </a:lnTo>
                  <a:lnTo>
                    <a:pt x="428" y="164"/>
                  </a:lnTo>
                  <a:lnTo>
                    <a:pt x="426" y="194"/>
                  </a:lnTo>
                  <a:lnTo>
                    <a:pt x="420" y="224"/>
                  </a:lnTo>
                  <a:lnTo>
                    <a:pt x="410" y="254"/>
                  </a:lnTo>
                  <a:lnTo>
                    <a:pt x="396" y="282"/>
                  </a:lnTo>
                  <a:lnTo>
                    <a:pt x="396" y="282"/>
                  </a:lnTo>
                  <a:lnTo>
                    <a:pt x="378" y="310"/>
                  </a:lnTo>
                  <a:lnTo>
                    <a:pt x="358" y="334"/>
                  </a:lnTo>
                  <a:lnTo>
                    <a:pt x="334" y="354"/>
                  </a:lnTo>
                  <a:lnTo>
                    <a:pt x="310" y="370"/>
                  </a:lnTo>
                  <a:lnTo>
                    <a:pt x="310" y="370"/>
                  </a:lnTo>
                  <a:lnTo>
                    <a:pt x="282" y="384"/>
                  </a:lnTo>
                  <a:lnTo>
                    <a:pt x="252" y="394"/>
                  </a:lnTo>
                  <a:lnTo>
                    <a:pt x="220" y="400"/>
                  </a:lnTo>
                  <a:lnTo>
                    <a:pt x="188" y="402"/>
                  </a:lnTo>
                  <a:lnTo>
                    <a:pt x="188" y="402"/>
                  </a:lnTo>
                  <a:lnTo>
                    <a:pt x="166" y="402"/>
                  </a:lnTo>
                  <a:lnTo>
                    <a:pt x="146" y="398"/>
                  </a:lnTo>
                  <a:lnTo>
                    <a:pt x="128" y="396"/>
                  </a:lnTo>
                  <a:lnTo>
                    <a:pt x="110" y="390"/>
                  </a:lnTo>
                  <a:lnTo>
                    <a:pt x="94" y="384"/>
                  </a:lnTo>
                  <a:lnTo>
                    <a:pt x="78" y="376"/>
                  </a:lnTo>
                  <a:lnTo>
                    <a:pt x="64" y="366"/>
                  </a:lnTo>
                  <a:lnTo>
                    <a:pt x="50" y="354"/>
                  </a:lnTo>
                  <a:lnTo>
                    <a:pt x="50" y="354"/>
                  </a:lnTo>
                  <a:lnTo>
                    <a:pt x="38" y="342"/>
                  </a:lnTo>
                  <a:lnTo>
                    <a:pt x="28" y="330"/>
                  </a:lnTo>
                  <a:lnTo>
                    <a:pt x="20" y="316"/>
                  </a:lnTo>
                  <a:lnTo>
                    <a:pt x="12" y="300"/>
                  </a:lnTo>
                  <a:lnTo>
                    <a:pt x="6" y="284"/>
                  </a:lnTo>
                  <a:lnTo>
                    <a:pt x="2" y="268"/>
                  </a:lnTo>
                  <a:lnTo>
                    <a:pt x="0" y="25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" y="202"/>
                  </a:lnTo>
                  <a:lnTo>
                    <a:pt x="8" y="172"/>
                  </a:lnTo>
                  <a:lnTo>
                    <a:pt x="18" y="144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48" y="90"/>
                  </a:lnTo>
                  <a:lnTo>
                    <a:pt x="70" y="68"/>
                  </a:lnTo>
                  <a:lnTo>
                    <a:pt x="92" y="48"/>
                  </a:lnTo>
                  <a:lnTo>
                    <a:pt x="118" y="30"/>
                  </a:lnTo>
                  <a:lnTo>
                    <a:pt x="118" y="30"/>
                  </a:lnTo>
                  <a:lnTo>
                    <a:pt x="148" y="16"/>
                  </a:lnTo>
                  <a:lnTo>
                    <a:pt x="178" y="8"/>
                  </a:lnTo>
                  <a:lnTo>
                    <a:pt x="208" y="2"/>
                  </a:lnTo>
                  <a:lnTo>
                    <a:pt x="242" y="0"/>
                  </a:lnTo>
                  <a:lnTo>
                    <a:pt x="242" y="0"/>
                  </a:lnTo>
                  <a:close/>
                  <a:moveTo>
                    <a:pt x="238" y="78"/>
                  </a:moveTo>
                  <a:lnTo>
                    <a:pt x="238" y="78"/>
                  </a:lnTo>
                  <a:lnTo>
                    <a:pt x="226" y="80"/>
                  </a:lnTo>
                  <a:lnTo>
                    <a:pt x="214" y="82"/>
                  </a:lnTo>
                  <a:lnTo>
                    <a:pt x="202" y="88"/>
                  </a:lnTo>
                  <a:lnTo>
                    <a:pt x="190" y="96"/>
                  </a:lnTo>
                  <a:lnTo>
                    <a:pt x="190" y="96"/>
                  </a:lnTo>
                  <a:lnTo>
                    <a:pt x="178" y="108"/>
                  </a:lnTo>
                  <a:lnTo>
                    <a:pt x="168" y="122"/>
                  </a:lnTo>
                  <a:lnTo>
                    <a:pt x="158" y="138"/>
                  </a:lnTo>
                  <a:lnTo>
                    <a:pt x="148" y="158"/>
                  </a:lnTo>
                  <a:lnTo>
                    <a:pt x="148" y="158"/>
                  </a:lnTo>
                  <a:lnTo>
                    <a:pt x="140" y="180"/>
                  </a:lnTo>
                  <a:lnTo>
                    <a:pt x="136" y="202"/>
                  </a:lnTo>
                  <a:lnTo>
                    <a:pt x="132" y="226"/>
                  </a:lnTo>
                  <a:lnTo>
                    <a:pt x="130" y="248"/>
                  </a:lnTo>
                  <a:lnTo>
                    <a:pt x="130" y="248"/>
                  </a:lnTo>
                  <a:lnTo>
                    <a:pt x="132" y="266"/>
                  </a:lnTo>
                  <a:lnTo>
                    <a:pt x="134" y="280"/>
                  </a:lnTo>
                  <a:lnTo>
                    <a:pt x="140" y="294"/>
                  </a:lnTo>
                  <a:lnTo>
                    <a:pt x="146" y="304"/>
                  </a:lnTo>
                  <a:lnTo>
                    <a:pt x="146" y="304"/>
                  </a:lnTo>
                  <a:lnTo>
                    <a:pt x="156" y="312"/>
                  </a:lnTo>
                  <a:lnTo>
                    <a:pt x="166" y="318"/>
                  </a:lnTo>
                  <a:lnTo>
                    <a:pt x="176" y="322"/>
                  </a:lnTo>
                  <a:lnTo>
                    <a:pt x="188" y="322"/>
                  </a:lnTo>
                  <a:lnTo>
                    <a:pt x="188" y="322"/>
                  </a:lnTo>
                  <a:lnTo>
                    <a:pt x="202" y="322"/>
                  </a:lnTo>
                  <a:lnTo>
                    <a:pt x="214" y="318"/>
                  </a:lnTo>
                  <a:lnTo>
                    <a:pt x="226" y="312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50" y="294"/>
                  </a:lnTo>
                  <a:lnTo>
                    <a:pt x="260" y="280"/>
                  </a:lnTo>
                  <a:lnTo>
                    <a:pt x="270" y="264"/>
                  </a:lnTo>
                  <a:lnTo>
                    <a:pt x="280" y="244"/>
                  </a:lnTo>
                  <a:lnTo>
                    <a:pt x="280" y="244"/>
                  </a:lnTo>
                  <a:lnTo>
                    <a:pt x="288" y="222"/>
                  </a:lnTo>
                  <a:lnTo>
                    <a:pt x="292" y="200"/>
                  </a:lnTo>
                  <a:lnTo>
                    <a:pt x="296" y="176"/>
                  </a:lnTo>
                  <a:lnTo>
                    <a:pt x="298" y="152"/>
                  </a:lnTo>
                  <a:lnTo>
                    <a:pt x="298" y="152"/>
                  </a:lnTo>
                  <a:lnTo>
                    <a:pt x="296" y="136"/>
                  </a:lnTo>
                  <a:lnTo>
                    <a:pt x="294" y="120"/>
                  </a:lnTo>
                  <a:lnTo>
                    <a:pt x="288" y="108"/>
                  </a:lnTo>
                  <a:lnTo>
                    <a:pt x="282" y="96"/>
                  </a:lnTo>
                  <a:lnTo>
                    <a:pt x="282" y="96"/>
                  </a:lnTo>
                  <a:lnTo>
                    <a:pt x="272" y="88"/>
                  </a:lnTo>
                  <a:lnTo>
                    <a:pt x="262" y="82"/>
                  </a:lnTo>
                  <a:lnTo>
                    <a:pt x="252" y="80"/>
                  </a:lnTo>
                  <a:lnTo>
                    <a:pt x="238" y="78"/>
                  </a:lnTo>
                  <a:lnTo>
                    <a:pt x="238" y="78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7"/>
            <p:cNvSpPr/>
            <p:nvPr/>
          </p:nvSpPr>
          <p:spPr>
            <a:xfrm>
              <a:off x="8688600" y="1320480"/>
              <a:ext cx="904680" cy="8956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895680"/>
                <a:gd name="textAreaBottom" fmla="*/ 896040 h 895680"/>
              </a:gdLst>
              <a:ahLst/>
              <a:rect l="textAreaLeft" t="textAreaTop" r="textAreaRight" b="textAreaBottom"/>
              <a:pathLst>
                <a:path w="570" h="564">
                  <a:moveTo>
                    <a:pt x="160" y="108"/>
                  </a:moveTo>
                  <a:lnTo>
                    <a:pt x="112" y="108"/>
                  </a:lnTo>
                  <a:lnTo>
                    <a:pt x="128" y="34"/>
                  </a:lnTo>
                  <a:lnTo>
                    <a:pt x="128" y="34"/>
                  </a:lnTo>
                  <a:lnTo>
                    <a:pt x="168" y="28"/>
                  </a:lnTo>
                  <a:lnTo>
                    <a:pt x="204" y="20"/>
                  </a:lnTo>
                  <a:lnTo>
                    <a:pt x="236" y="10"/>
                  </a:lnTo>
                  <a:lnTo>
                    <a:pt x="266" y="0"/>
                  </a:lnTo>
                  <a:lnTo>
                    <a:pt x="300" y="0"/>
                  </a:lnTo>
                  <a:lnTo>
                    <a:pt x="284" y="72"/>
                  </a:lnTo>
                  <a:lnTo>
                    <a:pt x="284" y="72"/>
                  </a:lnTo>
                  <a:lnTo>
                    <a:pt x="308" y="48"/>
                  </a:lnTo>
                  <a:lnTo>
                    <a:pt x="330" y="30"/>
                  </a:lnTo>
                  <a:lnTo>
                    <a:pt x="330" y="30"/>
                  </a:lnTo>
                  <a:lnTo>
                    <a:pt x="352" y="18"/>
                  </a:lnTo>
                  <a:lnTo>
                    <a:pt x="376" y="8"/>
                  </a:lnTo>
                  <a:lnTo>
                    <a:pt x="376" y="8"/>
                  </a:lnTo>
                  <a:lnTo>
                    <a:pt x="402" y="2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50" y="0"/>
                  </a:lnTo>
                  <a:lnTo>
                    <a:pt x="468" y="4"/>
                  </a:lnTo>
                  <a:lnTo>
                    <a:pt x="486" y="10"/>
                  </a:lnTo>
                  <a:lnTo>
                    <a:pt x="502" y="18"/>
                  </a:lnTo>
                  <a:lnTo>
                    <a:pt x="502" y="18"/>
                  </a:lnTo>
                  <a:lnTo>
                    <a:pt x="516" y="28"/>
                  </a:lnTo>
                  <a:lnTo>
                    <a:pt x="530" y="40"/>
                  </a:lnTo>
                  <a:lnTo>
                    <a:pt x="542" y="54"/>
                  </a:lnTo>
                  <a:lnTo>
                    <a:pt x="552" y="72"/>
                  </a:lnTo>
                  <a:lnTo>
                    <a:pt x="552" y="72"/>
                  </a:lnTo>
                  <a:lnTo>
                    <a:pt x="560" y="90"/>
                  </a:lnTo>
                  <a:lnTo>
                    <a:pt x="564" y="110"/>
                  </a:lnTo>
                  <a:lnTo>
                    <a:pt x="568" y="130"/>
                  </a:lnTo>
                  <a:lnTo>
                    <a:pt x="570" y="152"/>
                  </a:lnTo>
                  <a:lnTo>
                    <a:pt x="570" y="152"/>
                  </a:lnTo>
                  <a:lnTo>
                    <a:pt x="568" y="184"/>
                  </a:lnTo>
                  <a:lnTo>
                    <a:pt x="560" y="216"/>
                  </a:lnTo>
                  <a:lnTo>
                    <a:pt x="550" y="246"/>
                  </a:lnTo>
                  <a:lnTo>
                    <a:pt x="534" y="276"/>
                  </a:lnTo>
                  <a:lnTo>
                    <a:pt x="534" y="276"/>
                  </a:lnTo>
                  <a:lnTo>
                    <a:pt x="516" y="306"/>
                  </a:lnTo>
                  <a:lnTo>
                    <a:pt x="496" y="330"/>
                  </a:lnTo>
                  <a:lnTo>
                    <a:pt x="472" y="352"/>
                  </a:lnTo>
                  <a:lnTo>
                    <a:pt x="446" y="370"/>
                  </a:lnTo>
                  <a:lnTo>
                    <a:pt x="446" y="370"/>
                  </a:lnTo>
                  <a:lnTo>
                    <a:pt x="418" y="384"/>
                  </a:lnTo>
                  <a:lnTo>
                    <a:pt x="388" y="394"/>
                  </a:lnTo>
                  <a:lnTo>
                    <a:pt x="358" y="400"/>
                  </a:lnTo>
                  <a:lnTo>
                    <a:pt x="328" y="402"/>
                  </a:lnTo>
                  <a:lnTo>
                    <a:pt x="328" y="402"/>
                  </a:lnTo>
                  <a:lnTo>
                    <a:pt x="300" y="400"/>
                  </a:lnTo>
                  <a:lnTo>
                    <a:pt x="274" y="394"/>
                  </a:lnTo>
                  <a:lnTo>
                    <a:pt x="274" y="394"/>
                  </a:lnTo>
                  <a:lnTo>
                    <a:pt x="248" y="384"/>
                  </a:lnTo>
                  <a:lnTo>
                    <a:pt x="222" y="368"/>
                  </a:lnTo>
                  <a:lnTo>
                    <a:pt x="204" y="452"/>
                  </a:lnTo>
                  <a:lnTo>
                    <a:pt x="204" y="452"/>
                  </a:lnTo>
                  <a:lnTo>
                    <a:pt x="200" y="472"/>
                  </a:lnTo>
                  <a:lnTo>
                    <a:pt x="200" y="472"/>
                  </a:lnTo>
                  <a:lnTo>
                    <a:pt x="200" y="478"/>
                  </a:lnTo>
                  <a:lnTo>
                    <a:pt x="202" y="482"/>
                  </a:lnTo>
                  <a:lnTo>
                    <a:pt x="206" y="484"/>
                  </a:lnTo>
                  <a:lnTo>
                    <a:pt x="210" y="486"/>
                  </a:lnTo>
                  <a:lnTo>
                    <a:pt x="210" y="486"/>
                  </a:lnTo>
                  <a:lnTo>
                    <a:pt x="220" y="490"/>
                  </a:lnTo>
                  <a:lnTo>
                    <a:pt x="240" y="490"/>
                  </a:lnTo>
                  <a:lnTo>
                    <a:pt x="258" y="490"/>
                  </a:lnTo>
                  <a:lnTo>
                    <a:pt x="240" y="564"/>
                  </a:lnTo>
                  <a:lnTo>
                    <a:pt x="0" y="564"/>
                  </a:lnTo>
                  <a:lnTo>
                    <a:pt x="16" y="490"/>
                  </a:lnTo>
                  <a:lnTo>
                    <a:pt x="28" y="490"/>
                  </a:lnTo>
                  <a:lnTo>
                    <a:pt x="28" y="490"/>
                  </a:lnTo>
                  <a:lnTo>
                    <a:pt x="48" y="490"/>
                  </a:lnTo>
                  <a:lnTo>
                    <a:pt x="60" y="486"/>
                  </a:lnTo>
                  <a:lnTo>
                    <a:pt x="60" y="486"/>
                  </a:lnTo>
                  <a:lnTo>
                    <a:pt x="68" y="482"/>
                  </a:lnTo>
                  <a:lnTo>
                    <a:pt x="74" y="476"/>
                  </a:lnTo>
                  <a:lnTo>
                    <a:pt x="74" y="476"/>
                  </a:lnTo>
                  <a:lnTo>
                    <a:pt x="78" y="464"/>
                  </a:lnTo>
                  <a:lnTo>
                    <a:pt x="84" y="444"/>
                  </a:lnTo>
                  <a:lnTo>
                    <a:pt x="160" y="108"/>
                  </a:lnTo>
                  <a:close/>
                  <a:moveTo>
                    <a:pt x="240" y="290"/>
                  </a:moveTo>
                  <a:lnTo>
                    <a:pt x="240" y="290"/>
                  </a:lnTo>
                  <a:lnTo>
                    <a:pt x="256" y="306"/>
                  </a:lnTo>
                  <a:lnTo>
                    <a:pt x="274" y="316"/>
                  </a:lnTo>
                  <a:lnTo>
                    <a:pt x="290" y="322"/>
                  </a:lnTo>
                  <a:lnTo>
                    <a:pt x="310" y="324"/>
                  </a:lnTo>
                  <a:lnTo>
                    <a:pt x="310" y="324"/>
                  </a:lnTo>
                  <a:lnTo>
                    <a:pt x="322" y="322"/>
                  </a:lnTo>
                  <a:lnTo>
                    <a:pt x="336" y="318"/>
                  </a:lnTo>
                  <a:lnTo>
                    <a:pt x="350" y="312"/>
                  </a:lnTo>
                  <a:lnTo>
                    <a:pt x="364" y="304"/>
                  </a:lnTo>
                  <a:lnTo>
                    <a:pt x="364" y="304"/>
                  </a:lnTo>
                  <a:lnTo>
                    <a:pt x="378" y="292"/>
                  </a:lnTo>
                  <a:lnTo>
                    <a:pt x="390" y="278"/>
                  </a:lnTo>
                  <a:lnTo>
                    <a:pt x="402" y="262"/>
                  </a:lnTo>
                  <a:lnTo>
                    <a:pt x="414" y="240"/>
                  </a:lnTo>
                  <a:lnTo>
                    <a:pt x="414" y="240"/>
                  </a:lnTo>
                  <a:lnTo>
                    <a:pt x="422" y="218"/>
                  </a:lnTo>
                  <a:lnTo>
                    <a:pt x="430" y="196"/>
                  </a:lnTo>
                  <a:lnTo>
                    <a:pt x="434" y="174"/>
                  </a:lnTo>
                  <a:lnTo>
                    <a:pt x="434" y="152"/>
                  </a:lnTo>
                  <a:lnTo>
                    <a:pt x="434" y="152"/>
                  </a:lnTo>
                  <a:lnTo>
                    <a:pt x="434" y="138"/>
                  </a:lnTo>
                  <a:lnTo>
                    <a:pt x="432" y="126"/>
                  </a:lnTo>
                  <a:lnTo>
                    <a:pt x="426" y="116"/>
                  </a:lnTo>
                  <a:lnTo>
                    <a:pt x="420" y="106"/>
                  </a:lnTo>
                  <a:lnTo>
                    <a:pt x="420" y="106"/>
                  </a:lnTo>
                  <a:lnTo>
                    <a:pt x="414" y="100"/>
                  </a:lnTo>
                  <a:lnTo>
                    <a:pt x="406" y="96"/>
                  </a:lnTo>
                  <a:lnTo>
                    <a:pt x="396" y="92"/>
                  </a:lnTo>
                  <a:lnTo>
                    <a:pt x="386" y="92"/>
                  </a:lnTo>
                  <a:lnTo>
                    <a:pt x="386" y="92"/>
                  </a:lnTo>
                  <a:lnTo>
                    <a:pt x="374" y="94"/>
                  </a:lnTo>
                  <a:lnTo>
                    <a:pt x="360" y="98"/>
                  </a:lnTo>
                  <a:lnTo>
                    <a:pt x="346" y="104"/>
                  </a:lnTo>
                  <a:lnTo>
                    <a:pt x="332" y="114"/>
                  </a:lnTo>
                  <a:lnTo>
                    <a:pt x="332" y="114"/>
                  </a:lnTo>
                  <a:lnTo>
                    <a:pt x="318" y="126"/>
                  </a:lnTo>
                  <a:lnTo>
                    <a:pt x="304" y="142"/>
                  </a:lnTo>
                  <a:lnTo>
                    <a:pt x="290" y="164"/>
                  </a:lnTo>
                  <a:lnTo>
                    <a:pt x="276" y="188"/>
                  </a:lnTo>
                  <a:lnTo>
                    <a:pt x="276" y="188"/>
                  </a:lnTo>
                  <a:lnTo>
                    <a:pt x="266" y="206"/>
                  </a:lnTo>
                  <a:lnTo>
                    <a:pt x="258" y="226"/>
                  </a:lnTo>
                  <a:lnTo>
                    <a:pt x="252" y="246"/>
                  </a:lnTo>
                  <a:lnTo>
                    <a:pt x="246" y="266"/>
                  </a:lnTo>
                  <a:lnTo>
                    <a:pt x="240" y="290"/>
                  </a:lnTo>
                  <a:close/>
                </a:path>
              </a:pathLst>
            </a:custGeom>
            <a:solidFill>
              <a:srgbClr val="a27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テキスト ボックス 59"/>
          <p:cNvSpPr/>
          <p:nvPr/>
        </p:nvSpPr>
        <p:spPr>
          <a:xfrm>
            <a:off x="33556680" y="7723080"/>
            <a:ext cx="3384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6100" spc="-1" strike="noStrike">
                <a:solidFill>
                  <a:srgbClr val="ff00ff"/>
                </a:solidFill>
                <a:latin typeface="ＭＳ ゴシック"/>
                <a:ea typeface="ＭＳ ゴシック"/>
              </a:rPr>
              <a:t>同時開催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60"/>
          <p:cNvSpPr/>
          <p:nvPr/>
        </p:nvSpPr>
        <p:spPr>
          <a:xfrm>
            <a:off x="32691240" y="874404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70c0"/>
                </a:solidFill>
                <a:latin typeface="ＭＳ ゴシック"/>
                <a:ea typeface="ＭＳ ゴシック"/>
              </a:rPr>
              <a:t>夏物サンダル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37083960" y="7594560"/>
            <a:ext cx="5689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0</a:t>
            </a:r>
            <a:r>
              <a:rPr b="0" lang="en-US" sz="9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%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7:51:00Z</dcterms:created>
  <dc:creator>seisaku</dc:creator>
  <dc:description/>
  <dc:language>en-US</dc:language>
  <cp:lastModifiedBy>ttec</cp:lastModifiedBy>
  <dcterms:modified xsi:type="dcterms:W3CDTF">2012-05-31T03:26:57Z</dcterms:modified>
  <cp:revision>3</cp:revision>
  <dc:subject/>
  <dc:title>スライド 1</dc:title>
</cp:coreProperties>
</file>